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D21-9A6C-4843-8CD9-C6B6BD11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B0A0-0D38-4203-ACB5-5F7CB76C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9B9CF-B7BF-4611-B86F-56DB92CE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0E672-D209-4646-BD86-825BAB06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6409B-38D5-4A42-837B-56A1052C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93046-DFF0-4DB1-9D1C-81EC20CB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B1B11-2652-424E-952C-6F5F4715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13CD8-FCF6-4BED-958C-AC47DF70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65EE9-030E-415D-B54C-C2894D96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688E4-5E78-43A5-8493-8F3922B9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5F535-8025-4E79-8C49-D2267A94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FD953-2AE4-421A-A68B-72664679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0CC-B550-4E58-A510-93B6DD27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3F84F-D4D2-4AB8-B6A7-A8894571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E2945-17DC-4C69-BC78-E506180D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C90D4-33AB-4380-AEC7-4E46AE43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5511C-0594-4F1D-9163-FCECC4CB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F949D-42F0-4541-B85C-4FD5079C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17222-3198-4C20-8689-DAD9AF94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6DC2D-DBD3-44CA-AC25-F11B57E7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6D95F-13E5-4731-B990-CE9A4F3D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59062-9D62-4A8E-B0C5-3A6CDB21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AFDD8-E026-440D-8812-510AE4A8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17B-1565-43EB-BE6C-5937742E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7C036-DE3B-4F91-8C4F-84A62633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EEA93-0EAF-4FDF-9291-CC2FF183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AD8A0-C790-46A7-89D6-F6FBC4B3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1FAC2-A6BD-425B-9EDF-05E80E36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19530-ABF5-4C02-9513-AABE6B86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2A083-5180-4D67-A33C-841E67ED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80144-3EFF-4126-BEBC-C9FE03FB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8D7A4-DB82-4390-83AF-9C7A2D25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9467B-CF5D-4485-84A0-36C01AB1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E6B38-58F5-4501-AAE7-698E6DCA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8E938-5364-4109-BDED-68CF02E6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B839F-2F85-4580-804D-CDA2A282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D43B2-8FA2-47CA-98FF-4D6DFD96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61AD9-AFFF-4836-8444-058C7911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E9D0A-0484-4DCD-AF2C-0CDBAE21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2220E-D022-4A4C-B3F3-AEDFBC2E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114E8-3C39-461C-814D-8D61D7EA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495AD-BED9-4301-931C-B2EB9BC7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9661D-B611-4382-B4BF-69DCA188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96D83-2822-40FB-AE2B-B820E04B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BD3D6-8589-41D6-A471-A69E3236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9F828-17B3-4B77-B37D-0B4F575A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2DAFC-75E5-48C7-A58E-E8AAE56C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D3508-1E1B-4432-B960-FA4F253C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048E6-2CF7-44F4-A314-07E6D99B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C861B-B616-49E6-BF96-CA2E6B02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91135-EA33-4FA0-892A-5BBFA365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B81FC-E72A-40A7-80E3-BA9CA665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04CDB-FFF4-4FA4-A644-D25CB6C4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711CF-A88B-4677-BA67-635615C9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C5EEE-1EB2-45E7-8C08-FFA9CD9D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658FE-2EB2-4ADE-B9EB-1DC81B99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25673-E940-48C5-886F-89CF610A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9AA1A-8BB3-4D5C-9B16-9A33CF9F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3EB01-F2BB-4C2D-9ED3-7C9E42E3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028D6-B4D8-4B18-8969-3AD06AD5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60663-1C85-4A51-96BF-F8ABF8AA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660BE-AD5D-4BE6-915C-7C4ADAE0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18CA2E-1D43-4780-B0F2-997B5F54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00124-770A-4337-912A-6B4B61E5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BCB498-E01D-410B-9F53-B781FC8B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68C19-AC9E-4942-878F-10E00F45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CB61C-8ED6-4CD3-B7DF-68CA8176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DD751-D355-4C46-BE1C-AB3B1509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840F1-DC7E-412D-BCB9-4037897A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0BB31-B1F4-46B6-812D-13020981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6A6C4-7EF8-4689-97B3-D2F8BD28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1D5644-FCD1-438C-8C68-73628260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CE25CA-7F14-4832-A978-DE2E92F4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E597-30FB-4727-A0EB-B58D2646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2FE13-4B4B-4E24-8D19-15477F95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8FCDF-CD1C-4D4B-A1F2-3FAF4B73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420E0-9F00-428B-83F6-488DE205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F8A51-55F6-425A-B86F-7072B172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059F7-ABD3-43E3-89FA-C48D19A2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8A0D-0425-4630-9F7D-7B1F17D9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E206C8-8F8D-4E7A-907B-FC4D0B7C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73BA5-FB2C-46FB-B636-BB542E54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10133-45FD-4002-90F9-1EEAFFB4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8805C-2835-4E64-9877-C67F075D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82661-3F22-4480-924A-82909AB2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BFA16-A8B5-487A-A657-21A8970B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387AD-8971-443C-AA12-8D64BAA8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BB1-2328-4128-B233-4B56687C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9B6-7A63-46E4-A37D-BD22D160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688-13F8-4ED4-B9C3-EB77827F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7F5B4-A118-4FF5-813C-71B6364D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90FC4-1D4A-4593-BEEA-81609E66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65C61-D67A-45A5-91CF-151D6E9A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E203A-99FD-4E87-9851-7D2102CA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E65CA-B378-41B1-A426-FC735D07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9BA84-090B-4B87-84C8-C7373E7F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9C5D0-7A09-4404-8999-F5739DA2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FDFB5-FC37-4D86-93E0-B3F172BD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339E2-5B9E-4F5D-8F51-944D26F2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23E4-0AEB-4C7F-B16A-CE6E7998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52E1F-D5EA-4730-850C-E21227E4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E2FBE-E517-45D5-A513-0E5FB5BE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2CFEB-BE44-47E6-8272-6C6B2C73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800E6-D5BF-4128-9B13-A6A75883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DCD9B-2BAC-44F8-887B-B2B6AAE9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19F24-ECE4-40F2-B339-6A5B40AD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9037E-23C6-49E0-88BF-A658B984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B47A3-BE7F-4C13-A820-5B337F0D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542FA-2F6D-4E37-92BE-ACFC2BF3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BF22F-76F4-4E89-A38C-CB695B5B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893-B668-4D4C-A3FF-440AC664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267F4-25A7-41A8-B40C-96865A1F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A0DAD-7B1E-43A1-B55D-588BA6A4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81EEF-3169-4017-AC92-4B990B77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7F7E0-4D54-4A50-AC01-7A14F75A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A9D55-1AC2-43C9-AC97-53551C56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8CB91-C157-435B-95B5-B16FDAC6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5A1E0-42DA-42E5-85C7-ECB20BED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D62EE-7CBB-4E26-998D-FCADECB6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2999D-7D67-4AF9-B576-DE3AC7F1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B1D02-C3AE-40BC-A283-BBBF9018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3993-722F-4BC1-856B-AB151C0E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283F3-1CD9-48B3-A287-A33F5160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C19FA-BDAC-4F38-8E41-34FC8C06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D50B0-1968-4772-99C1-9CD9495B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B5A04-4808-4B84-9AEA-A052C26C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715E0-4DF3-4950-B34F-737BAEE9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85A80-AC8F-4872-B7CE-5C487BF3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28296-A5A8-4061-BA18-0F94D937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EDFF0-175A-4BF7-AB70-914923E1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DB5C5-A329-42E1-8B71-ECDF513D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B53C4-8C68-4F63-88E2-56AC70E6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2E79-D840-4127-9F5B-A3FF946095DE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11"/>
          <p:cNvGrpSpPr/>
          <p:nvPr/>
        </p:nvGrpSpPr>
        <p:grpSpPr>
          <a:xfrm>
            <a:off x="228600" y="228240"/>
            <a:ext cx="4251240" cy="6388200"/>
            <a:chOff x="228600" y="228240"/>
            <a:chExt cx="4251240" cy="6388200"/>
          </a:xfrm>
        </p:grpSpPr>
        <p:sp>
          <p:nvSpPr>
            <p:cNvPr id="391" name="Snip Diagonal Corner Rectangle 7"/>
            <p:cNvSpPr/>
            <p:nvPr/>
          </p:nvSpPr>
          <p:spPr>
            <a:xfrm flipV="1">
              <a:off x="228600" y="227520"/>
              <a:ext cx="4251240" cy="6388200"/>
            </a:xfrm>
            <a:custGeom>
              <a:avLst/>
              <a:gdLst/>
              <a:ahLst/>
              <a:rect l="l" t="t" r="r" b="b"/>
              <a:pathLst>
                <a:path w="4251960" h="6387352">
                  <a:moveTo>
                    <a:pt x="0" y="0"/>
                  </a:moveTo>
                  <a:lnTo>
                    <a:pt x="4090641" y="0"/>
                  </a:lnTo>
                  <a:lnTo>
                    <a:pt x="4251960" y="161319"/>
                  </a:lnTo>
                  <a:lnTo>
                    <a:pt x="4251960" y="6387352"/>
                  </a:lnTo>
                  <a:lnTo>
                    <a:pt x="4251960" y="6387352"/>
                  </a:lnTo>
                  <a:lnTo>
                    <a:pt x="161319" y="6387352"/>
                  </a:lnTo>
                  <a:lnTo>
                    <a:pt x="0" y="62260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6363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3154"/>
                </a:solidFill>
                <a:latin typeface="Arial"/>
              </a:endParaRPr>
            </a:p>
          </p:txBody>
        </p:sp>
        <p:sp>
          <p:nvSpPr>
            <p:cNvPr id="392" name="Teardrop 8"/>
            <p:cNvSpPr/>
            <p:nvPr/>
          </p:nvSpPr>
          <p:spPr>
            <a:xfrm>
              <a:off x="3885840" y="432360"/>
              <a:ext cx="354960" cy="354960"/>
            </a:xfrm>
            <a:custGeom>
              <a:avLst/>
              <a:gdLst/>
              <a:ahLst/>
              <a:rect l="l" t="t" r="r" b="b"/>
              <a:pathLst>
                <a:path w="355002" h="355002">
                  <a:moveTo>
                    <a:pt x="0" y="177501"/>
                  </a:moveTo>
                  <a:cubicBezTo>
                    <a:pt x="0" y="79470"/>
                    <a:pt x="79470" y="0"/>
                    <a:pt x="177501" y="0"/>
                  </a:cubicBezTo>
                  <a:lnTo>
                    <a:pt x="355002" y="0"/>
                  </a:lnTo>
                  <a:lnTo>
                    <a:pt x="355002" y="177501"/>
                  </a:lnTo>
                  <a:cubicBezTo>
                    <a:pt x="355002" y="275532"/>
                    <a:pt x="275532" y="355002"/>
                    <a:pt x="177501" y="355002"/>
                  </a:cubicBezTo>
                  <a:cubicBezTo>
                    <a:pt x="79470" y="355002"/>
                    <a:pt x="0" y="275532"/>
                    <a:pt x="0" y="177501"/>
                  </a:cubicBezTo>
                  <a:close/>
                </a:path>
              </a:pathLst>
            </a:cu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3154"/>
                </a:solidFill>
                <a:latin typeface="Arial"/>
              </a:endParaRPr>
            </a:p>
          </p:txBody>
        </p:sp>
      </p:grpSp>
      <p:sp>
        <p:nvSpPr>
          <p:cNvPr id="393" name="Snip Diagonal Corner Rectangle 9"/>
          <p:cNvSpPr/>
          <p:nvPr/>
        </p:nvSpPr>
        <p:spPr>
          <a:xfrm flipV="1">
            <a:off x="4648320" y="227520"/>
            <a:ext cx="4251240" cy="6388200"/>
          </a:xfrm>
          <a:custGeom>
            <a:avLst/>
            <a:gdLst/>
            <a:ahLst/>
            <a:rect l="l" t="t" r="r" b="b"/>
            <a:pathLst>
              <a:path w="4251960" h="6387352">
                <a:moveTo>
                  <a:pt x="0" y="0"/>
                </a:moveTo>
                <a:lnTo>
                  <a:pt x="4090641" y="0"/>
                </a:lnTo>
                <a:lnTo>
                  <a:pt x="4251960" y="161319"/>
                </a:lnTo>
                <a:lnTo>
                  <a:pt x="4251960" y="6387352"/>
                </a:lnTo>
                <a:lnTo>
                  <a:pt x="4251960" y="6387352"/>
                </a:lnTo>
                <a:lnTo>
                  <a:pt x="161319" y="6387352"/>
                </a:lnTo>
                <a:lnTo>
                  <a:pt x="0" y="622603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762120" y="6297120"/>
            <a:ext cx="1295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2057400" y="6297120"/>
            <a:ext cx="234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304920" y="6297120"/>
            <a:ext cx="444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4811-15EA-4788-A7E9-89660EF172AE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10"/>
          <p:cNvGrpSpPr/>
          <p:nvPr/>
        </p:nvGrpSpPr>
        <p:grpSpPr>
          <a:xfrm>
            <a:off x="228600" y="228240"/>
            <a:ext cx="4251240" cy="6388200"/>
            <a:chOff x="228600" y="228240"/>
            <a:chExt cx="4251240" cy="6388200"/>
          </a:xfrm>
        </p:grpSpPr>
        <p:sp>
          <p:nvSpPr>
            <p:cNvPr id="436" name="Snip Diagonal Corner Rectangle 7"/>
            <p:cNvSpPr/>
            <p:nvPr/>
          </p:nvSpPr>
          <p:spPr>
            <a:xfrm flipV="1">
              <a:off x="228600" y="227520"/>
              <a:ext cx="4251240" cy="6388200"/>
            </a:xfrm>
            <a:custGeom>
              <a:avLst/>
              <a:gdLst/>
              <a:ahLst/>
              <a:rect l="l" t="t" r="r" b="b"/>
              <a:pathLst>
                <a:path w="4251960" h="6387352">
                  <a:moveTo>
                    <a:pt x="0" y="0"/>
                  </a:moveTo>
                  <a:lnTo>
                    <a:pt x="4090641" y="0"/>
                  </a:lnTo>
                  <a:lnTo>
                    <a:pt x="4251960" y="161319"/>
                  </a:lnTo>
                  <a:lnTo>
                    <a:pt x="4251960" y="6387352"/>
                  </a:lnTo>
                  <a:lnTo>
                    <a:pt x="4251960" y="6387352"/>
                  </a:lnTo>
                  <a:lnTo>
                    <a:pt x="161319" y="6387352"/>
                  </a:lnTo>
                  <a:lnTo>
                    <a:pt x="0" y="62260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6363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3154"/>
                </a:solidFill>
                <a:latin typeface="Arial"/>
              </a:endParaRPr>
            </a:p>
          </p:txBody>
        </p:sp>
        <p:sp>
          <p:nvSpPr>
            <p:cNvPr id="437" name="Teardrop 8"/>
            <p:cNvSpPr/>
            <p:nvPr/>
          </p:nvSpPr>
          <p:spPr>
            <a:xfrm>
              <a:off x="3885840" y="432360"/>
              <a:ext cx="354960" cy="354960"/>
            </a:xfrm>
            <a:custGeom>
              <a:avLst/>
              <a:gdLst/>
              <a:ahLst/>
              <a:rect l="l" t="t" r="r" b="b"/>
              <a:pathLst>
                <a:path w="355002" h="355002">
                  <a:moveTo>
                    <a:pt x="0" y="177501"/>
                  </a:moveTo>
                  <a:cubicBezTo>
                    <a:pt x="0" y="79470"/>
                    <a:pt x="79470" y="0"/>
                    <a:pt x="177501" y="0"/>
                  </a:cubicBezTo>
                  <a:lnTo>
                    <a:pt x="355002" y="0"/>
                  </a:lnTo>
                  <a:lnTo>
                    <a:pt x="355002" y="177501"/>
                  </a:lnTo>
                  <a:cubicBezTo>
                    <a:pt x="355002" y="275532"/>
                    <a:pt x="275532" y="355002"/>
                    <a:pt x="177501" y="355002"/>
                  </a:cubicBezTo>
                  <a:cubicBezTo>
                    <a:pt x="79470" y="355002"/>
                    <a:pt x="0" y="275532"/>
                    <a:pt x="0" y="177501"/>
                  </a:cubicBezTo>
                  <a:close/>
                </a:path>
              </a:pathLst>
            </a:cu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3154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758520" y="6300720"/>
            <a:ext cx="1298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2057400" y="6300720"/>
            <a:ext cx="234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01320" y="6300720"/>
            <a:ext cx="44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D872-D0BE-4DA4-8AC8-C1844E418096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nip Diagonal Corner Rectangle 6"/>
          <p:cNvSpPr/>
          <p:nvPr/>
        </p:nvSpPr>
        <p:spPr>
          <a:xfrm flipV="1">
            <a:off x="228600" y="4647960"/>
            <a:ext cx="8686800" cy="1963440"/>
          </a:xfrm>
          <a:custGeom>
            <a:avLst/>
            <a:gdLst/>
            <a:ahLst/>
            <a:rect l="l" t="t" r="r" b="b"/>
            <a:pathLst>
              <a:path w="8686800" h="1963271">
                <a:moveTo>
                  <a:pt x="0" y="0"/>
                </a:moveTo>
                <a:lnTo>
                  <a:pt x="8502783" y="0"/>
                </a:lnTo>
                <a:lnTo>
                  <a:pt x="8686800" y="184017"/>
                </a:lnTo>
                <a:lnTo>
                  <a:pt x="8686800" y="1963271"/>
                </a:lnTo>
                <a:lnTo>
                  <a:pt x="8686800" y="1963271"/>
                </a:lnTo>
                <a:lnTo>
                  <a:pt x="184017" y="1963271"/>
                </a:lnTo>
                <a:lnTo>
                  <a:pt x="0" y="17792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2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3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AEB6-9E6C-4AD3-8F79-5B9FD98B279E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nip Diagonal Corner Rectangle 6"/>
          <p:cNvSpPr/>
          <p:nvPr/>
        </p:nvSpPr>
        <p:spPr>
          <a:xfrm flipV="1">
            <a:off x="228600" y="1707120"/>
            <a:ext cx="8686800" cy="4908600"/>
          </a:xfrm>
          <a:custGeom>
            <a:avLst/>
            <a:gdLst/>
            <a:ahLst/>
            <a:rect l="l" t="t" r="r" b="b"/>
            <a:pathLst>
              <a:path w="8686800" h="4908176">
                <a:moveTo>
                  <a:pt x="0" y="0"/>
                </a:moveTo>
                <a:lnTo>
                  <a:pt x="8490326" y="0"/>
                </a:lnTo>
                <a:lnTo>
                  <a:pt x="8686800" y="196474"/>
                </a:lnTo>
                <a:lnTo>
                  <a:pt x="8686800" y="4908176"/>
                </a:lnTo>
                <a:lnTo>
                  <a:pt x="8686800" y="4908176"/>
                </a:lnTo>
                <a:lnTo>
                  <a:pt x="196474" y="4908176"/>
                </a:lnTo>
                <a:lnTo>
                  <a:pt x="0" y="471170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522" name="Snip Diagonal Corner Rectangle 7"/>
          <p:cNvSpPr/>
          <p:nvPr/>
        </p:nvSpPr>
        <p:spPr>
          <a:xfrm flipV="1">
            <a:off x="228600" y="228240"/>
            <a:ext cx="8686800" cy="1278000"/>
          </a:xfrm>
          <a:custGeom>
            <a:avLst/>
            <a:gdLst/>
            <a:ahLst/>
            <a:rect l="l" t="t" r="r" b="b"/>
            <a:pathLst>
              <a:path w="8686800" h="1277473">
                <a:moveTo>
                  <a:pt x="0" y="0"/>
                </a:moveTo>
                <a:lnTo>
                  <a:pt x="8537668" y="0"/>
                </a:lnTo>
                <a:lnTo>
                  <a:pt x="8686800" y="149132"/>
                </a:lnTo>
                <a:lnTo>
                  <a:pt x="8686800" y="1277473"/>
                </a:lnTo>
                <a:lnTo>
                  <a:pt x="8686800" y="1277473"/>
                </a:lnTo>
                <a:lnTo>
                  <a:pt x="149132" y="1277473"/>
                </a:lnTo>
                <a:lnTo>
                  <a:pt x="0" y="112834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1C1D-2183-4455-841A-3155AB79CFC1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nip Diagonal Corner Rectangle 6"/>
          <p:cNvSpPr/>
          <p:nvPr/>
        </p:nvSpPr>
        <p:spPr>
          <a:xfrm flipV="1">
            <a:off x="228600" y="227520"/>
            <a:ext cx="8686800" cy="6388200"/>
          </a:xfrm>
          <a:custGeom>
            <a:avLst/>
            <a:gdLst/>
            <a:ahLst/>
            <a:rect l="l" t="t" r="r" b="b"/>
            <a:pathLst>
              <a:path w="8686800" h="6387352">
                <a:moveTo>
                  <a:pt x="0" y="0"/>
                </a:moveTo>
                <a:lnTo>
                  <a:pt x="8525264" y="0"/>
                </a:lnTo>
                <a:lnTo>
                  <a:pt x="8686800" y="161536"/>
                </a:lnTo>
                <a:lnTo>
                  <a:pt x="8686800" y="6387352"/>
                </a:lnTo>
                <a:lnTo>
                  <a:pt x="8686800" y="6387352"/>
                </a:lnTo>
                <a:lnTo>
                  <a:pt x="161536" y="6387352"/>
                </a:lnTo>
                <a:lnTo>
                  <a:pt x="0" y="622581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8B1C-7292-494B-A786-C9898F8871F9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"/>
          <p:cNvGrpSpPr/>
          <p:nvPr/>
        </p:nvGrpSpPr>
        <p:grpSpPr>
          <a:xfrm>
            <a:off x="0" y="3379680"/>
            <a:ext cx="7543800" cy="2603160"/>
            <a:chOff x="0" y="3379680"/>
            <a:chExt cx="7543800" cy="2603160"/>
          </a:xfrm>
        </p:grpSpPr>
        <p:grpSp>
          <p:nvGrpSpPr>
            <p:cNvPr id="42" name="Group 11"/>
            <p:cNvGrpSpPr/>
            <p:nvPr/>
          </p:nvGrpSpPr>
          <p:grpSpPr>
            <a:xfrm>
              <a:off x="0" y="3379680"/>
              <a:ext cx="7543800" cy="2603160"/>
              <a:chOff x="0" y="3379680"/>
              <a:chExt cx="7543800" cy="2603160"/>
            </a:xfrm>
          </p:grpSpPr>
          <p:sp>
            <p:nvSpPr>
              <p:cNvPr id="43" name="Snip Single Corner Rectangle 9"/>
              <p:cNvSpPr/>
              <p:nvPr/>
            </p:nvSpPr>
            <p:spPr>
              <a:xfrm flipV="1">
                <a:off x="0" y="3391920"/>
                <a:ext cx="7543800" cy="2590200"/>
              </a:xfrm>
              <a:custGeom>
                <a:avLst/>
                <a:gdLst/>
                <a:ahLst/>
                <a:rect l="l" t="t" r="r" b="b"/>
                <a:pathLst>
                  <a:path w="7543800" h="2590800">
                    <a:moveTo>
                      <a:pt x="0" y="0"/>
                    </a:moveTo>
                    <a:lnTo>
                      <a:pt x="7352625" y="0"/>
                    </a:lnTo>
                    <a:lnTo>
                      <a:pt x="7543800" y="191175"/>
                    </a:lnTo>
                    <a:lnTo>
                      <a:pt x="7543800" y="2590800"/>
                    </a:lnTo>
                    <a:lnTo>
                      <a:pt x="0" y="25908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6363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03154"/>
                  </a:solidFill>
                  <a:latin typeface="Arial"/>
                </a:endParaRPr>
              </a:p>
            </p:txBody>
          </p:sp>
          <p:sp>
            <p:nvSpPr>
              <p:cNvPr id="44" name="Straight Connector 10"/>
              <p:cNvSpPr/>
              <p:nvPr/>
            </p:nvSpPr>
            <p:spPr>
              <a:xfrm>
                <a:off x="0" y="3379680"/>
                <a:ext cx="7543800" cy="2160"/>
              </a:xfrm>
              <a:prstGeom prst="line">
                <a:avLst/>
              </a:prstGeom>
              <a:ln w="28440">
                <a:solidFill>
                  <a:srgbClr val="ff7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103154"/>
                  </a:solidFill>
                  <a:latin typeface="Arial"/>
                </a:endParaRPr>
              </a:p>
            </p:txBody>
          </p:sp>
        </p:grpSp>
        <p:sp>
          <p:nvSpPr>
            <p:cNvPr id="45" name="Teardrop 8"/>
            <p:cNvSpPr/>
            <p:nvPr/>
          </p:nvSpPr>
          <p:spPr>
            <a:xfrm>
              <a:off x="6817680" y="3621600"/>
              <a:ext cx="394200" cy="394200"/>
            </a:xfrm>
            <a:custGeom>
              <a:avLst/>
              <a:gdLst/>
              <a:ahLst/>
              <a:rect l="l" t="t" r="r" b="b"/>
              <a:pathLst>
                <a:path w="394447" h="394447">
                  <a:moveTo>
                    <a:pt x="0" y="197224"/>
                  </a:moveTo>
                  <a:cubicBezTo>
                    <a:pt x="0" y="88300"/>
                    <a:pt x="88300" y="0"/>
                    <a:pt x="197224" y="0"/>
                  </a:cubicBezTo>
                  <a:lnTo>
                    <a:pt x="394447" y="0"/>
                  </a:lnTo>
                  <a:lnTo>
                    <a:pt x="394447" y="197224"/>
                  </a:lnTo>
                  <a:cubicBezTo>
                    <a:pt x="394447" y="306148"/>
                    <a:pt x="306147" y="394448"/>
                    <a:pt x="197223" y="394448"/>
                  </a:cubicBezTo>
                  <a:cubicBezTo>
                    <a:pt x="88299" y="394448"/>
                    <a:pt x="-1" y="306148"/>
                    <a:pt x="-1" y="197224"/>
                  </a:cubicBezTo>
                  <a:lnTo>
                    <a:pt x="0" y="197224"/>
                  </a:lnTo>
                  <a:close/>
                </a:path>
              </a:pathLst>
            </a:cu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3154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6200000">
            <a:off x="-7333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4AAB-583C-43D3-B4E3-E3A68E2378E4}" type="datetime">
              <a:rPr b="1" lang="en-US" sz="14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 rot="16200000">
            <a:off x="-3571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nip Diagonal Corner Rectangle 6"/>
          <p:cNvSpPr/>
          <p:nvPr/>
        </p:nvSpPr>
        <p:spPr>
          <a:xfrm flipV="1">
            <a:off x="228600" y="1707120"/>
            <a:ext cx="8686800" cy="4908600"/>
          </a:xfrm>
          <a:custGeom>
            <a:avLst/>
            <a:gdLst/>
            <a:ahLst/>
            <a:rect l="l" t="t" r="r" b="b"/>
            <a:pathLst>
              <a:path w="8686800" h="4908176">
                <a:moveTo>
                  <a:pt x="0" y="0"/>
                </a:moveTo>
                <a:lnTo>
                  <a:pt x="8490326" y="0"/>
                </a:lnTo>
                <a:lnTo>
                  <a:pt x="8686800" y="196474"/>
                </a:lnTo>
                <a:lnTo>
                  <a:pt x="8686800" y="4908176"/>
                </a:lnTo>
                <a:lnTo>
                  <a:pt x="8686800" y="4908176"/>
                </a:lnTo>
                <a:lnTo>
                  <a:pt x="196474" y="4908176"/>
                </a:lnTo>
                <a:lnTo>
                  <a:pt x="0" y="471170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87" name="Snip Diagonal Corner Rectangle 7"/>
          <p:cNvSpPr/>
          <p:nvPr/>
        </p:nvSpPr>
        <p:spPr>
          <a:xfrm flipV="1">
            <a:off x="228600" y="228240"/>
            <a:ext cx="8686800" cy="1278000"/>
          </a:xfrm>
          <a:custGeom>
            <a:avLst/>
            <a:gdLst/>
            <a:ahLst/>
            <a:rect l="l" t="t" r="r" b="b"/>
            <a:pathLst>
              <a:path w="8686800" h="1277473">
                <a:moveTo>
                  <a:pt x="0" y="0"/>
                </a:moveTo>
                <a:lnTo>
                  <a:pt x="8537668" y="0"/>
                </a:lnTo>
                <a:lnTo>
                  <a:pt x="8686800" y="149132"/>
                </a:lnTo>
                <a:lnTo>
                  <a:pt x="8686800" y="1277473"/>
                </a:lnTo>
                <a:lnTo>
                  <a:pt x="8686800" y="1277473"/>
                </a:lnTo>
                <a:lnTo>
                  <a:pt x="149132" y="1277473"/>
                </a:lnTo>
                <a:lnTo>
                  <a:pt x="0" y="112834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6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7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8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06E8-65E4-4E01-ABC2-B8190E83490F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4"/>
          <p:cNvGrpSpPr/>
          <p:nvPr/>
        </p:nvGrpSpPr>
        <p:grpSpPr>
          <a:xfrm>
            <a:off x="0" y="3379680"/>
            <a:ext cx="7543800" cy="2603160"/>
            <a:chOff x="0" y="3379680"/>
            <a:chExt cx="7543800" cy="2603160"/>
          </a:xfrm>
        </p:grpSpPr>
        <p:grpSp>
          <p:nvGrpSpPr>
            <p:cNvPr id="130" name="Group 11"/>
            <p:cNvGrpSpPr/>
            <p:nvPr/>
          </p:nvGrpSpPr>
          <p:grpSpPr>
            <a:xfrm>
              <a:off x="0" y="3379680"/>
              <a:ext cx="7543800" cy="2603160"/>
              <a:chOff x="0" y="3379680"/>
              <a:chExt cx="7543800" cy="2603160"/>
            </a:xfrm>
          </p:grpSpPr>
          <p:sp>
            <p:nvSpPr>
              <p:cNvPr id="131" name="Snip Single Corner Rectangle 9"/>
              <p:cNvSpPr/>
              <p:nvPr/>
            </p:nvSpPr>
            <p:spPr>
              <a:xfrm flipV="1">
                <a:off x="0" y="3391920"/>
                <a:ext cx="7543800" cy="2590200"/>
              </a:xfrm>
              <a:custGeom>
                <a:avLst/>
                <a:gdLst/>
                <a:ahLst/>
                <a:rect l="l" t="t" r="r" b="b"/>
                <a:pathLst>
                  <a:path w="7543800" h="2590800">
                    <a:moveTo>
                      <a:pt x="0" y="0"/>
                    </a:moveTo>
                    <a:lnTo>
                      <a:pt x="7352625" y="0"/>
                    </a:lnTo>
                    <a:lnTo>
                      <a:pt x="7543800" y="191175"/>
                    </a:lnTo>
                    <a:lnTo>
                      <a:pt x="7543800" y="2590800"/>
                    </a:lnTo>
                    <a:lnTo>
                      <a:pt x="0" y="25908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6363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03154"/>
                  </a:solidFill>
                  <a:latin typeface="Arial"/>
                </a:endParaRPr>
              </a:p>
            </p:txBody>
          </p:sp>
          <p:sp>
            <p:nvSpPr>
              <p:cNvPr id="132" name="Straight Connector 10"/>
              <p:cNvSpPr/>
              <p:nvPr/>
            </p:nvSpPr>
            <p:spPr>
              <a:xfrm>
                <a:off x="0" y="3379680"/>
                <a:ext cx="7543800" cy="2160"/>
              </a:xfrm>
              <a:prstGeom prst="line">
                <a:avLst/>
              </a:prstGeom>
              <a:ln w="28440">
                <a:solidFill>
                  <a:srgbClr val="ff7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103154"/>
                  </a:solidFill>
                  <a:latin typeface="Arial"/>
                </a:endParaRPr>
              </a:p>
            </p:txBody>
          </p:sp>
        </p:grpSp>
        <p:sp>
          <p:nvSpPr>
            <p:cNvPr id="133" name="Teardrop 8"/>
            <p:cNvSpPr/>
            <p:nvPr/>
          </p:nvSpPr>
          <p:spPr>
            <a:xfrm>
              <a:off x="6817680" y="3621600"/>
              <a:ext cx="394200" cy="394200"/>
            </a:xfrm>
            <a:custGeom>
              <a:avLst/>
              <a:gdLst/>
              <a:ahLst/>
              <a:rect l="l" t="t" r="r" b="b"/>
              <a:pathLst>
                <a:path w="394447" h="394447">
                  <a:moveTo>
                    <a:pt x="0" y="197224"/>
                  </a:moveTo>
                  <a:cubicBezTo>
                    <a:pt x="0" y="88300"/>
                    <a:pt x="88300" y="0"/>
                    <a:pt x="197224" y="0"/>
                  </a:cubicBezTo>
                  <a:lnTo>
                    <a:pt x="394447" y="0"/>
                  </a:lnTo>
                  <a:lnTo>
                    <a:pt x="394447" y="197224"/>
                  </a:lnTo>
                  <a:cubicBezTo>
                    <a:pt x="394447" y="306148"/>
                    <a:pt x="306147" y="394448"/>
                    <a:pt x="197223" y="394448"/>
                  </a:cubicBezTo>
                  <a:cubicBezTo>
                    <a:pt x="88299" y="394448"/>
                    <a:pt x="-1" y="306148"/>
                    <a:pt x="-1" y="197224"/>
                  </a:cubicBezTo>
                  <a:lnTo>
                    <a:pt x="0" y="197224"/>
                  </a:lnTo>
                  <a:close/>
                </a:path>
              </a:pathLst>
            </a:cu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3154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 rot="16200000">
            <a:off x="-7333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 rot="16200000">
            <a:off x="-3571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6"/>
          <p:cNvGrpSpPr/>
          <p:nvPr/>
        </p:nvGrpSpPr>
        <p:grpSpPr>
          <a:xfrm>
            <a:off x="1599840" y="2127240"/>
            <a:ext cx="7543800" cy="2603160"/>
            <a:chOff x="1599840" y="2127240"/>
            <a:chExt cx="7543800" cy="2603160"/>
          </a:xfrm>
        </p:grpSpPr>
        <p:grpSp>
          <p:nvGrpSpPr>
            <p:cNvPr id="175" name="Group 11"/>
            <p:cNvGrpSpPr/>
            <p:nvPr/>
          </p:nvGrpSpPr>
          <p:grpSpPr>
            <a:xfrm>
              <a:off x="1599840" y="2127240"/>
              <a:ext cx="7543800" cy="2603160"/>
              <a:chOff x="1599840" y="2127240"/>
              <a:chExt cx="7543800" cy="2603160"/>
            </a:xfrm>
          </p:grpSpPr>
          <p:sp>
            <p:nvSpPr>
              <p:cNvPr id="176" name="Snip Single Corner Rectangle 9"/>
              <p:cNvSpPr/>
              <p:nvPr/>
            </p:nvSpPr>
            <p:spPr>
              <a:xfrm flipH="1" flipV="1">
                <a:off x="1599480" y="2139840"/>
                <a:ext cx="7543800" cy="2590200"/>
              </a:xfrm>
              <a:custGeom>
                <a:avLst/>
                <a:gdLst/>
                <a:ahLst/>
                <a:rect l="l" t="t" r="r" b="b"/>
                <a:pathLst>
                  <a:path w="7543800" h="2590800">
                    <a:moveTo>
                      <a:pt x="0" y="0"/>
                    </a:moveTo>
                    <a:lnTo>
                      <a:pt x="7352625" y="0"/>
                    </a:lnTo>
                    <a:lnTo>
                      <a:pt x="7543800" y="191175"/>
                    </a:lnTo>
                    <a:lnTo>
                      <a:pt x="7543800" y="2590800"/>
                    </a:lnTo>
                    <a:lnTo>
                      <a:pt x="0" y="25908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6363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03154"/>
                  </a:solidFill>
                  <a:latin typeface="Arial"/>
                </a:endParaRPr>
              </a:p>
            </p:txBody>
          </p:sp>
          <p:sp>
            <p:nvSpPr>
              <p:cNvPr id="177" name="Straight Connector 10"/>
              <p:cNvSpPr/>
              <p:nvPr/>
            </p:nvSpPr>
            <p:spPr>
              <a:xfrm flipH="1">
                <a:off x="1599840" y="2127240"/>
                <a:ext cx="7543800" cy="2160"/>
              </a:xfrm>
              <a:prstGeom prst="line">
                <a:avLst/>
              </a:prstGeom>
              <a:ln w="28440">
                <a:solidFill>
                  <a:srgbClr val="ff7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103154"/>
                  </a:solidFill>
                  <a:latin typeface="Arial"/>
                </a:endParaRPr>
              </a:p>
            </p:txBody>
          </p:sp>
        </p:grpSp>
        <p:sp>
          <p:nvSpPr>
            <p:cNvPr id="178" name="Teardrop 8"/>
            <p:cNvSpPr/>
            <p:nvPr/>
          </p:nvSpPr>
          <p:spPr>
            <a:xfrm>
              <a:off x="8521200" y="2369160"/>
              <a:ext cx="394200" cy="394200"/>
            </a:xfrm>
            <a:custGeom>
              <a:avLst/>
              <a:gdLst/>
              <a:ahLst/>
              <a:rect l="l" t="t" r="r" b="b"/>
              <a:pathLst>
                <a:path w="394447" h="394447">
                  <a:moveTo>
                    <a:pt x="0" y="197224"/>
                  </a:moveTo>
                  <a:cubicBezTo>
                    <a:pt x="0" y="88300"/>
                    <a:pt x="88300" y="0"/>
                    <a:pt x="197224" y="0"/>
                  </a:cubicBezTo>
                  <a:lnTo>
                    <a:pt x="394447" y="0"/>
                  </a:lnTo>
                  <a:lnTo>
                    <a:pt x="394447" y="197224"/>
                  </a:lnTo>
                  <a:cubicBezTo>
                    <a:pt x="394447" y="306148"/>
                    <a:pt x="306147" y="394448"/>
                    <a:pt x="197223" y="394448"/>
                  </a:cubicBezTo>
                  <a:cubicBezTo>
                    <a:pt x="88299" y="394448"/>
                    <a:pt x="-1" y="306148"/>
                    <a:pt x="-1" y="197224"/>
                  </a:cubicBezTo>
                  <a:lnTo>
                    <a:pt x="0" y="197224"/>
                  </a:lnTo>
                  <a:close/>
                </a:path>
              </a:pathLst>
            </a:cu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3154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1"/>
          </p:nvPr>
        </p:nvSpPr>
        <p:spPr>
          <a:xfrm rot="16200000">
            <a:off x="8033760" y="34747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2"/>
          </p:nvPr>
        </p:nvSpPr>
        <p:spPr>
          <a:xfrm rot="16200000">
            <a:off x="7657560" y="34747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C564-64BF-4B9C-8C56-3F227259C0E3}" type="datetime">
              <a:rPr b="1" lang="en-US" sz="14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nip Diagonal Corner Rectangle 6"/>
          <p:cNvSpPr/>
          <p:nvPr/>
        </p:nvSpPr>
        <p:spPr>
          <a:xfrm flipV="1">
            <a:off x="228600" y="1707120"/>
            <a:ext cx="8686800" cy="4908600"/>
          </a:xfrm>
          <a:custGeom>
            <a:avLst/>
            <a:gdLst/>
            <a:ahLst/>
            <a:rect l="l" t="t" r="r" b="b"/>
            <a:pathLst>
              <a:path w="8686800" h="4908176">
                <a:moveTo>
                  <a:pt x="0" y="0"/>
                </a:moveTo>
                <a:lnTo>
                  <a:pt x="8490326" y="0"/>
                </a:lnTo>
                <a:lnTo>
                  <a:pt x="8686800" y="196474"/>
                </a:lnTo>
                <a:lnTo>
                  <a:pt x="8686800" y="4908176"/>
                </a:lnTo>
                <a:lnTo>
                  <a:pt x="8686800" y="4908176"/>
                </a:lnTo>
                <a:lnTo>
                  <a:pt x="196474" y="4908176"/>
                </a:lnTo>
                <a:lnTo>
                  <a:pt x="0" y="471170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220" name="Snip Diagonal Corner Rectangle 7"/>
          <p:cNvSpPr/>
          <p:nvPr/>
        </p:nvSpPr>
        <p:spPr>
          <a:xfrm flipV="1">
            <a:off x="228600" y="228240"/>
            <a:ext cx="8686800" cy="1278000"/>
          </a:xfrm>
          <a:custGeom>
            <a:avLst/>
            <a:gdLst/>
            <a:ahLst/>
            <a:rect l="l" t="t" r="r" b="b"/>
            <a:pathLst>
              <a:path w="8686800" h="1277473">
                <a:moveTo>
                  <a:pt x="0" y="0"/>
                </a:moveTo>
                <a:lnTo>
                  <a:pt x="8537668" y="0"/>
                </a:lnTo>
                <a:lnTo>
                  <a:pt x="8686800" y="149132"/>
                </a:lnTo>
                <a:lnTo>
                  <a:pt x="8686800" y="1277473"/>
                </a:lnTo>
                <a:lnTo>
                  <a:pt x="8686800" y="1277473"/>
                </a:lnTo>
                <a:lnTo>
                  <a:pt x="149132" y="1277473"/>
                </a:lnTo>
                <a:lnTo>
                  <a:pt x="0" y="112834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57B3-2006-4CAD-8480-BF9A21FD9C97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nip Diagonal Corner Rectangle 6"/>
          <p:cNvSpPr/>
          <p:nvPr/>
        </p:nvSpPr>
        <p:spPr>
          <a:xfrm flipV="1">
            <a:off x="228600" y="1707120"/>
            <a:ext cx="8686800" cy="4908600"/>
          </a:xfrm>
          <a:custGeom>
            <a:avLst/>
            <a:gdLst/>
            <a:ahLst/>
            <a:rect l="l" t="t" r="r" b="b"/>
            <a:pathLst>
              <a:path w="8686800" h="4908176">
                <a:moveTo>
                  <a:pt x="0" y="0"/>
                </a:moveTo>
                <a:lnTo>
                  <a:pt x="8490326" y="0"/>
                </a:lnTo>
                <a:lnTo>
                  <a:pt x="8686800" y="196474"/>
                </a:lnTo>
                <a:lnTo>
                  <a:pt x="8686800" y="4908176"/>
                </a:lnTo>
                <a:lnTo>
                  <a:pt x="8686800" y="4908176"/>
                </a:lnTo>
                <a:lnTo>
                  <a:pt x="196474" y="4908176"/>
                </a:lnTo>
                <a:lnTo>
                  <a:pt x="0" y="471170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263" name="Snip Diagonal Corner Rectangle 7"/>
          <p:cNvSpPr/>
          <p:nvPr/>
        </p:nvSpPr>
        <p:spPr>
          <a:xfrm flipV="1">
            <a:off x="228600" y="228240"/>
            <a:ext cx="8686800" cy="1278000"/>
          </a:xfrm>
          <a:custGeom>
            <a:avLst/>
            <a:gdLst/>
            <a:ahLst/>
            <a:rect l="l" t="t" r="r" b="b"/>
            <a:pathLst>
              <a:path w="8686800" h="1277473">
                <a:moveTo>
                  <a:pt x="0" y="0"/>
                </a:moveTo>
                <a:lnTo>
                  <a:pt x="8537668" y="0"/>
                </a:lnTo>
                <a:lnTo>
                  <a:pt x="8686800" y="149132"/>
                </a:lnTo>
                <a:lnTo>
                  <a:pt x="8686800" y="1277473"/>
                </a:lnTo>
                <a:lnTo>
                  <a:pt x="8686800" y="1277473"/>
                </a:lnTo>
                <a:lnTo>
                  <a:pt x="149132" y="1277473"/>
                </a:lnTo>
                <a:lnTo>
                  <a:pt x="0" y="112834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8FDA-8873-4908-83D5-11FC39E7C6FA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nip Diagonal Corner Rectangle 6"/>
          <p:cNvSpPr/>
          <p:nvPr/>
        </p:nvSpPr>
        <p:spPr>
          <a:xfrm flipV="1">
            <a:off x="228600" y="1707120"/>
            <a:ext cx="8686800" cy="4908600"/>
          </a:xfrm>
          <a:custGeom>
            <a:avLst/>
            <a:gdLst/>
            <a:ahLst/>
            <a:rect l="l" t="t" r="r" b="b"/>
            <a:pathLst>
              <a:path w="8686800" h="4908176">
                <a:moveTo>
                  <a:pt x="0" y="0"/>
                </a:moveTo>
                <a:lnTo>
                  <a:pt x="8490326" y="0"/>
                </a:lnTo>
                <a:lnTo>
                  <a:pt x="8686800" y="196474"/>
                </a:lnTo>
                <a:lnTo>
                  <a:pt x="8686800" y="4908176"/>
                </a:lnTo>
                <a:lnTo>
                  <a:pt x="8686800" y="4908176"/>
                </a:lnTo>
                <a:lnTo>
                  <a:pt x="196474" y="4908176"/>
                </a:lnTo>
                <a:lnTo>
                  <a:pt x="0" y="471170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306" name="Snip Diagonal Corner Rectangle 7"/>
          <p:cNvSpPr/>
          <p:nvPr/>
        </p:nvSpPr>
        <p:spPr>
          <a:xfrm flipV="1">
            <a:off x="228600" y="228240"/>
            <a:ext cx="8686800" cy="1278000"/>
          </a:xfrm>
          <a:custGeom>
            <a:avLst/>
            <a:gdLst/>
            <a:ahLst/>
            <a:rect l="l" t="t" r="r" b="b"/>
            <a:pathLst>
              <a:path w="8686800" h="1277473">
                <a:moveTo>
                  <a:pt x="0" y="0"/>
                </a:moveTo>
                <a:lnTo>
                  <a:pt x="8537668" y="0"/>
                </a:lnTo>
                <a:lnTo>
                  <a:pt x="8686800" y="149132"/>
                </a:lnTo>
                <a:lnTo>
                  <a:pt x="8686800" y="1277473"/>
                </a:lnTo>
                <a:lnTo>
                  <a:pt x="8686800" y="1277473"/>
                </a:lnTo>
                <a:lnTo>
                  <a:pt x="149132" y="1277473"/>
                </a:lnTo>
                <a:lnTo>
                  <a:pt x="0" y="112834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4A47-4018-409F-AD5A-DBCB2D29409D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nip Diagonal Corner Rectangle 6"/>
          <p:cNvSpPr/>
          <p:nvPr/>
        </p:nvSpPr>
        <p:spPr>
          <a:xfrm flipV="1">
            <a:off x="228600" y="227520"/>
            <a:ext cx="8686800" cy="6388200"/>
          </a:xfrm>
          <a:custGeom>
            <a:avLst/>
            <a:gdLst/>
            <a:ahLst/>
            <a:rect l="l" t="t" r="r" b="b"/>
            <a:pathLst>
              <a:path w="8686800" h="6387352">
                <a:moveTo>
                  <a:pt x="0" y="0"/>
                </a:moveTo>
                <a:lnTo>
                  <a:pt x="8525264" y="0"/>
                </a:lnTo>
                <a:lnTo>
                  <a:pt x="8686800" y="161536"/>
                </a:lnTo>
                <a:lnTo>
                  <a:pt x="8686800" y="6387352"/>
                </a:lnTo>
                <a:lnTo>
                  <a:pt x="8686800" y="6387352"/>
                </a:lnTo>
                <a:lnTo>
                  <a:pt x="161536" y="6387352"/>
                </a:lnTo>
                <a:lnTo>
                  <a:pt x="0" y="622581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EFF4-0F85-4655-B55B-1C8B001A4FA1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nqa.eu/files/ESG_3edition%20(2).pdf" TargetMode="External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74576"/>
                </a:solidFill>
                <a:latin typeface="Corbel"/>
              </a:rPr>
              <a:t> </a:t>
            </a:r>
            <a:endParaRPr b="0" lang="en-US" sz="46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380520" y="34290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74576"/>
                </a:solidFill>
                <a:latin typeface="Corbel"/>
              </a:rPr>
              <a:t>“</a:t>
            </a:r>
            <a:r>
              <a:rPr b="1" i="1" lang="en-US" sz="2800" spc="-1" strike="noStrike">
                <a:solidFill>
                  <a:srgbClr val="174576"/>
                </a:solidFill>
                <a:latin typeface="Corbel"/>
              </a:rPr>
              <a:t>Introduction to the Standards and </a:t>
            </a:r>
            <a:endParaRPr b="0" lang="en-US" sz="2800" spc="-1" strike="noStrike">
              <a:solidFill>
                <a:srgbClr val="174576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74576"/>
                </a:solidFill>
                <a:latin typeface="Corbel"/>
              </a:rPr>
              <a:t>Guidelines for Quality Assurance in the European Higher Education Area</a:t>
            </a:r>
            <a:endParaRPr b="0" lang="en-US" sz="2800" spc="-1" strike="noStrike">
              <a:solidFill>
                <a:srgbClr val="174576"/>
              </a:solidFill>
              <a:latin typeface="Corbel"/>
            </a:endParaRPr>
          </a:p>
        </p:txBody>
      </p:sp>
      <p:pic>
        <p:nvPicPr>
          <p:cNvPr id="608" name="Picture 2" descr="D:\Q&amp;A_with_private_universities\PR_Material\Per_Granitin_design\logote\ec-TEMPUS_en.eps"/>
          <p:cNvPicPr/>
          <p:nvPr/>
        </p:nvPicPr>
        <p:blipFill>
          <a:blip r:embed="rId1"/>
          <a:stretch/>
        </p:blipFill>
        <p:spPr>
          <a:xfrm>
            <a:off x="533520" y="228600"/>
            <a:ext cx="1944720" cy="1925640"/>
          </a:xfrm>
          <a:prstGeom prst="rect">
            <a:avLst/>
          </a:prstGeom>
          <a:ln w="0">
            <a:noFill/>
          </a:ln>
        </p:spPr>
      </p:pic>
      <p:sp>
        <p:nvSpPr>
          <p:cNvPr id="609" name="TextBox 5"/>
          <p:cNvSpPr/>
          <p:nvPr/>
        </p:nvSpPr>
        <p:spPr>
          <a:xfrm>
            <a:off x="380880" y="4724280"/>
            <a:ext cx="6934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154"/>
                </a:solidFill>
                <a:latin typeface="Arial"/>
              </a:rPr>
              <a:t>Project</a:t>
            </a:r>
            <a:r>
              <a:rPr b="0" i="1" lang="en-US" sz="1600" spc="-1" strike="noStrike">
                <a:solidFill>
                  <a:srgbClr val="103154"/>
                </a:solidFill>
                <a:latin typeface="Arial"/>
              </a:rPr>
              <a:t>: Strategic Support for the Development of Sustainable QA Structures at the Newly Public University in Kosova no. 517482, </a:t>
            </a:r>
            <a:endParaRPr b="0" lang="en-US" sz="1600" spc="-1" strike="noStrike">
              <a:solidFill>
                <a:srgbClr val="10315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03154"/>
                </a:solidFill>
                <a:latin typeface="Arial"/>
              </a:rPr>
              <a:t>Prizren 27 June 2012</a:t>
            </a:r>
            <a:endParaRPr b="0" lang="en-US" sz="1600" spc="-1" strike="noStrike">
              <a:solidFill>
                <a:srgbClr val="103154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3154"/>
                </a:solidFill>
                <a:latin typeface="Franklin Gothic Book"/>
              </a:rPr>
              <a:t>But Dedaj, </a:t>
            </a:r>
            <a:r>
              <a:rPr b="0" lang="en-US" sz="1600" spc="-1" strike="noStrike">
                <a:solidFill>
                  <a:srgbClr val="103154"/>
                </a:solidFill>
                <a:latin typeface="Franklin Gothic Book"/>
              </a:rPr>
              <a:t>WUS </a:t>
            </a:r>
            <a:r>
              <a:rPr b="0" lang="en-US" sz="1800" spc="-1" strike="noStrike">
                <a:solidFill>
                  <a:srgbClr val="103154"/>
                </a:solidFill>
                <a:latin typeface="Franklin Gothic Book"/>
              </a:rPr>
              <a:t>Kosova </a:t>
            </a:r>
            <a:endParaRPr b="0" lang="en-US" sz="1800" spc="-1" strike="noStrike">
              <a:solidFill>
                <a:srgbClr val="103154"/>
              </a:solidFill>
              <a:latin typeface="Arial"/>
            </a:endParaRPr>
          </a:p>
        </p:txBody>
      </p:sp>
      <p:pic>
        <p:nvPicPr>
          <p:cNvPr id="610" name="Picture 1" descr="Description: C:\Users\Alfred\Desktop\llogo UPPZ\New2\Llogo UPPZ_final version.png"/>
          <p:cNvPicPr/>
          <p:nvPr/>
        </p:nvPicPr>
        <p:blipFill>
          <a:blip r:embed="rId2"/>
          <a:stretch/>
        </p:blipFill>
        <p:spPr>
          <a:xfrm>
            <a:off x="5637240" y="304920"/>
            <a:ext cx="32875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74576"/>
                </a:solidFill>
                <a:latin typeface="Corbel"/>
              </a:rPr>
              <a:t>1.3 </a:t>
            </a:r>
            <a:r>
              <a:rPr b="0" lang="sq-AL" sz="3400" spc="-1" strike="noStrike">
                <a:solidFill>
                  <a:srgbClr val="174576"/>
                </a:solidFill>
                <a:latin typeface="Corbel"/>
              </a:rPr>
              <a:t>Vlerësimi i studentëve </a:t>
            </a:r>
            <a:br>
              <a:rPr sz="3400"/>
            </a:br>
            <a:endParaRPr b="0" lang="en-US" sz="34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0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2000" spc="-1" strike="noStrike">
                <a:solidFill>
                  <a:srgbClr val="174576"/>
                </a:solidFill>
                <a:latin typeface="Franklin Gothic Book"/>
              </a:rPr>
              <a:t>sa herë që është e mundur, të mos bazohen në gjykimin e një vlerësuesi të vetëm;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0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2000" spc="-1" strike="noStrike">
                <a:solidFill>
                  <a:srgbClr val="174576"/>
                </a:solidFill>
                <a:latin typeface="Franklin Gothic Book"/>
              </a:rPr>
              <a:t>të mbajnë parasysh të gjitha pasojat e mundshme të rregullativës së vlerësimit;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0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2000" spc="-1" strike="noStrike">
                <a:solidFill>
                  <a:srgbClr val="174576"/>
                </a:solidFill>
                <a:latin typeface="Franklin Gothic Book"/>
              </a:rPr>
              <a:t>të përmbajnë rregullativë të qartë për veprim në rastet e mungesës së studentit, sëmundjes dhe situatave të tjera lehtësuese;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0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2000" spc="-1" strike="noStrike">
                <a:solidFill>
                  <a:srgbClr val="174576"/>
                </a:solidFill>
                <a:latin typeface="Franklin Gothic Book"/>
              </a:rPr>
              <a:t>të sigurojnë që vlerësimi të bëhet në pajtim me procedurat e deklaruara nga institucioni; 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0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2000" spc="-1" strike="noStrike">
                <a:solidFill>
                  <a:srgbClr val="174576"/>
                </a:solidFill>
                <a:latin typeface="Franklin Gothic Book"/>
              </a:rPr>
              <a:t>të verifikohen në aspektin administrativ për të siguruar besueshmërinë e procedurave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2400" spc="-1" strike="noStrike">
                <a:solidFill>
                  <a:srgbClr val="174576"/>
                </a:solidFill>
                <a:latin typeface="Corbel"/>
              </a:rPr>
              <a:t>1.4 </a:t>
            </a:r>
            <a:r>
              <a:rPr b="1" lang="sq-AL" sz="2400" spc="-1" strike="noStrike">
                <a:solidFill>
                  <a:srgbClr val="174576"/>
                </a:solidFill>
                <a:latin typeface="Corbel"/>
              </a:rPr>
              <a:t>Sigurimi i cilësisë së personelit mësimdhënës </a:t>
            </a:r>
            <a:br>
              <a:rPr sz="3400"/>
            </a:br>
            <a:endParaRPr b="0" lang="en-US" sz="24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4920" y="2133360"/>
            <a:ext cx="868680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44400" indent="-316080">
              <a:lnSpc>
                <a:spcPct val="8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74576"/>
                </a:solidFill>
                <a:uFillTx/>
                <a:latin typeface="Franklin Gothic Book"/>
              </a:rPr>
              <a:t>Standardi: </a:t>
            </a:r>
            <a:r>
              <a:rPr b="0" lang="sq-AL" sz="2200" spc="-1" strike="noStrike">
                <a:solidFill>
                  <a:srgbClr val="174576"/>
                </a:solidFill>
                <a:latin typeface="Franklin Gothic Book"/>
              </a:rPr>
              <a:t>Institucionet duhet të kenë mënyra për t’u siguruar se personeli i përfshirë në mësimdhënie është i kualifikuar dhe kompetent për këtë detyrë. Personeli duhet të jetë në dispozicion të atyre që bëjnë vlerësimin e  jashtëm dhe të komentojë raportet e tyre.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44400" indent="-316080">
              <a:lnSpc>
                <a:spcPct val="8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74576"/>
                </a:solidFill>
                <a:uFillTx/>
                <a:latin typeface="Franklin Gothic Book"/>
              </a:rPr>
              <a:t>Udhezimet: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22200" indent="-322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2200" spc="-1" strike="noStrike">
                <a:solidFill>
                  <a:srgbClr val="174576"/>
                </a:solidFill>
                <a:latin typeface="Franklin Gothic Book"/>
              </a:rPr>
              <a:t>Është me rëndësi që mësimdhënësit të kenë njohuri të </a:t>
            </a:r>
            <a:r>
              <a:rPr b="0" lang="en-US" sz="22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2200" spc="-1" strike="noStrike">
                <a:solidFill>
                  <a:srgbClr val="174576"/>
                </a:solidFill>
                <a:latin typeface="Franklin Gothic Book"/>
              </a:rPr>
              <a:t>plotë dhe të kuptojnë lëndën që mbajnë, si dhe të kenë </a:t>
            </a:r>
            <a:r>
              <a:rPr b="0" lang="en-US" sz="22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2200" spc="-1" strike="noStrike">
                <a:solidFill>
                  <a:srgbClr val="174576"/>
                </a:solidFill>
                <a:latin typeface="Franklin Gothic Book"/>
              </a:rPr>
              <a:t>shkathtësi dhe përvojë të caktuar për ta transmetuar </a:t>
            </a:r>
            <a:r>
              <a:rPr b="0" lang="en-US" sz="22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2200" spc="-1" strike="noStrike">
                <a:solidFill>
                  <a:srgbClr val="174576"/>
                </a:solidFill>
                <a:latin typeface="Franklin Gothic Book"/>
              </a:rPr>
              <a:t>njohurinë dhe të kuptuarit e tyre te studentët në kontekste </a:t>
            </a:r>
            <a:r>
              <a:rPr b="0" lang="en-US" sz="22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2200" spc="-1" strike="noStrike">
                <a:solidFill>
                  <a:srgbClr val="174576"/>
                </a:solidFill>
                <a:latin typeface="Franklin Gothic Book"/>
              </a:rPr>
              <a:t>të ndryshme të mësimdhënies</a:t>
            </a:r>
            <a:r>
              <a:rPr b="0" lang="en-US" sz="2200" spc="-1" strike="noStrike">
                <a:solidFill>
                  <a:srgbClr val="174576"/>
                </a:solidFill>
                <a:latin typeface="Franklin Gothic Book"/>
              </a:rPr>
              <a:t>….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4576"/>
                </a:solidFill>
                <a:latin typeface="Corbel"/>
              </a:rPr>
              <a:t>1.5 </a:t>
            </a:r>
            <a:r>
              <a:rPr b="0" lang="sq-AL" sz="2800" spc="-1" strike="noStrike">
                <a:solidFill>
                  <a:srgbClr val="174576"/>
                </a:solidFill>
                <a:latin typeface="Corbel"/>
              </a:rPr>
              <a:t>Burimet për mësim dhe përkrahja e studentëve </a:t>
            </a:r>
            <a:br>
              <a:rPr sz="3400"/>
            </a:br>
            <a:endParaRPr b="0" lang="en-US" sz="2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4920" y="1752480"/>
            <a:ext cx="8686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17040" indent="-302760">
              <a:lnSpc>
                <a:spcPct val="10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74576"/>
                </a:solidFill>
                <a:uFillTx/>
                <a:latin typeface="Franklin Gothic Book"/>
              </a:rPr>
              <a:t>Standardi: </a:t>
            </a:r>
            <a:r>
              <a:rPr b="0" lang="sq-AL" sz="2400" spc="-1" strike="noStrike">
                <a:solidFill>
                  <a:srgbClr val="174576"/>
                </a:solidFill>
                <a:latin typeface="Franklin Gothic Book"/>
              </a:rPr>
              <a:t>Institucionet duhet të sigurojnë se burimet në dispozicion për të përkrahur të nxënit e studentëve janë adekuate dhe të përshtatshme për çdo program që ofrohet</a:t>
            </a:r>
            <a:endParaRPr b="0" lang="en-US" sz="2400" spc="-1" strike="noStrike">
              <a:solidFill>
                <a:srgbClr val="174576"/>
              </a:solidFill>
              <a:latin typeface="Corbel"/>
            </a:endParaRPr>
          </a:p>
          <a:p>
            <a:pPr lvl="1" marL="617040" indent="-302760">
              <a:lnSpc>
                <a:spcPct val="10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74576"/>
                </a:solidFill>
                <a:uFillTx/>
                <a:latin typeface="Franklin Gothic Book"/>
              </a:rPr>
              <a:t>Udhezimet: </a:t>
            </a:r>
            <a:endParaRPr b="0" lang="en-US" sz="2400" spc="-1" strike="noStrike">
              <a:solidFill>
                <a:srgbClr val="174576"/>
              </a:solidFill>
              <a:latin typeface="Corbel"/>
            </a:endParaRPr>
          </a:p>
          <a:p>
            <a:pPr marL="308520" indent="-3085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2400" spc="-1" strike="noStrike">
                <a:solidFill>
                  <a:srgbClr val="174576"/>
                </a:solidFill>
                <a:latin typeface="Franklin Gothic Book"/>
              </a:rPr>
              <a:t> </a:t>
            </a:r>
            <a:r>
              <a:rPr b="0" lang="sq-AL" sz="2400" spc="-1" strike="noStrike">
                <a:solidFill>
                  <a:srgbClr val="174576"/>
                </a:solidFill>
                <a:latin typeface="Franklin Gothic Book"/>
              </a:rPr>
              <a:t>Përveç në mësimdhënës, studentë mbështeten në një </a:t>
            </a:r>
            <a:r>
              <a:rPr b="0" lang="en-US" sz="24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2400" spc="-1" strike="noStrike">
                <a:solidFill>
                  <a:srgbClr val="174576"/>
                </a:solidFill>
                <a:latin typeface="Franklin Gothic Book"/>
              </a:rPr>
              <a:t>varg burimesh që ndihmojnë të nxënit. Ato ndryshojnë nga </a:t>
            </a:r>
            <a:r>
              <a:rPr b="0" lang="en-US" sz="24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2400" spc="-1" strike="noStrike">
                <a:solidFill>
                  <a:srgbClr val="174576"/>
                </a:solidFill>
                <a:latin typeface="Franklin Gothic Book"/>
              </a:rPr>
              <a:t>burime fizike siç janë bibliotekat ose sallat kompjuterike, </a:t>
            </a:r>
            <a:r>
              <a:rPr b="0" lang="en-US" sz="24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2400" spc="-1" strike="noStrike">
                <a:solidFill>
                  <a:srgbClr val="174576"/>
                </a:solidFill>
                <a:latin typeface="Franklin Gothic Book"/>
              </a:rPr>
              <a:t>deri te përkrahja njerëzore në formë të instruktorëve, </a:t>
            </a:r>
            <a:r>
              <a:rPr b="0" lang="en-US" sz="24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2400" spc="-1" strike="noStrike">
                <a:solidFill>
                  <a:srgbClr val="174576"/>
                </a:solidFill>
                <a:latin typeface="Franklin Gothic Book"/>
              </a:rPr>
              <a:t>këshilltarëve, etj. </a:t>
            </a:r>
            <a:endParaRPr b="0" lang="en-US" sz="24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174576"/>
                </a:solidFill>
                <a:latin typeface="Corbel"/>
              </a:rPr>
              <a:t>1.6 </a:t>
            </a:r>
            <a:r>
              <a:rPr b="0" lang="sq-AL" sz="2800" spc="-1" strike="noStrike">
                <a:solidFill>
                  <a:srgbClr val="174576"/>
                </a:solidFill>
                <a:latin typeface="Corbel"/>
              </a:rPr>
              <a:t>Sistemet informative </a:t>
            </a:r>
            <a:br>
              <a:rPr sz="3400"/>
            </a:br>
            <a:endParaRPr b="0" lang="en-US" sz="2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4920" y="1752480"/>
            <a:ext cx="8686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23880" indent="-306000">
              <a:lnSpc>
                <a:spcPct val="10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74576"/>
                </a:solidFill>
                <a:uFillTx/>
                <a:latin typeface="Franklin Gothic Book"/>
              </a:rPr>
              <a:t>Standardi: </a:t>
            </a:r>
            <a:r>
              <a:rPr b="0" lang="sq-AL" sz="2200" spc="-1" strike="noStrike">
                <a:solidFill>
                  <a:srgbClr val="174576"/>
                </a:solidFill>
                <a:latin typeface="Franklin Gothic Book"/>
              </a:rPr>
              <a:t>Institucionet duhet të sigurojnë mbledhjen, analizën dhe përdorimin e informatave relevante për menaxhim efektiv të programeve të studimeve dhe të aktiviteteve të tjera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23880" indent="-306000">
              <a:lnSpc>
                <a:spcPct val="10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74576"/>
                </a:solidFill>
                <a:uFillTx/>
                <a:latin typeface="Franklin Gothic Book"/>
              </a:rPr>
              <a:t>Udhezimet: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248120" indent="-30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17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700" spc="-1" strike="noStrike">
                <a:solidFill>
                  <a:srgbClr val="174576"/>
                </a:solidFill>
                <a:latin typeface="Franklin Gothic Book"/>
              </a:rPr>
              <a:t>progresin e studentëve dhe kalueshmërinë;</a:t>
            </a:r>
            <a:endParaRPr b="0" lang="en-US" sz="1700" spc="-1" strike="noStrike">
              <a:solidFill>
                <a:srgbClr val="174576"/>
              </a:solidFill>
              <a:latin typeface="Corbel"/>
            </a:endParaRPr>
          </a:p>
          <a:p>
            <a:pPr lvl="3" marL="1248120" indent="-30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17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700" spc="-1" strike="noStrike">
                <a:solidFill>
                  <a:srgbClr val="174576"/>
                </a:solidFill>
                <a:latin typeface="Franklin Gothic Book"/>
              </a:rPr>
              <a:t>punësueshmërinë e të diplomuarve;</a:t>
            </a:r>
            <a:endParaRPr b="0" lang="en-US" sz="1700" spc="-1" strike="noStrike">
              <a:solidFill>
                <a:srgbClr val="174576"/>
              </a:solidFill>
              <a:latin typeface="Corbel"/>
            </a:endParaRPr>
          </a:p>
          <a:p>
            <a:pPr lvl="3" marL="1248120" indent="-30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17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700" spc="-1" strike="noStrike">
                <a:solidFill>
                  <a:srgbClr val="174576"/>
                </a:solidFill>
                <a:latin typeface="Franklin Gothic Book"/>
              </a:rPr>
              <a:t>kënaqësinë e studentëve me programet e tyre;</a:t>
            </a:r>
            <a:endParaRPr b="0" lang="en-US" sz="1700" spc="-1" strike="noStrike">
              <a:solidFill>
                <a:srgbClr val="174576"/>
              </a:solidFill>
              <a:latin typeface="Corbel"/>
            </a:endParaRPr>
          </a:p>
          <a:p>
            <a:pPr lvl="3" marL="1248120" indent="-30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17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700" spc="-1" strike="noStrike">
                <a:solidFill>
                  <a:srgbClr val="174576"/>
                </a:solidFill>
                <a:latin typeface="Franklin Gothic Book"/>
              </a:rPr>
              <a:t>efektivitetin e mësimdhënies;</a:t>
            </a:r>
            <a:endParaRPr b="0" lang="en-US" sz="1700" spc="-1" strike="noStrike">
              <a:solidFill>
                <a:srgbClr val="174576"/>
              </a:solidFill>
              <a:latin typeface="Corbel"/>
            </a:endParaRPr>
          </a:p>
          <a:p>
            <a:pPr lvl="3" marL="1248120" indent="-30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17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700" spc="-1" strike="noStrike">
                <a:solidFill>
                  <a:srgbClr val="174576"/>
                </a:solidFill>
                <a:latin typeface="Franklin Gothic Book"/>
              </a:rPr>
              <a:t>profilin e popullacionit studentor;</a:t>
            </a:r>
            <a:endParaRPr b="0" lang="en-US" sz="1700" spc="-1" strike="noStrike">
              <a:solidFill>
                <a:srgbClr val="174576"/>
              </a:solidFill>
              <a:latin typeface="Corbel"/>
            </a:endParaRPr>
          </a:p>
          <a:p>
            <a:pPr lvl="3" marL="1248120" indent="-30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17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700" spc="-1" strike="noStrike">
                <a:solidFill>
                  <a:srgbClr val="174576"/>
                </a:solidFill>
                <a:latin typeface="Franklin Gothic Book"/>
              </a:rPr>
              <a:t>burimet për mësim që janë në dispozicion dhe koston e tyre;</a:t>
            </a:r>
            <a:endParaRPr b="0" lang="en-US" sz="1700" spc="-1" strike="noStrike">
              <a:solidFill>
                <a:srgbClr val="174576"/>
              </a:solidFill>
              <a:latin typeface="Corbel"/>
            </a:endParaRPr>
          </a:p>
          <a:p>
            <a:pPr lvl="3" marL="1248120" indent="-30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17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700" spc="-1" strike="noStrike">
                <a:solidFill>
                  <a:srgbClr val="174576"/>
                </a:solidFill>
                <a:latin typeface="Franklin Gothic Book"/>
              </a:rPr>
              <a:t>treguesit vetanakë të performancës së institucionit.</a:t>
            </a:r>
            <a:endParaRPr b="0" lang="en-US" sz="17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74576"/>
                </a:solidFill>
                <a:latin typeface="Corbel"/>
              </a:rPr>
              <a:t>1.7 </a:t>
            </a:r>
            <a:r>
              <a:rPr b="1" lang="sq-AL" sz="3400" spc="-1" strike="noStrike">
                <a:solidFill>
                  <a:srgbClr val="174576"/>
                </a:solidFill>
                <a:latin typeface="Corbel"/>
              </a:rPr>
              <a:t>Informimi i publikut </a:t>
            </a:r>
            <a:br>
              <a:rPr sz="3400"/>
            </a:br>
            <a:endParaRPr b="0" lang="en-US" sz="34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4920" y="1828800"/>
            <a:ext cx="8686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10200" indent="-299520">
              <a:lnSpc>
                <a:spcPct val="10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74576"/>
                </a:solidFill>
                <a:uFillTx/>
                <a:latin typeface="Franklin Gothic Book"/>
              </a:rPr>
              <a:t>Standardi: </a:t>
            </a:r>
            <a:r>
              <a:rPr b="0" lang="sq-AL" sz="2200" spc="-1" strike="noStrike">
                <a:solidFill>
                  <a:srgbClr val="174576"/>
                </a:solidFill>
                <a:latin typeface="Franklin Gothic Book"/>
              </a:rPr>
              <a:t>Institucionet duhet të publikojnë me rregull informata të përditësuara, të paanshme dhe objektive, sasiore dhe cilësore, për programet dhe për gradat që ofrojnë.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10200" indent="-299520">
              <a:lnSpc>
                <a:spcPct val="10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74576"/>
                </a:solidFill>
                <a:uFillTx/>
                <a:latin typeface="Franklin Gothic Book"/>
              </a:rPr>
              <a:t>Udhezimet: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05280" indent="-3052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2200" spc="-1" strike="noStrike">
                <a:solidFill>
                  <a:srgbClr val="174576"/>
                </a:solidFill>
                <a:latin typeface="Franklin Gothic Book"/>
              </a:rPr>
              <a:t>Për të përmbushur rolin e tyre publik, institucionet e arsimit të lartë kanë përgjegjësi të ofrojnë informacion për programet që ofrojnë, për rezultatet e tyre të pritshme të të nxënit, për kualifikimet që ofrojnë, për mësimdhënien, nxënien dhe procedurat e vlerësimit që përdorin, si dhe për mundësitë për nxënie që janë në dispozicion të studentëve.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74576"/>
                </a:solidFill>
                <a:latin typeface="Corbel"/>
              </a:rPr>
              <a:t>Quality Assurance according to the TRENDS V report</a:t>
            </a:r>
            <a:endParaRPr b="0" lang="en-US" sz="34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4920" y="1981080"/>
            <a:ext cx="86868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tatistics according to TRENDS V on regular internal evaluation by Higher education institutions: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	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	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1. Student learning services 43%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	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	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2. Research teams 48%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	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	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3. Research activities 65%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	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	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4. Individual teaching staff 67%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	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	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5. Programs 72%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	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Sources: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09480" y="1554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1286c9"/>
                </a:solidFill>
                <a:uFillTx/>
                <a:latin typeface="Franklin Gothic Book"/>
                <a:hlinkClick r:id="rId1"/>
              </a:rPr>
              <a:t>http</a:t>
            </a:r>
            <a:r>
              <a:rPr b="0" lang="en-US" sz="2200" spc="-1" strike="noStrike" u="sng">
                <a:solidFill>
                  <a:srgbClr val="174576"/>
                </a:solidFill>
                <a:uFillTx/>
                <a:latin typeface="Franklin Gothic Book"/>
              </a:rPr>
              <a:t>://www.enqa.eu/files/ESG_3edition%20(2).pdf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Franklin Gothic Book"/>
              </a:rPr>
              <a:t>http://www.eua.be/fileadmin/user_upload/files/Publications/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Franklin Gothic Book"/>
              </a:rPr>
              <a:t>Final_Trends_Report__May_10.pdf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4576"/>
                </a:solidFill>
                <a:latin typeface="Franklin Gothic Book"/>
              </a:rPr>
              <a:t>Ju faleminderit!</a:t>
            </a:r>
            <a:endParaRPr b="0" lang="en-US" sz="40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4576"/>
                </a:solidFill>
                <a:latin typeface="Franklin Gothic Book"/>
              </a:rPr>
              <a:t>Thank  you!</a:t>
            </a:r>
            <a:endParaRPr b="0" lang="en-US" sz="40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4576"/>
                </a:solidFill>
                <a:latin typeface="Franklin Gothic Book"/>
              </a:rPr>
              <a:t>but.dedaj@wuskosova.org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74576"/>
                </a:solidFill>
                <a:latin typeface="Corbel"/>
              </a:rPr>
              <a:t>Berlin Communiqué 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By 2005 national quality assurance systems should include: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64920" indent="-326160"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576"/>
                </a:solidFill>
                <a:latin typeface="Corbel"/>
              </a:rPr>
              <a:t>A definition of the responsibilities of the bodies and institutions involved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lvl="1" marL="664920" indent="-326160"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576"/>
                </a:solidFill>
                <a:latin typeface="Corbel"/>
              </a:rPr>
              <a:t>Evaluation of programmes and institutions, including internal assessment, external review, participation of students and the publication of results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lvl="1" marL="664920" indent="-326160"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576"/>
                </a:solidFill>
                <a:latin typeface="Corbel"/>
              </a:rPr>
              <a:t>A system of accreditation, certification or comparable procedures 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lvl="1" marL="664920" indent="-326160"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576"/>
                </a:solidFill>
                <a:latin typeface="Corbel"/>
              </a:rPr>
              <a:t>International participation, co-operation and networking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lvl="1" marL="664920" indent="-326160"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4576"/>
                </a:solidFill>
                <a:latin typeface="Corbel"/>
              </a:rPr>
              <a:t>The main recommendations of ENQA report </a:t>
            </a:r>
            <a:endParaRPr b="0" lang="en-US" sz="2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There will be European Standards for internal and external quality assurance, and for external quality assurance agencies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European quality assurance agencies will be expected to submit themselves to a cyclical review within five years,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There will be an emphasis on subsidiary, with reviews being undertaken nationally where possible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A European register of quality assurance produced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A European Register Committee will act as a gatekeeper for the inclusion of agencies in the register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A European Consultative Forum for Quality Assurance in higher Education will be established 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4576"/>
                </a:solidFill>
                <a:latin typeface="Corbel"/>
              </a:rPr>
              <a:t>1. European standards and guidelines for internal quality assurance within higher education institutions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576"/>
                </a:solidFill>
                <a:latin typeface="Corbel"/>
              </a:rPr>
              <a:t>Policy and procedures for quality assurance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marL="335880" indent="-335880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576"/>
                </a:solidFill>
                <a:latin typeface="Corbel"/>
              </a:rPr>
              <a:t>Approval, monitoring and periodic review of programs and awards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marL="335880" indent="-335880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576"/>
                </a:solidFill>
                <a:latin typeface="Corbel"/>
              </a:rPr>
              <a:t>Assessment of students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marL="335880" indent="-335880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576"/>
                </a:solidFill>
                <a:latin typeface="Corbel"/>
              </a:rPr>
              <a:t>Quality assurance of teaching staff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marL="335880" indent="-335880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576"/>
                </a:solidFill>
                <a:latin typeface="Corbel"/>
              </a:rPr>
              <a:t>Learning resources and students support 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marL="335880" indent="-335880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576"/>
                </a:solidFill>
                <a:latin typeface="Corbel"/>
              </a:rPr>
              <a:t>Information systems 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marL="335880" indent="-335880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576"/>
                </a:solidFill>
                <a:latin typeface="Corbel"/>
              </a:rPr>
              <a:t>Public information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marL="335880" indent="-335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2. European standards and guidelines for the external quality assurance of higher education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576"/>
                </a:solidFill>
                <a:latin typeface="Corbel"/>
              </a:rPr>
              <a:t>Use of internal quality assurance procedures 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576"/>
                </a:solidFill>
                <a:latin typeface="Corbel"/>
              </a:rPr>
              <a:t>Development of external quality assurance processes 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576"/>
                </a:solidFill>
                <a:latin typeface="Corbel"/>
              </a:rPr>
              <a:t>Criteria for decisions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576"/>
                </a:solidFill>
                <a:latin typeface="Corbel"/>
              </a:rPr>
              <a:t>Processes fit for purpose 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576"/>
                </a:solidFill>
                <a:latin typeface="Corbel"/>
              </a:rPr>
              <a:t>Reporting 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576"/>
                </a:solidFill>
                <a:latin typeface="Corbel"/>
              </a:rPr>
              <a:t>Follow-up procedures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576"/>
                </a:solidFill>
                <a:latin typeface="Corbel"/>
              </a:rPr>
              <a:t>Periodic reviews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576"/>
                </a:solidFill>
                <a:latin typeface="Corbel"/>
              </a:rPr>
              <a:t>System-wide analyses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Part 3 &amp; 4 of the ESG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576"/>
                </a:solidFill>
                <a:latin typeface="Franklin Gothic Book"/>
              </a:rPr>
              <a:t>Peer review system for quality assurance agencies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lvl="1" marL="637560" indent="-312840">
              <a:lnSpc>
                <a:spcPct val="9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Franklin Gothic Book"/>
              </a:rPr>
              <a:t>Use of external quality assurance procedures for higher education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lvl="1" marL="637560" indent="-312840">
              <a:lnSpc>
                <a:spcPct val="9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Franklin Gothic Book"/>
              </a:rPr>
              <a:t>Official status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lvl="1" marL="637560" indent="-312840">
              <a:lnSpc>
                <a:spcPct val="9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Franklin Gothic Book"/>
              </a:rPr>
              <a:t>Activities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lvl="1" marL="637560" indent="-312840">
              <a:lnSpc>
                <a:spcPct val="9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Franklin Gothic Book"/>
              </a:rPr>
              <a:t>Resources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lvl="1" marL="637560" indent="-312840">
              <a:lnSpc>
                <a:spcPct val="9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Franklin Gothic Book"/>
              </a:rPr>
              <a:t>Mission statement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lvl="1" marL="637560" indent="-312840">
              <a:lnSpc>
                <a:spcPct val="9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Franklin Gothic Book"/>
              </a:rPr>
              <a:t>Independence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lvl="1" marL="637560" indent="-312840">
              <a:lnSpc>
                <a:spcPct val="9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Franklin Gothic Book"/>
              </a:rPr>
              <a:t>External quality assurance criteria and processes used by the agency 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lvl="1" marL="637560" indent="-312840">
              <a:lnSpc>
                <a:spcPct val="9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Franklin Gothic Book"/>
              </a:rPr>
              <a:t>Accountability procedures 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576"/>
                </a:solidFill>
                <a:latin typeface="Franklin Gothic Book"/>
              </a:rPr>
              <a:t>Future perspective and challenges 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4576"/>
                </a:solidFill>
                <a:latin typeface="Corbel"/>
              </a:rPr>
              <a:t>1.1 Politikat dhe procedurat per sigurim te cilesise</a:t>
            </a:r>
            <a:br>
              <a:rPr sz="2800"/>
            </a:br>
            <a:endParaRPr b="0" lang="en-US" sz="2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23880" indent="-306000">
              <a:lnSpc>
                <a:spcPct val="8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74576"/>
                </a:solidFill>
                <a:uFillTx/>
                <a:latin typeface="Franklin Gothic Book"/>
              </a:rPr>
              <a:t>Standardi: </a:t>
            </a:r>
            <a:r>
              <a:rPr b="0" lang="sq-AL" sz="2000" spc="-1" strike="noStrike">
                <a:solidFill>
                  <a:srgbClr val="174576"/>
                </a:solidFill>
                <a:latin typeface="Franklin Gothic Book"/>
              </a:rPr>
              <a:t>Institucionet duhet të kenë politikë dhe procedura të ndërlidhura për sigurimin e cilësisë dhe standardeve të programeve dhe gradave që japin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lvl="1" marL="623880" indent="-306000">
              <a:lnSpc>
                <a:spcPct val="8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74576"/>
                </a:solidFill>
                <a:uFillTx/>
                <a:latin typeface="Franklin Gothic Book"/>
              </a:rPr>
              <a:t>Udhezimet: </a:t>
            </a: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  <a:p>
            <a:pPr lvl="1" marL="623880" indent="-306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en-US" sz="17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15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500" spc="-1" strike="noStrike">
                <a:solidFill>
                  <a:srgbClr val="174576"/>
                </a:solidFill>
                <a:latin typeface="Franklin Gothic Book"/>
              </a:rPr>
              <a:t>raportin në mes të mësimdhënies dhe kërkimit shkencor në institucion;</a:t>
            </a:r>
            <a:endParaRPr b="0" lang="en-US" sz="1500" spc="-1" strike="noStrike">
              <a:solidFill>
                <a:srgbClr val="174576"/>
              </a:solidFill>
              <a:latin typeface="Corbel"/>
            </a:endParaRPr>
          </a:p>
          <a:p>
            <a:pPr marL="312120" indent="-31212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en-US" sz="15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15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500" spc="-1" strike="noStrike">
                <a:solidFill>
                  <a:srgbClr val="174576"/>
                </a:solidFill>
                <a:latin typeface="Franklin Gothic Book"/>
              </a:rPr>
              <a:t>strategjinë e institucionit për cilësi dhe standarde;</a:t>
            </a:r>
            <a:endParaRPr b="0" lang="en-US" sz="1500" spc="-1" strike="noStrike">
              <a:solidFill>
                <a:srgbClr val="174576"/>
              </a:solidFill>
              <a:latin typeface="Corbel"/>
            </a:endParaRPr>
          </a:p>
          <a:p>
            <a:pPr marL="312120" indent="-31212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en-US" sz="15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15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500" spc="-1" strike="noStrike">
                <a:solidFill>
                  <a:srgbClr val="174576"/>
                </a:solidFill>
                <a:latin typeface="Franklin Gothic Book"/>
              </a:rPr>
              <a:t>organizimin e sistemit për sigurimin e cilësisë;</a:t>
            </a:r>
            <a:endParaRPr b="0" lang="en-US" sz="1500" spc="-1" strike="noStrike">
              <a:solidFill>
                <a:srgbClr val="174576"/>
              </a:solidFill>
              <a:latin typeface="Corbel"/>
            </a:endParaRPr>
          </a:p>
          <a:p>
            <a:pPr marL="312120" indent="-31212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en-US" sz="15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15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500" spc="-1" strike="noStrike">
                <a:solidFill>
                  <a:srgbClr val="174576"/>
                </a:solidFill>
                <a:latin typeface="Franklin Gothic Book"/>
              </a:rPr>
              <a:t>përgjegjësinë e departamenteve, shkollave, fakulteteve, njësive të tjera </a:t>
            </a:r>
            <a:r>
              <a:rPr b="0" lang="en-US" sz="1500" spc="-1" strike="noStrike">
                <a:solidFill>
                  <a:srgbClr val="174576"/>
                </a:solidFill>
                <a:latin typeface="Franklin Gothic Book"/>
              </a:rPr>
              <a:t> </a:t>
            </a:r>
            <a:r>
              <a:rPr b="0" lang="en-US" sz="15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en-US" sz="15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en-US" sz="1500" spc="-1" strike="noStrike">
                <a:solidFill>
                  <a:srgbClr val="174576"/>
                </a:solidFill>
                <a:latin typeface="Franklin Gothic Book"/>
              </a:rPr>
              <a:t>    </a:t>
            </a:r>
            <a:r>
              <a:rPr b="0" lang="sq-AL" sz="1500" spc="-1" strike="noStrike">
                <a:solidFill>
                  <a:srgbClr val="174576"/>
                </a:solidFill>
                <a:latin typeface="Franklin Gothic Book"/>
              </a:rPr>
              <a:t>akademike dhe individëve për sigurimin e cilësisë;</a:t>
            </a:r>
            <a:endParaRPr b="0" lang="en-US" sz="1500" spc="-1" strike="noStrike">
              <a:solidFill>
                <a:srgbClr val="174576"/>
              </a:solidFill>
              <a:latin typeface="Corbel"/>
            </a:endParaRPr>
          </a:p>
          <a:p>
            <a:pPr marL="312120" indent="-31212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en-US" sz="15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1500" spc="-1" strike="noStrike">
                <a:solidFill>
                  <a:srgbClr val="174576"/>
                </a:solidFill>
                <a:latin typeface="Franklin Gothic Book"/>
              </a:rPr>
              <a:t>•  </a:t>
            </a:r>
            <a:r>
              <a:rPr b="0" lang="sq-AL" sz="1500" spc="-1" strike="noStrike">
                <a:solidFill>
                  <a:srgbClr val="174576"/>
                </a:solidFill>
                <a:latin typeface="Franklin Gothic Book"/>
              </a:rPr>
              <a:t>përfshirjen e studentëve në sigurimin e cilësisë;</a:t>
            </a:r>
            <a:endParaRPr b="0" lang="en-US" sz="1500" spc="-1" strike="noStrike">
              <a:solidFill>
                <a:srgbClr val="174576"/>
              </a:solidFill>
              <a:latin typeface="Corbel"/>
            </a:endParaRPr>
          </a:p>
          <a:p>
            <a:pPr marL="312120" indent="-31212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en-US" sz="1500" spc="-1" strike="noStrike">
                <a:solidFill>
                  <a:srgbClr val="174576"/>
                </a:solidFill>
                <a:latin typeface="Franklin Gothic Book"/>
              </a:rPr>
              <a:t>	</a:t>
            </a:r>
            <a:r>
              <a:rPr b="0" lang="sq-AL" sz="15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500" spc="-1" strike="noStrike">
                <a:solidFill>
                  <a:srgbClr val="174576"/>
                </a:solidFill>
                <a:latin typeface="Franklin Gothic Book"/>
              </a:rPr>
              <a:t>mënyrat për zbatimin, monitorimin dhe vlerësimin e politikave.</a:t>
            </a:r>
            <a:endParaRPr b="0" lang="en-US" sz="1500" spc="-1" strike="noStrike">
              <a:solidFill>
                <a:srgbClr val="174576"/>
              </a:solidFill>
              <a:latin typeface="Corbel"/>
            </a:endParaRPr>
          </a:p>
          <a:p>
            <a:pPr lvl="2" marL="941760" indent="-317520">
              <a:lnSpc>
                <a:spcPct val="8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2000" spc="-1" strike="noStrike">
                <a:solidFill>
                  <a:srgbClr val="174576"/>
                </a:solidFill>
                <a:latin typeface="Corbel"/>
              </a:rPr>
              <a:t>1.2 </a:t>
            </a:r>
            <a:r>
              <a:rPr b="1" lang="sq-AL" sz="2000" spc="-1" strike="noStrike">
                <a:solidFill>
                  <a:srgbClr val="174576"/>
                </a:solidFill>
                <a:latin typeface="Corbel"/>
              </a:rPr>
              <a:t>Aprovimi, monitorimi dhe vlerësimi periodik i programeve dhe gradave </a:t>
            </a:r>
            <a:br>
              <a:rPr sz="2000"/>
            </a:br>
            <a:endParaRPr b="0" lang="en-US" sz="20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4920" y="19051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30720" indent="-309600">
              <a:lnSpc>
                <a:spcPct val="8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174576"/>
                </a:solidFill>
                <a:uFillTx/>
                <a:latin typeface="Franklin Gothic Book"/>
              </a:rPr>
              <a:t>Standardi:  </a:t>
            </a:r>
            <a:r>
              <a:rPr b="0" lang="sq-AL" sz="2300" spc="-1" strike="noStrike">
                <a:solidFill>
                  <a:srgbClr val="174576"/>
                </a:solidFill>
                <a:latin typeface="Franklin Gothic Book"/>
              </a:rPr>
              <a:t>Institucionet duhet të kenë mekanizma formalë për aprovim periodik dhe për monitorim të programeve dhe të gradave të tyre</a:t>
            </a:r>
            <a:endParaRPr b="0" lang="en-US" sz="2300" spc="-1" strike="noStrike">
              <a:solidFill>
                <a:srgbClr val="174576"/>
              </a:solidFill>
              <a:latin typeface="Corbel"/>
            </a:endParaRPr>
          </a:p>
          <a:p>
            <a:pPr lvl="1" marL="630720" indent="-309600">
              <a:lnSpc>
                <a:spcPct val="8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174576"/>
                </a:solidFill>
                <a:uFillTx/>
                <a:latin typeface="Franklin Gothic Book"/>
              </a:rPr>
              <a:t>Udhezimet: </a:t>
            </a:r>
            <a:endParaRPr b="0" lang="en-US" sz="2300" spc="-1" strike="noStrike">
              <a:solidFill>
                <a:srgbClr val="174576"/>
              </a:solidFill>
              <a:latin typeface="Corbel"/>
            </a:endParaRPr>
          </a:p>
          <a:p>
            <a:pPr lvl="3" marL="1261800" indent="-309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4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400" spc="-1" strike="noStrike">
                <a:solidFill>
                  <a:srgbClr val="174576"/>
                </a:solidFill>
                <a:latin typeface="Franklin Gothic Book"/>
              </a:rPr>
              <a:t>zhvillimin dhe publikimin në mënyrë eksplicite të rezultateve të pritshme të të nxënit;</a:t>
            </a:r>
            <a:endParaRPr b="0" lang="en-US" sz="1400" spc="-1" strike="noStrike">
              <a:solidFill>
                <a:srgbClr val="174576"/>
              </a:solidFill>
              <a:latin typeface="Corbel"/>
            </a:endParaRPr>
          </a:p>
          <a:p>
            <a:pPr lvl="3" marL="1261800" indent="-309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4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400" spc="-1" strike="noStrike">
                <a:solidFill>
                  <a:srgbClr val="174576"/>
                </a:solidFill>
                <a:latin typeface="Franklin Gothic Book"/>
              </a:rPr>
              <a:t>kujdes të vazhdueshëm ndaj procesit të zhvillimit dhe përmbajtjes së kurrikulit dhe programeve;</a:t>
            </a:r>
            <a:endParaRPr b="0" lang="en-US" sz="1400" spc="-1" strike="noStrike">
              <a:solidFill>
                <a:srgbClr val="174576"/>
              </a:solidFill>
              <a:latin typeface="Corbel"/>
            </a:endParaRPr>
          </a:p>
          <a:p>
            <a:pPr lvl="3" marL="1261800" indent="-309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4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400" spc="-1" strike="noStrike">
                <a:solidFill>
                  <a:srgbClr val="174576"/>
                </a:solidFill>
                <a:latin typeface="Franklin Gothic Book"/>
              </a:rPr>
              <a:t>nevojat specifike të formave të ndryshme të organzimit të studimeve (p.sh. studimet e rregullta, me korrespondencë, në distancë, e-learning) dhe tipeve të ndryshme të arsimit të lartë (p.sh. akademik, teknik, profesional);</a:t>
            </a:r>
            <a:endParaRPr b="0" lang="en-US" sz="1400" spc="-1" strike="noStrike">
              <a:solidFill>
                <a:srgbClr val="174576"/>
              </a:solidFill>
              <a:latin typeface="Corbel"/>
            </a:endParaRPr>
          </a:p>
          <a:p>
            <a:pPr lvl="3" marL="1261800" indent="-309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4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400" spc="-1" strike="noStrike">
                <a:solidFill>
                  <a:srgbClr val="174576"/>
                </a:solidFill>
                <a:latin typeface="Franklin Gothic Book"/>
              </a:rPr>
              <a:t>sigurimin e burimeve adekuate për mësim;</a:t>
            </a:r>
            <a:endParaRPr b="0" lang="en-US" sz="1400" spc="-1" strike="noStrike">
              <a:solidFill>
                <a:srgbClr val="174576"/>
              </a:solidFill>
              <a:latin typeface="Corbel"/>
            </a:endParaRPr>
          </a:p>
          <a:p>
            <a:pPr lvl="3" marL="1261800" indent="-309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4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400" spc="-1" strike="noStrike">
                <a:solidFill>
                  <a:srgbClr val="174576"/>
                </a:solidFill>
                <a:latin typeface="Franklin Gothic Book"/>
              </a:rPr>
              <a:t>procedura formale për aprovimin e programeve nga trupa tjerë prej atyre që zbatojnë programin;</a:t>
            </a:r>
            <a:endParaRPr b="0" lang="en-US" sz="1400" spc="-1" strike="noStrike">
              <a:solidFill>
                <a:srgbClr val="174576"/>
              </a:solidFill>
              <a:latin typeface="Corbel"/>
            </a:endParaRPr>
          </a:p>
          <a:p>
            <a:pPr lvl="3" marL="1261800" indent="-309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4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400" spc="-1" strike="noStrike">
                <a:solidFill>
                  <a:srgbClr val="174576"/>
                </a:solidFill>
                <a:latin typeface="Franklin Gothic Book"/>
              </a:rPr>
              <a:t>monitorimi i progresit dhe të arriturat e studentëve;</a:t>
            </a:r>
            <a:endParaRPr b="0" lang="en-US" sz="1400" spc="-1" strike="noStrike">
              <a:solidFill>
                <a:srgbClr val="174576"/>
              </a:solidFill>
              <a:latin typeface="Corbel"/>
            </a:endParaRPr>
          </a:p>
          <a:p>
            <a:pPr lvl="3" marL="1261800" indent="-309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4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400" spc="-1" strike="noStrike">
                <a:solidFill>
                  <a:srgbClr val="174576"/>
                </a:solidFill>
                <a:latin typeface="Franklin Gothic Book"/>
              </a:rPr>
              <a:t>vlerësime të rregullta periodike të programeve (përfshirë anëtarë të jashtëm të paneleve);</a:t>
            </a:r>
            <a:endParaRPr b="0" lang="en-US" sz="1400" spc="-1" strike="noStrike">
              <a:solidFill>
                <a:srgbClr val="174576"/>
              </a:solidFill>
              <a:latin typeface="Corbel"/>
            </a:endParaRPr>
          </a:p>
          <a:p>
            <a:pPr lvl="3" marL="1261800" indent="-309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4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400" spc="-1" strike="noStrike">
                <a:solidFill>
                  <a:srgbClr val="174576"/>
                </a:solidFill>
                <a:latin typeface="Franklin Gothic Book"/>
              </a:rPr>
              <a:t>sigurimi i vazhdueshëm i informatës kthyese nga punëdhënësit, përfaësuesit e tregut të punës dhe organizata të tjera relevante;</a:t>
            </a:r>
            <a:endParaRPr b="0" lang="en-US" sz="1400" spc="-1" strike="noStrike">
              <a:solidFill>
                <a:srgbClr val="174576"/>
              </a:solidFill>
              <a:latin typeface="Corbel"/>
            </a:endParaRPr>
          </a:p>
          <a:p>
            <a:pPr lvl="3" marL="1261800" indent="-309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4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400" spc="-1" strike="noStrike">
                <a:solidFill>
                  <a:srgbClr val="174576"/>
                </a:solidFill>
                <a:latin typeface="Franklin Gothic Book"/>
              </a:rPr>
              <a:t>pjesëmarrja e studentëve në aktivitete për sigurimin e cilësisë.</a:t>
            </a:r>
            <a:endParaRPr b="0" lang="en-US" sz="1400" spc="-1" strike="noStrike">
              <a:solidFill>
                <a:srgbClr val="174576"/>
              </a:solidFill>
              <a:latin typeface="Corbel"/>
            </a:endParaRPr>
          </a:p>
          <a:p>
            <a:pPr lvl="2" marL="952200" indent="-321120">
              <a:lnSpc>
                <a:spcPct val="8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74576"/>
                </a:solidFill>
                <a:latin typeface="Corbel"/>
              </a:rPr>
              <a:t>1.3 </a:t>
            </a:r>
            <a:r>
              <a:rPr b="1" lang="sq-AL" sz="3400" spc="-1" strike="noStrike">
                <a:solidFill>
                  <a:srgbClr val="174576"/>
                </a:solidFill>
                <a:latin typeface="Corbel"/>
              </a:rPr>
              <a:t>Vlerësimi i studentëve </a:t>
            </a:r>
            <a:br>
              <a:rPr sz="3400"/>
            </a:br>
            <a:endParaRPr b="0" lang="en-US" sz="34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4920" y="1828800"/>
            <a:ext cx="8686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51240" indent="-319680">
              <a:lnSpc>
                <a:spcPct val="9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74576"/>
                </a:solidFill>
                <a:uFillTx/>
                <a:latin typeface="Franklin Gothic Book"/>
              </a:rPr>
              <a:t>Standardi: </a:t>
            </a:r>
            <a:r>
              <a:rPr b="0" lang="sq-AL" sz="2400" spc="-1" strike="noStrike">
                <a:solidFill>
                  <a:srgbClr val="174576"/>
                </a:solidFill>
                <a:latin typeface="Franklin Gothic Book"/>
              </a:rPr>
              <a:t>Studentët duhet të vlerësohen në bazë të kritereve, rregullave dhe procedurave të bëra publike e që zbatohen me përpikëri</a:t>
            </a:r>
            <a:endParaRPr b="0" lang="en-US" sz="2400" spc="-1" strike="noStrike">
              <a:solidFill>
                <a:srgbClr val="174576"/>
              </a:solidFill>
              <a:latin typeface="Corbel"/>
            </a:endParaRPr>
          </a:p>
          <a:p>
            <a:pPr lvl="1" marL="651240" indent="-319680">
              <a:lnSpc>
                <a:spcPct val="90000"/>
              </a:lnSpc>
              <a:spcBef>
                <a:spcPts val="6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74576"/>
                </a:solidFill>
                <a:uFillTx/>
                <a:latin typeface="Franklin Gothic Book"/>
              </a:rPr>
              <a:t>Udhezimet: </a:t>
            </a:r>
            <a:endParaRPr b="0" lang="en-US" sz="2400" spc="-1" strike="noStrike">
              <a:solidFill>
                <a:srgbClr val="174576"/>
              </a:solidFill>
              <a:latin typeface="Corbel"/>
            </a:endParaRPr>
          </a:p>
          <a:p>
            <a:pPr lvl="3" marL="1302840" indent="-319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800" spc="-1" strike="noStrike">
                <a:solidFill>
                  <a:srgbClr val="174576"/>
                </a:solidFill>
                <a:latin typeface="Franklin Gothic Book"/>
              </a:rPr>
              <a:t>të jenë të ndërtuara ashtu që të matin arritjen e rezultateve të dëshiruara të të nxënit dhe të objektivave të tjera programore;</a:t>
            </a:r>
            <a:endParaRPr b="0" lang="en-US" sz="1800" spc="-1" strike="noStrike">
              <a:solidFill>
                <a:srgbClr val="174576"/>
              </a:solidFill>
              <a:latin typeface="Corbel"/>
            </a:endParaRPr>
          </a:p>
          <a:p>
            <a:pPr lvl="3" marL="1302840" indent="-319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800" spc="-1" strike="noStrike">
                <a:solidFill>
                  <a:srgbClr val="174576"/>
                </a:solidFill>
                <a:latin typeface="Franklin Gothic Book"/>
              </a:rPr>
              <a:t>t’i përgjigjen qëllimit për të cilin janë krijuar, qofshin diagnostike, formative ose sumative;</a:t>
            </a:r>
            <a:endParaRPr b="0" lang="en-US" sz="1800" spc="-1" strike="noStrike">
              <a:solidFill>
                <a:srgbClr val="174576"/>
              </a:solidFill>
              <a:latin typeface="Corbel"/>
            </a:endParaRPr>
          </a:p>
          <a:p>
            <a:pPr lvl="3" marL="1302840" indent="-319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800" spc="-1" strike="noStrike">
                <a:solidFill>
                  <a:srgbClr val="174576"/>
                </a:solidFill>
                <a:latin typeface="Franklin Gothic Book"/>
              </a:rPr>
              <a:t>të kenë kritere të qarta dhe të publikuara për notim;</a:t>
            </a:r>
            <a:endParaRPr b="0" lang="en-US" sz="1800" spc="-1" strike="noStrike">
              <a:solidFill>
                <a:srgbClr val="174576"/>
              </a:solidFill>
              <a:latin typeface="Corbel"/>
            </a:endParaRPr>
          </a:p>
          <a:p>
            <a:pPr lvl="3" marL="1302840" indent="-319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174576"/>
                </a:solidFill>
                <a:latin typeface="Franklin Gothic Book"/>
              </a:rPr>
              <a:t>• </a:t>
            </a:r>
            <a:r>
              <a:rPr b="0" lang="sq-AL" sz="1800" spc="-1" strike="noStrike">
                <a:solidFill>
                  <a:srgbClr val="174576"/>
                </a:solidFill>
                <a:latin typeface="Franklin Gothic Book"/>
              </a:rPr>
              <a:t>të zbatohen nga njerëz që kuptojnë rolin e vlerësimit në avancimin e studentit drejt arritjes së njohurive dhe shkathtësive të lidhura me kualifikimin e dëshiruar;</a:t>
            </a:r>
            <a:endParaRPr b="0" lang="en-US" sz="18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09:10:15Z</dcterms:created>
  <dc:creator>PC</dc:creator>
  <dc:description/>
  <dc:language>en-US</dc:language>
  <cp:lastModifiedBy>Mjellma Carabregu</cp:lastModifiedBy>
  <dcterms:modified xsi:type="dcterms:W3CDTF">2012-06-25T09:26:11Z</dcterms:modified>
  <cp:revision>64</cp:revision>
  <dc:subject/>
  <dc:title>“INTROduction to the Standards and Guidelines for Quality Assurance in the European Higher Education Area”</dc:title>
</cp:coreProperties>
</file>