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8A1-D629-4F8F-9A9E-22AD5C84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4C0-D92F-4C38-BDA6-EF58E81D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CF2-A82C-4E1C-AEC5-7D3B12A0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644-4070-4C48-BB82-873B772A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E17-120B-43EA-AC08-F8BCC70D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243-B5C5-48CA-9520-C996A978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8FD-A8C0-4AAF-BEAF-D474C1C8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4F60-2D3B-4477-9798-821AFA78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879E-9292-4338-84C2-7059090B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DD08-6BB9-4DDA-B33E-E7E9FE49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57D-D64D-4A62-A211-2B7AEC1F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A64-8606-407E-A12F-508220E7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FD33-6AC2-4601-9168-FD9057466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jpeg"/><Relationship Id="rId10" Type="http://schemas.openxmlformats.org/officeDocument/2006/relationships/image" Target="../media/image2.pn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6600cc"/>
                </a:solidFill>
                <a:latin typeface="Palatino Linotype"/>
              </a:rPr>
              <a:t>UNIVERZITET XXI STOLJEĆA U KONCEPCIJI CJELOŽIVOTNOG UČEN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cc"/>
                </a:solidFill>
                <a:latin typeface="Palatino Linotype"/>
              </a:rPr>
              <a:t>Prof. dr Saša Mili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cc"/>
                </a:solidFill>
                <a:latin typeface="Palatino Linotype"/>
              </a:rPr>
              <a:t>Univerzitet Crne G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cc"/>
                </a:solidFill>
                <a:latin typeface="Palatino Linotype"/>
              </a:rPr>
              <a:t>24. jun 20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rcRect l="0" t="4625" r="0" b="26178"/>
          <a:stretch/>
        </p:blipFill>
        <p:spPr>
          <a:xfrm>
            <a:off x="0" y="58672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7176960" y="0"/>
            <a:ext cx="1967040" cy="99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6600cc"/>
                </a:solidFill>
                <a:latin typeface="Palatino Linotype"/>
              </a:rPr>
              <a:t>Barijere na putu obrazovanja u C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finansijske barijere</a:t>
            </a:r>
            <a:r>
              <a:rPr b="0" lang="hr-HR" sz="2800" spc="-1" strike="noStrike">
                <a:solidFill>
                  <a:srgbClr val="6600ff"/>
                </a:solidFill>
                <a:latin typeface="Palatino Linotype"/>
              </a:rPr>
              <a:t> (niska primanja)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geografske barijere</a:t>
            </a:r>
            <a:r>
              <a:rPr b="0" lang="hr-HR" sz="2800" spc="-1" strike="noStrike">
                <a:solidFill>
                  <a:srgbClr val="6600ff"/>
                </a:solidFill>
                <a:latin typeface="Palatino Linotype"/>
              </a:rPr>
              <a:t> (nedostupnost visokoškolskog obrazovanja u ruralnim i udaljenim područjim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socijalne i kulturne barijere</a:t>
            </a:r>
            <a:r>
              <a:rPr b="0" lang="hr-HR" sz="2800" spc="-1" strike="noStrike">
                <a:solidFill>
                  <a:srgbClr val="6600ff"/>
                </a:solidFill>
                <a:latin typeface="Palatino Linotype"/>
              </a:rPr>
              <a:t> (socijalno deprivirane i obrazovno 'zapuštene' kategorije stanovništva)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barijere nedostupnosti</a:t>
            </a:r>
            <a:r>
              <a:rPr b="0" lang="hr-HR" sz="2800" spc="-1" strike="noStrike">
                <a:solidFill>
                  <a:srgbClr val="6600ff"/>
                </a:solidFill>
                <a:latin typeface="Palatino Linotype"/>
              </a:rPr>
              <a:t> (za osobe sa pos. pot.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vremenske barijere</a:t>
            </a:r>
            <a:r>
              <a:rPr b="0" lang="hr-HR" sz="2800" spc="-1" strike="noStrike">
                <a:solidFill>
                  <a:srgbClr val="6600ff"/>
                </a:solidFill>
                <a:latin typeface="Palatino Linotype"/>
              </a:rPr>
              <a:t> (problemi vezani za osobe koje žele nastavak studiranja uz rad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rcRect l="0" t="4623" r="0" b="26197"/>
          <a:stretch/>
        </p:blipFill>
        <p:spPr>
          <a:xfrm>
            <a:off x="0" y="60199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7176960" y="0"/>
            <a:ext cx="1967040" cy="990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66"/>
                </a:solidFill>
                <a:latin typeface="Palatino Linotype"/>
              </a:rPr>
              <a:t>Promjene ostvarive kroz univerzitetsku strategiju LLL-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povećanje nivoa otvorenosti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povećanje nivoa dostup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diverzifikacija oblika i metoda rad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podizanje nivoa kvaliteta studentskih postignuć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kreiranje dodatnih izvora ‘prihoda’ za univerzitete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rcRect l="0" t="4625" r="0" b="26178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7176960" y="0"/>
            <a:ext cx="1967040" cy="990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9900cc"/>
                </a:solidFill>
                <a:latin typeface="Palatino Linotype"/>
              </a:rPr>
              <a:t>Ciljevi Strategije </a:t>
            </a:r>
            <a:br>
              <a:rPr sz="3600"/>
            </a:br>
            <a:r>
              <a:rPr b="1" lang="hr-HR" sz="3600" spc="-1" strike="noStrike">
                <a:solidFill>
                  <a:srgbClr val="9900cc"/>
                </a:solidFill>
                <a:latin typeface="Palatino Linotype"/>
              </a:rPr>
              <a:t>LLL na univerzitet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15235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Doprinos UCG razvoju koncepta cjeloživotnog učenja na nivou države</a:t>
            </a:r>
            <a:r>
              <a:rPr b="1" lang="en-US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Kreiranje uslova za razvoj univerz. cjeloživotnog učenja</a:t>
            </a:r>
            <a:r>
              <a:rPr b="1" lang="en-US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Razvoj univerzitetskog sistema cjeloživotnog učenja</a:t>
            </a:r>
            <a:r>
              <a:rPr b="1" lang="en-US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Razvoj multidisciplinarnosti studijskih programa</a:t>
            </a:r>
            <a:r>
              <a:rPr b="1" lang="en-US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Razvoj IT servisa u službi cjeloživotnog učenja</a:t>
            </a:r>
            <a:r>
              <a:rPr b="1" lang="en-US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Razvoj sistema podrške učenju populaciji 'trećeg doba'</a:t>
            </a:r>
            <a:r>
              <a:rPr b="1" lang="en-US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0" t="4625" r="0" b="26178"/>
          <a:stretch/>
        </p:blipFill>
        <p:spPr>
          <a:xfrm>
            <a:off x="0" y="58672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7176960" y="0"/>
            <a:ext cx="1967040" cy="99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560" y="13716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ff"/>
                </a:solidFill>
                <a:latin typeface="Palatino Linotype"/>
              </a:rPr>
              <a:t>„</a:t>
            </a:r>
            <a:r>
              <a:rPr b="1" lang="sr-Latn-CS" sz="3200" spc="-1" strike="noStrike">
                <a:solidFill>
                  <a:srgbClr val="6600ff"/>
                </a:solidFill>
                <a:latin typeface="Palatino Linotype"/>
              </a:rPr>
              <a:t>Obrazovanje mora biti pokretač mogućnosti i socijalne pravde, a ne odbrana i učvršćivanje privilegija. Moramo učiniti izvjesnim da mogućnosti koje visokoškolsko obrazovanje pruža budu dostupne svima koji mogu imati potencijalne koristi od njega...” DfES, 200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rcRect l="0" t="4625" r="0" b="26178"/>
          <a:stretch/>
        </p:blipFill>
        <p:spPr>
          <a:xfrm>
            <a:off x="0" y="58672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7176960" y="0"/>
            <a:ext cx="1967040" cy="99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ff"/>
                </a:solidFill>
                <a:latin typeface="Palatino Linotype"/>
              </a:rPr>
              <a:t>Bilo bi neophodno široko rasprostranjenu tendenciju da je obrazovanje odraslih dominantno određeno potrebama rada preispitati i nezanemarivati ili barem izbjeći marginalizaciju ostalih važnih obrazovnih potreba čovjeka, poput potrebe za kulturnim i umjetničkim spoznajama, razvojem građanske svijesti, te podizanjem nivoa kvaliteta društvenog živo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rcRect l="0" t="4625" r="0" b="26178"/>
          <a:stretch/>
        </p:blipFill>
        <p:spPr>
          <a:xfrm>
            <a:off x="0" y="58672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7176960" y="0"/>
            <a:ext cx="1967040" cy="990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6600cc"/>
                </a:solidFill>
                <a:latin typeface="Palatino Linotype"/>
              </a:rPr>
              <a:t>Principi učenja odrasli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učenje je bolje kada se naučeno može odmah primijeniti u kontekstu stvarnog život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Palatino Linotyp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učenje je bolje kada odrasli imaju kontrolu ili uticaj na obrazovni proce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Palatino Linotyp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učenje zavisi od prošlih i aktuelnih iskustav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4.    učenje zavisi od aktivnog učešća odraslih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rcRect l="0" t="4623" r="0" b="26197"/>
          <a:stretch/>
        </p:blipFill>
        <p:spPr>
          <a:xfrm>
            <a:off x="0" y="60199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7176960" y="0"/>
            <a:ext cx="1967040" cy="99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6600cc"/>
                </a:solidFill>
                <a:latin typeface="Palatino Linotype"/>
              </a:rPr>
              <a:t>Principi učenja odrasli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5. učenje zavisi od klime poštovanja i prijatnosti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6. učenje je bolje kada se postigne samo-usmjerenos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7. učenje je bolje kada se uspostave veze i</a:t>
            </a: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zmeđu različitih nastavnih oblasti (multidisciplinarnost)</a:t>
            </a: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8. učenje kod odraslih je bolje kada su polaznici uspješni u tom procesu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rcRect l="0" t="4623" r="0" b="26197"/>
          <a:stretch/>
        </p:blipFill>
        <p:spPr>
          <a:xfrm>
            <a:off x="0" y="60199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7176960" y="0"/>
            <a:ext cx="1967040" cy="990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6600cc"/>
                </a:solidFill>
                <a:latin typeface="Palatino Linotype"/>
              </a:rPr>
              <a:t>Efikasnost ljudskog procesa učen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rcRect l="0" t="4623" r="0" b="26197"/>
          <a:stretch/>
        </p:blipFill>
        <p:spPr>
          <a:xfrm>
            <a:off x="0" y="60199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7176960" y="0"/>
            <a:ext cx="1967040" cy="99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97488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1264680" y="1756440"/>
            <a:ext cx="6615360" cy="4487760"/>
            <a:chOff x="1264680" y="1756440"/>
            <a:chExt cx="6615360" cy="4487760"/>
          </a:xfrm>
        </p:grpSpPr>
        <p:sp>
          <p:nvSpPr>
            <p:cNvPr id="124" name="_s39945"/>
            <p:cNvSpPr/>
            <p:nvPr/>
          </p:nvSpPr>
          <p:spPr>
            <a:xfrm flipV="1">
              <a:off x="4020840" y="1756080"/>
              <a:ext cx="1102680" cy="747720"/>
            </a:xfrm>
            <a:custGeom>
              <a:avLst/>
              <a:gdLst>
                <a:gd name="textAreaLeft" fmla="*/ 395640 w 1102680"/>
                <a:gd name="textAreaRight" fmla="*/ 707040 w 1102680"/>
                <a:gd name="textAreaTop" fmla="*/ 268200 h 747720"/>
                <a:gd name="textAreaBottom" fmla="*/ 47952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cc00">
                <a:alpha val="69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100" spc="-1" strike="noStrike">
                  <a:solidFill>
                    <a:srgbClr val="000000"/>
                  </a:solidFill>
                  <a:latin typeface="Palatino Linotype"/>
                </a:rPr>
                <a:t>10% </a:t>
              </a:r>
              <a:r>
                <a:rPr b="1" lang="sl-SI" sz="1100" spc="-1" strike="noStrike">
                  <a:solidFill>
                    <a:srgbClr val="000000"/>
                  </a:solidFill>
                  <a:latin typeface="Palatino Linotype"/>
                </a:rPr>
                <a:t>pročitano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39946"/>
            <p:cNvSpPr/>
            <p:nvPr/>
          </p:nvSpPr>
          <p:spPr>
            <a:xfrm flipV="1">
              <a:off x="3469680" y="2504880"/>
              <a:ext cx="2205000" cy="747360"/>
            </a:xfrm>
            <a:custGeom>
              <a:avLst/>
              <a:gdLst>
                <a:gd name="textAreaLeft" fmla="*/ 484920 w 2205000"/>
                <a:gd name="textAreaRight" fmla="*/ 1720080 w 2205000"/>
                <a:gd name="textAreaTop" fmla="*/ 164160 h 747360"/>
                <a:gd name="textAreaBottom" fmla="*/ 583200 h 74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00cc">
                <a:alpha val="47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500" spc="-1" strike="noStrike">
                  <a:solidFill>
                    <a:srgbClr val="000066"/>
                  </a:solidFill>
                  <a:latin typeface="Palatino Linotype"/>
                </a:rPr>
                <a:t>20% onoga  što  čuju  od  dr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39947"/>
            <p:cNvSpPr/>
            <p:nvPr/>
          </p:nvSpPr>
          <p:spPr>
            <a:xfrm flipV="1">
              <a:off x="2918520" y="3251520"/>
              <a:ext cx="3307680" cy="747720"/>
            </a:xfrm>
            <a:custGeom>
              <a:avLst/>
              <a:gdLst>
                <a:gd name="textAreaLeft" fmla="*/ 574200 w 3307680"/>
                <a:gd name="textAreaRight" fmla="*/ 2733480 w 3307680"/>
                <a:gd name="textAreaTop" fmla="*/ 129600 h 747720"/>
                <a:gd name="textAreaBottom" fmla="*/ 61812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cc00">
                <a:alpha val="68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500" spc="-1" strike="noStrike">
                  <a:solidFill>
                    <a:srgbClr val="000066"/>
                  </a:solidFill>
                  <a:latin typeface="Palatino Linotype"/>
                </a:rPr>
                <a:t>30% onoga što vide, što im je vizuelno dostupn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39948"/>
            <p:cNvSpPr/>
            <p:nvPr/>
          </p:nvSpPr>
          <p:spPr>
            <a:xfrm flipV="1">
              <a:off x="2367000" y="4000320"/>
              <a:ext cx="4410360" cy="748080"/>
            </a:xfrm>
            <a:custGeom>
              <a:avLst/>
              <a:gdLst>
                <a:gd name="textAreaLeft" fmla="*/ 663480 w 4410360"/>
                <a:gd name="textAreaRight" fmla="*/ 3746880 w 4410360"/>
                <a:gd name="textAreaTop" fmla="*/ 112320 h 748080"/>
                <a:gd name="textAreaBottom" fmla="*/ 635760 h 74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d8c6d5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66"/>
                  </a:solidFill>
                  <a:latin typeface="Palatino Linotype"/>
                </a:rPr>
                <a:t>50% onoga  što  čuju  od  drugih  i što  im je vizuelno dostupno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39949"/>
            <p:cNvSpPr/>
            <p:nvPr/>
          </p:nvSpPr>
          <p:spPr>
            <a:xfrm flipV="1">
              <a:off x="1815840" y="4747680"/>
              <a:ext cx="5513040" cy="747720"/>
            </a:xfrm>
            <a:custGeom>
              <a:avLst/>
              <a:gdLst>
                <a:gd name="textAreaLeft" fmla="*/ 752760 w 5513040"/>
                <a:gd name="textAreaRight" fmla="*/ 4760280 w 5513040"/>
                <a:gd name="textAreaTop" fmla="*/ 101880 h 747720"/>
                <a:gd name="textAreaBottom" fmla="*/ 64584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00cc00">
                <a:alpha val="47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500" spc="-1" strike="noStrike">
                  <a:solidFill>
                    <a:srgbClr val="000066"/>
                  </a:solidFill>
                  <a:latin typeface="Palatino Linotype"/>
                </a:rPr>
                <a:t>70% onoga  što  izgovore,  razmijene  mišljenja  sa  drugima  i  napiš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39950"/>
            <p:cNvSpPr/>
            <p:nvPr/>
          </p:nvSpPr>
          <p:spPr>
            <a:xfrm flipV="1">
              <a:off x="1264680" y="5496480"/>
              <a:ext cx="6615360" cy="747360"/>
            </a:xfrm>
            <a:custGeom>
              <a:avLst/>
              <a:gdLst>
                <a:gd name="textAreaLeft" fmla="*/ 842040 w 6615360"/>
                <a:gd name="textAreaRight" fmla="*/ 5773320 w 6615360"/>
                <a:gd name="textAreaTop" fmla="*/ 95040 h 747360"/>
                <a:gd name="textAreaBottom" fmla="*/ 652320 h 74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9900cc">
                <a:alpha val="44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500" spc="-1" strike="noStrike">
                  <a:solidFill>
                    <a:srgbClr val="000066"/>
                  </a:solidFill>
                  <a:latin typeface="Palatino Linotype"/>
                </a:rPr>
                <a:t>90% onoga  što izgovore,  razmijene mišljenja sa drugima i konkretno ura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00cc"/>
                </a:solidFill>
                <a:latin typeface="Palatino Linotype"/>
              </a:rPr>
              <a:t>Stilovi učenja - Kol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Palatino Linotyp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stil učenja kroz konkretno iskustvo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Palatino Linotyp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stil učenja putem aktivnog eksperimentisanj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Palatino Linotyp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učenje kroz reflektivno posmatranje 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Palatino Linotyp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učenje kroz analitičko/apstraktno mišljenje.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rcRect l="0" t="4625" r="0" b="26178"/>
          <a:stretch/>
        </p:blipFill>
        <p:spPr>
          <a:xfrm>
            <a:off x="0" y="58672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7176960" y="0"/>
            <a:ext cx="1967040" cy="99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00cc"/>
                </a:solidFill>
                <a:latin typeface="Palatino Linotype"/>
              </a:rPr>
              <a:t>Confintea VI, 2011: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Kvalitet u učenju i obrazovanju odraslih je duboko povezan s ulogom nastavnika/edukatora, jer su oni jedan od najvažnijih elemenata kvaliteta obrazovanja odrasli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Mnoge zemlje se i dalje oslanjaju na neprofesionalne edukatore odrasli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Druge zemlje rade s volonterima koji su obučeni da rade kao edukatori odrasli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Generalno, postoji jasna namjera da se pronađu načini da se unaprijedi stručno osposobljavanje nastavnika – edukatora odrasli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0" t="4623" r="0" b="26197"/>
          <a:stretch/>
        </p:blipFill>
        <p:spPr>
          <a:xfrm>
            <a:off x="0" y="60199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7176960" y="0"/>
            <a:ext cx="1967040" cy="990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00cc"/>
                </a:solidFill>
                <a:latin typeface="Palatino Linotype"/>
              </a:rPr>
              <a:t>Trendovi</a:t>
            </a:r>
            <a:r>
              <a:rPr b="0" lang="hr-HR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4479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2010 – dostupno znanje se udvostručava svakh 7 godin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2030 – dostupno znanje će se udvostručavati svaka 72 dan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preko 1 milijarda ljudi je bazično nepismen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više od 150 miliona djece od 6-11 godina nema nikakav vid obrazovanj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uskoro će oko 50% poslova u EU zahtjevati minimum B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6"/>
          <a:srcRect l="0" t="4625" r="0" b="26178"/>
          <a:stretch/>
        </p:blipFill>
        <p:spPr>
          <a:xfrm>
            <a:off x="0" y="58672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7"/>
          <a:stretch/>
        </p:blipFill>
        <p:spPr>
          <a:xfrm>
            <a:off x="7176960" y="0"/>
            <a:ext cx="1967040" cy="99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8"/>
          <a:stretch/>
        </p:blipFill>
        <p:spPr>
          <a:xfrm>
            <a:off x="0" y="0"/>
            <a:ext cx="9144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66"/>
                </a:solidFill>
                <a:latin typeface="Palatino Linotype"/>
              </a:rPr>
              <a:t>Umjesto zaključ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ff"/>
                </a:solidFill>
                <a:latin typeface="Palatino Linotype"/>
              </a:rPr>
              <a:t>Kreiranje univerzitetske strategije cjeloživotnog učenja svakako jeste težak zadatak, jer podrazumijeva paradigmatske promjene, te strukturalne promjene i promjene u ponašanju. No, bilo kako bilo, to je posao koji se mora obavi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0" t="4625" r="0" b="26178"/>
          <a:stretch/>
        </p:blipFill>
        <p:spPr>
          <a:xfrm>
            <a:off x="0" y="58672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7176960" y="0"/>
            <a:ext cx="1967040" cy="990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7030a0"/>
                </a:solidFill>
                <a:latin typeface="Palatino Linotype"/>
              </a:rPr>
              <a:t>Trendovi</a:t>
            </a:r>
            <a:r>
              <a:rPr b="1" lang="sr-Latn-CS" sz="5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43,5 % stanovništva je ispod donje granice siromaštva (3 dolara dnevno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više od ½ radnika će svakih 5 god. mijenjati mjesto boravka, a poslodavca još češće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2050 – 9,2 milijarde stanovnik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2050 – 100-godišnjaci neće biti rijetkos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Evropa – 1/3 radno sposobnog stanovništva ima manje od njžeg srednjeg stupnja obrazovanja, a u zemljama u razvoju taj procenat je znatno veći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0" t="4625" r="0" b="26178"/>
          <a:stretch/>
        </p:blipFill>
        <p:spPr>
          <a:xfrm>
            <a:off x="0" y="58672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7176960" y="0"/>
            <a:ext cx="1967040" cy="99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6600cc"/>
                </a:solidFill>
                <a:latin typeface="Times New Roman"/>
              </a:rPr>
              <a:t>Osnovni razlozi za LLL na univerzitet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Palatino Linotype"/>
              </a:rPr>
              <a:t>Dva ključna socijalna trend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6600ff"/>
                </a:solidFill>
                <a:latin typeface="Palatino Linotype"/>
              </a:rPr>
              <a:t>ekonomski razvoj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hr-HR" sz="3200" spc="-1" strike="noStrike">
                <a:solidFill>
                  <a:srgbClr val="6600ff"/>
                </a:solidFill>
                <a:latin typeface="Palatino Linotype"/>
              </a:rPr>
              <a:t>starenje stanovništva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0" t="4625" r="0" b="26178"/>
          <a:stretch/>
        </p:blipFill>
        <p:spPr>
          <a:xfrm>
            <a:off x="0" y="58672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7176960" y="0"/>
            <a:ext cx="1967040" cy="99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6324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6600cc"/>
                </a:solidFill>
                <a:latin typeface="Palatino Linotype"/>
              </a:rPr>
              <a:t>Međunarodna komisija za  obrazovanje za 21. stoljeć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ff"/>
                </a:solidFill>
                <a:latin typeface="Palatino Linotype"/>
              </a:rPr>
              <a:t>Cjeloživotno učenje leži u temelju sva četiri osnovna stuba učenj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sr-Latn-CS" sz="3200" spc="-1" strike="noStrike">
                <a:solidFill>
                  <a:srgbClr val="6600ff"/>
                </a:solidFill>
                <a:latin typeface="Palatino Linotype"/>
              </a:rPr>
              <a:t>učenje za sticanje znanja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sr-Latn-CS" sz="3200" spc="-1" strike="noStrike">
                <a:solidFill>
                  <a:srgbClr val="6600ff"/>
                </a:solidFill>
                <a:latin typeface="Palatino Linotype"/>
              </a:rPr>
              <a:t>učenje za rad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sr-Latn-CS" sz="3200" spc="-1" strike="noStrike">
                <a:solidFill>
                  <a:srgbClr val="6600ff"/>
                </a:solidFill>
                <a:latin typeface="Palatino Linotype"/>
              </a:rPr>
              <a:t>učenje za postojanj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sr-Latn-CS" sz="3200" spc="-1" strike="noStrike">
                <a:solidFill>
                  <a:srgbClr val="6600ff"/>
                </a:solidFill>
                <a:latin typeface="Palatino Linotype"/>
              </a:rPr>
              <a:t>učenje kako bi se živjelo zajedno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0" t="4625" r="0" b="26178"/>
          <a:stretch/>
        </p:blipFill>
        <p:spPr>
          <a:xfrm>
            <a:off x="0" y="58672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7176960" y="0"/>
            <a:ext cx="196704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66"/>
                </a:solidFill>
                <a:latin typeface="Palatino Linotype"/>
              </a:rPr>
              <a:t>Sistemska rješenja LLL na univerzitetskom niv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Univerzitetska administracija objedinjava i logistički podržava različite fakultetske programe cjeloživotnog učenj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Part-time master programi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Otvoreni univerziteti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Instituti za cjeloživotno učenje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0" t="4623" r="0" b="26197"/>
          <a:stretch/>
        </p:blipFill>
        <p:spPr>
          <a:xfrm>
            <a:off x="0" y="60199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7176960" y="0"/>
            <a:ext cx="1967040" cy="99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66"/>
                </a:solidFill>
                <a:latin typeface="Palatino Linotype"/>
              </a:rPr>
              <a:t>“</a:t>
            </a:r>
            <a:r>
              <a:rPr b="1" lang="sr-Latn-CS" sz="3600" spc="-1" strike="noStrike">
                <a:solidFill>
                  <a:srgbClr val="000066"/>
                </a:solidFill>
                <a:latin typeface="Palatino Linotype"/>
              </a:rPr>
              <a:t>Cjeloživotno učenje za sve” - OEC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ff"/>
                </a:solidFill>
                <a:latin typeface="Palatino Linotype"/>
              </a:rPr>
              <a:t>“</a:t>
            </a:r>
            <a:r>
              <a:rPr b="1" lang="sr-Latn-CS" sz="3200" spc="-1" strike="noStrike">
                <a:solidFill>
                  <a:srgbClr val="6600ff"/>
                </a:solidFill>
                <a:latin typeface="Palatino Linotype"/>
              </a:rPr>
              <a:t>Doživotno učenje treba shvatiti kao sve aktivnosti učenja koje se vrše u toku cijelog života, s ciljem poboljšanja znanja, vještina i kompetencija u okviru ličnih, građanskih, socijalnih i/ili perspektiva u vezi sa zapošljenjem“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rcRect l="0" t="4623" r="0" b="26197"/>
          <a:stretch/>
        </p:blipFill>
        <p:spPr>
          <a:xfrm>
            <a:off x="0" y="60199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7176960" y="0"/>
            <a:ext cx="1967040" cy="99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6600cc"/>
                </a:solidFill>
                <a:latin typeface="Palatino Linotype"/>
              </a:rPr>
              <a:t>Obrazovanje odraslih </a:t>
            </a:r>
            <a:br>
              <a:rPr sz="4000"/>
            </a:br>
            <a:r>
              <a:rPr b="1" lang="hr-HR" sz="4000" spc="-1" strike="noStrike">
                <a:solidFill>
                  <a:srgbClr val="6600cc"/>
                </a:solidFill>
                <a:latin typeface="Palatino Linotype"/>
              </a:rPr>
              <a:t>u Crnoj Go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282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SzPct val="1029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radnički ili narodni univerziteti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centri za obuku pri preduzećim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programi do/prekvalifikacije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vanredno studiranje na višim/visokim školam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nepokrivenost državnim budžeto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dvojako finansiranje (samo ili poslodavac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orijentisano na početna znanja, pismenost i sl.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sr-Latn-CS" sz="2800" spc="-1" strike="noStrike">
                <a:solidFill>
                  <a:srgbClr val="6600ff"/>
                </a:solidFill>
                <a:latin typeface="Palatino Linotype"/>
              </a:rPr>
              <a:t>2000 – ukinut stari sistem ob.od., a novog nem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cc"/>
                </a:solidFill>
                <a:latin typeface="Palatino Linotype"/>
              </a:rPr>
              <a:t>                </a:t>
            </a:r>
            <a:r>
              <a:rPr b="1" lang="sr-Latn-CS" sz="2800" spc="-1" strike="noStrike">
                <a:solidFill>
                  <a:srgbClr val="6600cc"/>
                </a:solidFill>
                <a:latin typeface="Palatino Linotype"/>
              </a:rPr>
              <a:t>KOMPENZATORSKA ULO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9"/>
          <a:srcRect l="0" t="4623" r="0" b="26197"/>
          <a:stretch/>
        </p:blipFill>
        <p:spPr>
          <a:xfrm>
            <a:off x="0" y="60199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10"/>
          <a:stretch/>
        </p:blipFill>
        <p:spPr>
          <a:xfrm>
            <a:off x="7176960" y="0"/>
            <a:ext cx="1967040" cy="99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11"/>
          <a:stretch/>
        </p:blipFill>
        <p:spPr>
          <a:xfrm>
            <a:off x="0" y="0"/>
            <a:ext cx="9144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6600cc"/>
                </a:solidFill>
                <a:latin typeface="Palatino Linotype"/>
              </a:rPr>
              <a:t>Obrazovanje odraslih u Crnoj Gori i uloga UC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cc"/>
                </a:solidFill>
                <a:latin typeface="Palatino Linotype"/>
              </a:rPr>
              <a:t>  </a:t>
            </a:r>
            <a:r>
              <a:rPr b="1" lang="sr-Latn-CS" sz="2800" spc="-1" strike="noStrike">
                <a:solidFill>
                  <a:srgbClr val="6600cc"/>
                </a:solidFill>
                <a:latin typeface="Palatino Linotype"/>
              </a:rPr>
              <a:t>Odustvo vizije mjesta i uloge univerzitet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cc"/>
                </a:solidFill>
                <a:latin typeface="Palatino Linotype"/>
              </a:rPr>
              <a:t>  </a:t>
            </a:r>
            <a:r>
              <a:rPr b="1" lang="sr-Latn-CS" sz="2800" spc="-1" strike="noStrike">
                <a:solidFill>
                  <a:srgbClr val="6600cc"/>
                </a:solidFill>
                <a:latin typeface="Palatino Linotype"/>
              </a:rPr>
              <a:t>Zakon o obrazovanju odraslih ne pominje univerzite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cc"/>
                </a:solidFill>
                <a:latin typeface="Palatino Linotype"/>
              </a:rPr>
              <a:t>  </a:t>
            </a:r>
            <a:r>
              <a:rPr b="1" lang="sr-Latn-CS" sz="2800" spc="-1" strike="noStrike">
                <a:solidFill>
                  <a:srgbClr val="6600cc"/>
                </a:solidFill>
                <a:latin typeface="Palatino Linotype"/>
              </a:rPr>
              <a:t>Strategija obrazovanja odraslih pominje univerzitet krajnje formaln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ff"/>
                </a:solidFill>
                <a:latin typeface="Palatino Linotype"/>
              </a:rPr>
              <a:t>(</a:t>
            </a:r>
            <a:r>
              <a:rPr b="1" lang="hr-HR" sz="2000" spc="-1" strike="noStrike">
                <a:solidFill>
                  <a:srgbClr val="6600ff"/>
                </a:solidFill>
                <a:latin typeface="Palatino Linotype"/>
              </a:rPr>
              <a:t>„</a:t>
            </a:r>
            <a:r>
              <a:rPr b="1" lang="sl-SI" sz="2000" spc="-1" strike="noStrike">
                <a:solidFill>
                  <a:srgbClr val="6600ff"/>
                </a:solidFill>
                <a:latin typeface="Palatino Linotype"/>
              </a:rPr>
              <a:t>Univerzitet Crne Gore stvara uslove i mogućnosti za obrazovanje kadra za rad sa odraslima i afirmaciju doživotnog učenja</a:t>
            </a:r>
            <a:r>
              <a:rPr b="1" lang="hr-HR" sz="2000" spc="-1" strike="noStrike">
                <a:solidFill>
                  <a:srgbClr val="6600ff"/>
                </a:solidFill>
                <a:latin typeface="Palatino Linotype"/>
              </a:rPr>
              <a:t>“</a:t>
            </a:r>
            <a:r>
              <a:rPr b="0" lang="hr-HR" sz="2000" spc="-1" strike="noStrike">
                <a:solidFill>
                  <a:srgbClr val="6600ff"/>
                </a:solidFill>
                <a:latin typeface="Palatino Linotype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r>
              <a:rPr b="1" lang="hr-HR" sz="2800" spc="-1" strike="noStrike">
                <a:solidFill>
                  <a:srgbClr val="6600cc"/>
                </a:solidFill>
                <a:latin typeface="Palatino Linotype"/>
              </a:rPr>
              <a:t>Plan obrazovanja odraslih</a:t>
            </a:r>
            <a:r>
              <a:rPr b="1" lang="hr-HR" sz="2800" spc="-1" strike="noStrike">
                <a:solidFill>
                  <a:srgbClr val="6600ff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00ff"/>
                </a:solidFill>
                <a:latin typeface="Palatino Linotype"/>
              </a:rPr>
              <a:t>(univerzitet se nije našao na listi prioriteta – prioriteti su osnovno i stručno obrazovanje, životna sredina, treće doba, građanska demokratija, obuka kadra za ob.od..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5"/>
          <a:srcRect l="0" t="4623" r="0" b="26197"/>
          <a:stretch/>
        </p:blipFill>
        <p:spPr>
          <a:xfrm>
            <a:off x="0" y="60199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6"/>
          <a:stretch/>
        </p:blipFill>
        <p:spPr>
          <a:xfrm>
            <a:off x="7176960" y="0"/>
            <a:ext cx="1967040" cy="990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7"/>
          <a:stretch/>
        </p:blipFill>
        <p:spPr>
          <a:xfrm>
            <a:off x="0" y="0"/>
            <a:ext cx="9144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Biljana Zivkovic</dc:creator>
  <dc:description/>
  <dc:language>en-US</dc:language>
  <cp:lastModifiedBy>user</cp:lastModifiedBy>
  <dcterms:modified xsi:type="dcterms:W3CDTF">2011-06-21T19:24:21Z</dcterms:modified>
  <cp:revision>71</cp:revision>
  <dc:subject/>
  <dc:title>Development…..</dc:title>
</cp:coreProperties>
</file>