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A19-E2A1-408A-89A2-7D1E9812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0B9-A8C9-4DA9-8574-398EA8F8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858-7F92-4AEA-88FF-1402535D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38B-0D3B-4874-8D76-F4528ADD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942C-1ADE-4BC9-A35E-03B9656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959-F737-40D2-AF15-9F1C380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06C-5CAC-42E6-9B9F-E2D7BA65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943-A6E1-463C-AE37-A9DFC9DC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FAD4-F0D3-4D4D-9D9C-EB53900C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B63D-CC75-4CFD-A6D7-9D50AAE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34F4-88FA-4099-A5E3-D67F008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E58-7E78-4686-9B31-2E4B6DCF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BDA-5843-4FDD-8D4C-0794121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EE75-EEAE-4322-A72E-86D12C2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BBA-FF84-457D-A47F-7258D8A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4AC9-1BD0-4AF2-AA5B-F7A8D9B5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0B5-2D7C-4BA2-8D6D-54B3F71D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C152-80CD-49C6-8B53-316BF01E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EEB7-A1A3-4A9A-B44E-52A5701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08D1-1F4F-476D-A97E-C99BB9F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D085-D09B-4586-B269-CE37B672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0B37-E733-4DDB-862D-4DF4A917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3C-3EEA-4DB4-A8EA-5BDE437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46A5-7E7B-4FED-ADC1-9D60EB3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23A5-6E4C-462D-920E-9347355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B42E-F53C-41CA-BCE8-1608FA0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687F-5D0A-454B-88C5-CD07365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0EAD-1B07-4437-A5ED-3DD8590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E9AD-3CAE-4992-B079-A8819F7C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5AFB-97EB-405E-AE7D-FA4D6D1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1D4B-B4D8-4315-96FC-BCEF43E3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6219-9B29-4056-A50B-3D1B44E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A688-E119-40B1-92F5-0F67CDBC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18E-45F6-4101-8A93-FD6EC39A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7859-E82B-4946-9258-CEBE461A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291D-AF69-455D-9737-140FF20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BDE0-D92C-42AE-9AFC-005A803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8583-6A3A-47BE-A4A0-D0FC21C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EB7A-7062-4B01-A241-2D574682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3A8F-9FBA-4B75-866B-21B5E3B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A19C-93C1-4394-B21D-F51D7DE8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D833-6EB3-464B-870D-623E8D63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3B29-2042-4F7C-8CF2-13E27D8B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16AF-CB4E-4749-A74D-66617506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4FA-9490-4DC3-AB10-B4689DA9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E9CF-B1AF-46F1-88C7-7C84623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459B-D49F-495D-9D8F-45BA85AB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D5C7-773B-4DD3-824E-303B584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6CCF-B3FB-49D6-B481-3DCCE357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26DD-1441-4410-9869-7B7FD36C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DD1E-A56D-4ECB-9F23-F0B9BAF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9406-83C7-4A22-BF23-ACC003A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5E4A9-4A31-44C9-8164-7B3B4E9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0AAE-E013-4410-BFEF-10A1B0B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9B7C-B834-4303-B0FC-BF60FECF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97B-A376-4E7F-865B-BD63071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9F55-4ABB-4CF3-AE31-36B2BDC2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1D506-FC61-49DF-8EA6-CA4AE8A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7B94-3C39-40E4-B279-0F8A6F4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45EA-5763-480C-BA10-21196F7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E0BD-B98E-48DC-89A3-9D2E801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6B01-606D-48DA-8013-3818BE0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334F-E137-4952-9585-AE0FFAA3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BEC0-D0DE-43D5-BB68-007DF59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67FDC-B0C8-49E4-A118-ECA5771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2A94-690B-441B-9105-7B95E70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D4B-BB2E-464B-A3E1-2DAA8F1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36E3-268E-4E1B-8CE0-8849159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7DAC-287B-4AD8-9AD8-3126512F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08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94040" y="764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476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08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94040" y="359064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E8C2-CBB1-4B04-8CDC-0911C88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6320" y="3590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4C2-3879-4112-9CCE-762C374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64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6320" y="76464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7640" y="359064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421-69C5-4C7F-92FA-5A492CD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346-5AD2-49A1-AB18-B4D79C7DAF2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D61-76A3-4E6B-9864-7C54B8BB57A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033640" y="260280"/>
            <a:ext cx="5581440" cy="581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oor_view_clouds_hg_clr"/>
          <p:cNvPicPr/>
          <p:nvPr/>
        </p:nvPicPr>
        <p:blipFill>
          <a:blip r:embed="rId3"/>
          <a:stretch/>
        </p:blipFill>
        <p:spPr>
          <a:xfrm>
            <a:off x="7182000" y="4343400"/>
            <a:ext cx="176832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E5D6-6709-4228-B8AA-83984E7F4C6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547640" y="7646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ABA-2077-4693-813F-907AF091E1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37D-C753-4271-BC4C-ECEA7DFC15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F28-EC83-4302-99AA-B864AAC076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8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Cjeloživotno učenje i obrazovanje odraslih u Crnoj Gori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348000" y="4941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ntar za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stručno obrazovan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23. i 24. 06.2011. Podgo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entury Gothic"/>
              </a:rPr>
              <a:t>Prednosti za poslodavce - NQF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76360" y="1125000"/>
            <a:ext cx="71992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Lakše procjenjivanje nivoa i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opsega postignuća potencijalnog radnika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Nivoi postignuća su jednostavnije opisani i svi ih mogu razumje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Mogućnosti za obuku i prohodnost su mnogo jasniji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sr-Latn-CS" sz="2600" spc="-1" strike="noStrike">
                <a:solidFill>
                  <a:srgbClr val="333399"/>
                </a:solidFill>
                <a:latin typeface="Century Gothic"/>
              </a:rPr>
              <a:t>smjernice</a:t>
            </a: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 za poslodavce da pronađu pravu obuku i odgovarajuće kvalifikacij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Jednostavni mehanizam koji omogućava da se uvidi kako se kvalifikacije povezuju sa drugim kvalifikacijama u Crnoj Gori i inostranstvu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Prednosti za poslodavce NQF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47640" y="1052640"/>
            <a:ext cx="734544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Kvalifikacije imaju veći kredibilitet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one su pouzdaniji indikator onoga šta ljudi zaista mogu da ra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Rezultati učenja su više povezani sa potrebama tržišta rada i društvene zajedni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Kvalifikacije se mogu postići kroz široku lepezu načina učenja uključujući i učenje kod kuće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povećana fleksibilno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Century Gothic"/>
              </a:rPr>
              <a:t>Mogućnost za veću uključenost poslodavaca u proces identifikovanja potreba, razvijanje i provjeru kvalifikacija</a:t>
            </a:r>
            <a:r>
              <a:rPr b="1" lang="en-GB" sz="26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entury Gothic"/>
              </a:rPr>
              <a:t>Prednosti zajednice - NQF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47640" y="1052640"/>
            <a:ext cx="734544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Veća mogućnost izbora i fleksibilno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valifikacije treba da imaju veću vrijednost n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Tržištu rada, a samim tim će biti želje za njihov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sticanjem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Lakše je identifikovati prohodnost/put od jed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valifikacije do druge 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odrška cjeloživotno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učenju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ompatibilnost sa drugim kvalifikacijama 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okruženju  i Evropi tako da će biti lakse prijavit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se za posao ili nastaviti obraz. 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u inostranstvu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redit stečen na osnovu jedne kvalifikacije 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može prenijeti na drugu kvalifikaciju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n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nepotrebnog ponavljan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Century Gothic"/>
              </a:rPr>
              <a:t>Koristi za planiranje edukacije i obuke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Već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oherentnost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i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ompatibilnost unutar sistema kvalifikaci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- Fokus je veći na ishode koji se trebaju postići 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omoć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z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rocjenu uticaj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- Potencijal za smanjenje broja potrebnih različitih sistem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i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procedur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ovećana efikasn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- Uklanjanje barijera između različitih tipova i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nivo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osob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koja uče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i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rezultata učenja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ovećana fleksibilnost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,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pristup i ravnopravnost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Century Gothic"/>
              </a:rPr>
              <a:t>- P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ovećana transparentnost</a:t>
            </a:r>
            <a:r>
              <a:rPr b="1" lang="en-GB" sz="2400" spc="-1" strike="noStrike">
                <a:solidFill>
                  <a:srgbClr val="333399"/>
                </a:solidFill>
                <a:latin typeface="Century Gothic"/>
              </a:rPr>
              <a:t> – </a:t>
            </a:r>
            <a:r>
              <a:rPr b="1" lang="hr-HR" sz="2400" spc="-1" strike="noStrike">
                <a:solidFill>
                  <a:srgbClr val="333399"/>
                </a:solidFill>
                <a:latin typeface="Century Gothic"/>
              </a:rPr>
              <a:t>okvir pomaže krajnjim korisnicima da shvate kvalifikaci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333399"/>
                </a:solidFill>
                <a:latin typeface="Century Gothic"/>
              </a:rPr>
              <a:t>Za organizatore obrazovanja i obuk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47640" y="1341360"/>
            <a:ext cx="734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Opisuje postignuća i rezultate učenja jednostavnijim terminima koje razumiju i poslodavci i pojedinci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Mogućnost razvijanja fleksibilnijih programa koji odgovaraju individualnim potrebama osoba koje uče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Praćenje svih postignuća učenja kroz nacionalni inf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orma</a:t>
            </a: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cioni 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i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stem – </a:t>
            </a: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pa će osobama koje uče biti lakše da se vrate u sistem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Povećava uključivanje u različite oblike obrazovanja i učenja i prohodnost kroz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priznavanje</a:t>
            </a:r>
            <a:r>
              <a:rPr b="1" lang="en-GB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hr-HR" sz="2000" spc="-1" strike="noStrike">
                <a:solidFill>
                  <a:srgbClr val="333399"/>
                </a:solidFill>
                <a:latin typeface="Century Gothic"/>
              </a:rPr>
              <a:t>manjih djelova/modula </a:t>
            </a:r>
            <a:r>
              <a:rPr b="1" lang="sr-Latn-CS" sz="2000" spc="-1" strike="noStrike">
                <a:solidFill>
                  <a:srgbClr val="333399"/>
                </a:solidFill>
                <a:latin typeface="Century Gothic"/>
              </a:rPr>
              <a:t>i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 podsti</a:t>
            </a:r>
            <a:r>
              <a:rPr b="1" lang="sr-Latn-CS" sz="2000" spc="-1" strike="noStrike">
                <a:solidFill>
                  <a:srgbClr val="333399"/>
                </a:solidFill>
                <a:latin typeface="Century Gothic"/>
              </a:rPr>
              <a:t>če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 cjelo</a:t>
            </a:r>
            <a:r>
              <a:rPr b="1" lang="sr-Latn-CS" sz="2000" spc="-1" strike="noStrike">
                <a:solidFill>
                  <a:srgbClr val="333399"/>
                </a:solidFill>
                <a:latin typeface="Century Gothic"/>
              </a:rPr>
              <a:t>ž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votno u</a:t>
            </a:r>
            <a:r>
              <a:rPr b="1" lang="sr-Latn-CS" sz="2000" spc="-1" strike="noStrike">
                <a:solidFill>
                  <a:srgbClr val="333399"/>
                </a:solidFill>
                <a:latin typeface="Century Gothic"/>
              </a:rPr>
              <a:t>čen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Century Gothic"/>
              </a:rPr>
              <a:t>Predstavlja osnovu za priznavanje kvalifikacija unutar zemlje i na međunarodnom niv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059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odrška međunarodnih organizacij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47640" y="1000080"/>
            <a:ext cx="73821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DVV Interna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- G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- Kultur kontak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- Lux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- Britanski savj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Gothic"/>
              </a:rPr>
              <a:t>Nadležne institucije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71400" y="1213920"/>
            <a:ext cx="73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Centar za stručno obrazovan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Ispitni cent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vod za školst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vod za zapošljavan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Privredna komo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Unija poslodava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Uprava za kadr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Direkcija za razvoj malih i srednjih preduzeć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Stručna tijela koja treba da se osnuju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- Nacionalni Savjet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- Sekretarijat za kvalifikacije u okviru 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ganizatori ob. od. i programi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47640" y="1000080"/>
            <a:ext cx="7382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ICENCIRANIH ORGANIZATORA OB.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gram elementarnog funkcionalnog opis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gram 9-togodišnje osnovne škole za o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programa za osposobljavanje / prekvalifikaciju za zanimanj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6 akreditovanih programa org.obr. o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gram za sticanje preduzetničkih znanja i vješti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grama za e-biz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gram andragoškog osposobljavanja kadra i 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ff"/>
                </a:solidFill>
                <a:latin typeface="Century Gothic"/>
              </a:rPr>
              <a:t>ZAKONSKA LEGISLTAIV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47280" y="1000080"/>
            <a:ext cx="720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Opšti zakon o vaspitanju i obrazovanj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obrazovanju odrasli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stručnom obrazovanj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nacionalnim stručnim kvalifikacij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okviru nacionalnih kvalifikaci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regulisanim profesij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zapošljavanju i ostvarivanju prava iz osiguranja od nezaposleno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Zakon o ra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Prijedlog zakona o izmjenama i dopunama Zakona o profesionalnoj rehabilitaciji i zapošlavanju osoba sa invaliditeto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Pravilnici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99760" y="1071360"/>
            <a:ext cx="7358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uslovima za osnivanje ustanova obrazovanja i vaspitanja (objavljen u »Službeni list RCG«, br. 45/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nivou i profilu obrazovanja nastavnika predavača, voditelja, stručnih i drugih saradnik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načinu polaganja i rokovima za polaganje ispita koji se organizuju kod organizatora obrazovanja odrasli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načinu i postupku priznavanja inostranih sertifik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obliku i sadržaju sertifik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ravilnik o obliku i sadržaju i načinu vođenja održavanja i korišćenja podataka Centralnog regi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Pravilnici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142640"/>
            <a:ext cx="7310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avilnik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o načinu i postupku izdavanja i oduzimanja licence za ispitivače, obliku i sadržaju licence za ispitivač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avilnik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o sastavu i načinu rada ispitne komisi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 2011. treba da se done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avilnik o načinu i postupku polagan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jstorskog ispi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avilnik o uslovima, načinu, kriterijumima 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imu sprovođenja mjera aktivne politike zapoš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Dokument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47640" y="999720"/>
            <a:ext cx="7167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Strategija obrazovanja odraslih 2005-201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Plan obraz. odraslih 2010-201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Strateški plan razvoja stručnog obrazovan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Strategije preduzetničkog učen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Nacionalni akcioni plan zapoš. 2010-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Akcioni plan za integraciju osoba sa invaliditetom 2010-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U 2011 treba da se donesu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- Nacionalna strategija zapošljavanja 2012-20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- Nacionalna strategija cjeloživotne karijerne orjentacije 2011-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-  4 lokalne strategije zapošljavanja za opštine na sjeveru Crne G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Gothic"/>
              </a:rPr>
              <a:t>Metodološka dokumeta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02920" y="1218240"/>
            <a:ext cx="7311960" cy="521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Metodološke osnove izrade standar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zanimanja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Metodologija izrade obrazovnih program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tručnom obrazovanju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naliza potreba za obrazovanjem 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tručnim usavršavanjem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Metodologija za pripremanje i izvođenj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rograma obuke za odrasle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olazne osnove za prilagođavanj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zvođenja obrazovnih program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brazovanju odraslih u oblasti stručn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brazovanja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snove za izradu obrazovnih progra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 </a:t>
            </a:r>
            <a:r>
              <a:rPr b="1" lang="sl-SI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u višem stručnom obrazovanj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Metodološka dokument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28840" y="1071360"/>
            <a:ext cx="7286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Treba da se donesu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- Metodologija za vrednovanje i priznavanje neformalno i informalno stečenih znanja, vještina i kompetencij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-  Metodologija za svrstavanje kvalifikacija u CK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-  Metodologija za kreditno vrednovanje kvalifikacij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Formirana je radna grupa za modularizaciju i kreditno vrednovanje 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entury Gothic"/>
              </a:rPr>
              <a:t>Zakon o obrazovanju odraslih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7176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brazovanje odraslih je dio jedinstvenog sistema obrazovanja odrasli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brazovanje odraslih zasniva se na principu cjeloživotnog učen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brazovanje odraslih se odvija ka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- formalno obraz.       - neformalno obraz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- informalno obraz.    - samousmjereno uč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drasli mogu radi sticanja nacionalne stručne kvalifikacije, odnosno ključne vještine provjeravati, potvrđivati, odnosno dokazivati znanja, vještine i kompetencije u organizaciji Ispitnog centra, bez obzira na način njihovog sticanja, nakon čega se izdaje sertifika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71760" y="151920"/>
            <a:ext cx="7286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Gothic"/>
              </a:rPr>
              <a:t>Zakon o nacionalnim stručnim kvalifikacijam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71760" y="1357200"/>
            <a:ext cx="721512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Polaznik obrazovanja je odraslo lice koje se uključuje u programe obrazovanj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Poseban program usavršavanja u oblasti visokog obrazovanja – je poseban program obrazovanja odraslih, koji je akreditovao nadležni savjet i po kojem se izvodi obrazovanje lica koja su prethodno završila odgovarajući studijski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6:03:49Z</dcterms:created>
  <dc:creator>Supermen</dc:creator>
  <dc:description/>
  <dc:language>en-US</dc:language>
  <cp:lastModifiedBy>user</cp:lastModifiedBy>
  <dcterms:modified xsi:type="dcterms:W3CDTF">2011-06-21T06:48:45Z</dcterms:modified>
  <cp:revision>57</cp:revision>
  <dc:subject/>
  <dc:title>Blue Skies</dc:title>
</cp:coreProperties>
</file>