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9EC1-78A6-4782-97D2-5885C9C78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7AB2-964A-43AC-809B-A0503383F5D5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4F1-527E-4C31-8AA6-7B1794F9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FBC-2A33-4915-A440-C5A4785B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5B7FB-42D8-49D0-A640-77FCEC90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4E481-7EBD-4F37-BFCA-CCCBFC50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C59AC-562A-4C61-97A6-AC900545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4B26A-922C-4142-86BC-4DA6CD81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2FC57-7D10-4E0A-A6DE-0FC88793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928B7-93F8-4E50-B1B3-B8BB4E3D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BB6A0-7555-4AE8-88BB-C336DF3D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317A6-AF86-47CF-A6CB-7F75972C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3EC13-159D-403A-A181-2649F9AB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CD7-8E3E-4DDF-8C47-75C94270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EC7-3923-4154-A10F-89BA5B02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8EB5-159E-43DE-BC8D-93319358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AFF4-69CD-47BD-AD84-1458D504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D210-477A-4617-A7E0-844843D3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D343-E5F7-4D04-9FFA-F47331FE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0C6A-D9C4-44A0-A723-BDC564B4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92A9-C3DA-44D7-8CE3-5A8F3415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6DE5-33A6-4CB3-B7EC-B6B1AA12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CB9-86AD-4DE6-A601-4FA96CDB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12A0-2049-4C9A-8CDA-7129C2E7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9336-6A84-4ABE-9697-9CD6BAAD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030A-5E41-4C8A-8360-0C37E45C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F250-F8AD-4906-BB76-D7D7F845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45F7-34DE-4BC9-8CF8-7F2A923A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291AC-7CF1-45C7-BD87-C8E6FFAA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161E-7E70-4B55-BA9C-A835DA80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F062-67E6-42F9-8125-086BDF89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29358-21AA-4154-9405-24B678CF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E1435-2E60-4F5C-8BC4-286F7847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B52-53C8-419A-A62B-42F1BE29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852B7-C0BB-4DCB-93F5-18245123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A2D9-9ABE-4E6B-84AF-B520E7C4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F406-E1BD-4D7C-8D40-A006EF4B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19B27-E7BF-49AA-A8B6-5BA33BF8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7D483-2BA8-448C-8D90-AB07B4A3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DBD2-9C6C-4DC2-8FD1-3FF18C33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81895-6951-4D10-947B-383ECF5A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B5B6-A460-4D0E-9730-CD5FCD6B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D30D9-A1CA-44BF-9B03-0DE0A68A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F8B6-149E-45F5-B9BB-3A627ADD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790-3388-4EBC-828B-F52F509C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9538A-A057-4775-B02B-DC306428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75F6F-5414-4DB7-88A5-DB4FC29C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02EA9-114A-4A55-81FE-B6C90560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5BA92-A993-450C-BE51-86C83808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7B1B8-0D21-42C6-8CB3-F8100A43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09643-C4CB-42C7-AEDD-EF4CCB90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9A07A-4CA4-42F2-8888-2443D99C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2DF93-F515-4E69-A097-1ECBD352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EE26-3464-43C8-9CA1-9629B1D7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B9916-1764-498B-B76A-43EC7206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963-1798-4CD2-9FD2-473ABDD5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A7D41-25B2-429C-81BF-5C88A03B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383EC-4DA5-48CF-A8A6-F6EC57CD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11751-900F-47EC-AFE0-2639611E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47118-E8EB-4A3D-B0BF-06C28CB1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040F5-0F38-478C-AF50-ED41E76F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5224C-BB27-4AE7-B07C-8BE3030C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F65F5-08B2-4C5E-BEC4-9480F88D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47A51-9BFE-4BF0-A16A-1E2130DC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1E1F3-A51E-492E-9605-A2938FC7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057AF-2194-4880-B18A-44428A0D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4E6-7429-412D-AC84-6073F1E6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85392-1182-4CB3-8BCA-0EA9A1FF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D7FE4-DE3F-4B09-8B9E-4F81C149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EC3D4-360C-4C5E-921D-7202997D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1B2AB-E1C4-4B8D-B9E6-4CEDFFC6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8C4D6-40B1-4D14-8E71-9DEC4B7D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DFCED-C8E8-42A9-B9B6-4C8466B9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2DC2C-C097-4FB0-BD07-5506E811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1E868-E91C-458E-B0D5-597E5765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84B12-FE38-471F-9E4C-F5A6910C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21311-F9DD-4E7F-9816-4AB8C993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08F-B6F9-4D39-968C-C23FE275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A73AD-3F5A-42F7-8750-38F5F00C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572B6-DD27-4AF2-8414-B11EF988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3B279-C44C-44B3-A427-8BC7194A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810A6-DE70-4A17-8F3F-7A6BDBED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60221-F342-47D4-B4FB-35197BB0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8BB17-DD9E-4527-986B-5358B483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54704-52B3-4CB0-9B99-CECE743B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9D34C-0FC1-4A9C-94C2-4411DFDE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AFCC9-42B9-42BC-9E1B-A8C35F00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D1016-743E-4AAE-BB80-5F137536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E44-EA2E-4A23-8092-074453CE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1ED17-1456-401A-B31D-F8C41428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3BC89-C925-4061-B5B1-0325247C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E8B27-A9AC-43D5-9C81-740AD705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5CDA3-D6AD-4C38-AE61-1D507A1A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1BBED-B88A-47B8-82F7-9B83B30E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90281-6E90-4176-8DFC-3FC3CAC3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9B67E-374F-4106-A5BC-25971E7C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1077E-DDAC-4CA6-801B-148622EE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89778-6D8F-432B-85EE-4E9A1A89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1D6A4-73AB-4DEB-9C99-12558481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739-A462-42BE-8BAF-8EF7657D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00EC0-1F55-4522-89E7-1F33813D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314F4-2605-42E4-8C30-D7501CE8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1251F-CA39-4C73-B512-3F65E56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BF01F-2D7A-412C-8BF0-40E9F15A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9AF74-F629-4924-AAA6-AEBFF87C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8B542-7AB3-4894-98C7-9201747F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2225D-6E28-4C71-A8F1-A3E13884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E86F4-EF94-4A9E-B139-C1B6989D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F3A4C-A56B-4773-B988-5F125FA7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D34DB-AE46-499E-AEFE-B2A3A82D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678D-B2DF-46CA-B107-0B4AAA730900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Embedding Quality Assurance in Doctoral Education, Mostar 23.-25.05.2012. , B&amp;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75F6-E335-4E91-B64A-95709B5A89B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3BE2-BABE-4FFC-9802-514CF8D6C153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Embedding Quality Assurance in Doctoral Education, Mostar 23.-25.05.2012. , B&amp;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4A39-8893-4263-97CE-414D4D0ECBA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9EBF-0D9F-4E24-BF6C-FD70DF185CAC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Embedding Quality Assurance in Doctoral Education, Mostar 23.-25.05.2012. , B&amp;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4FBC-C8CB-4D5B-B082-D7742D508D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4806-441B-4FE5-BE3F-1F7B195847DF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Embedding Quality Assurance in Doctoral Education, Mostar 23.-25.05.2012. , B&amp;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4AD2-C765-4AF5-B640-5BA17FACB63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72B8-5ECA-4043-87CB-2BAB61BD7498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Embedding Quality Assurance in Doctoral Education, Mostar 23.-25.05.2012. , B&amp;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1B26-19FB-46B9-AABF-91C69CC9832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9D5F-AB8C-42E4-BD8F-999B2BEAAFE5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Embedding Quality Assurance in Doctoral Education, Mostar 23.-25.05.2012. , B&amp;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7D6F-A988-42C7-8E46-D1A8B66DB46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0ADC-04CD-4AA7-AF44-F9A768ED2F42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Embedding Quality Assurance in Doctoral Education, Mostar 23.-25.05.2012. , B&amp;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74C5-D77B-4BD5-BF23-AA05CA79CCF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F209-0B45-4034-ACC0-0F4961ECA4E0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Embedding Quality Assurance in Doctoral Education, Mostar 23.-25.05.2012. , B&amp;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C602-C338-465E-BF26-062570A4EBC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1DF3-1D38-4D92-860C-CF6AC6C8B2D8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Embedding Quality Assurance in Doctoral Education, Mostar 23.-25.05.2012. , B&amp;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E991-915B-485C-990C-FF9AD31492E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mailto:rektorat@unze.ba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darko.petkovic@unze.ba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Događanja na Univerzitetu u Zenici"/>
          <p:cNvPicPr/>
          <p:nvPr/>
        </p:nvPicPr>
        <p:blipFill>
          <a:blip r:embed="rId2"/>
          <a:stretch/>
        </p:blipFill>
        <p:spPr>
          <a:xfrm>
            <a:off x="2071800" y="571680"/>
            <a:ext cx="4857480" cy="478944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"/>
          <p:cNvSpPr/>
          <p:nvPr/>
        </p:nvSpPr>
        <p:spPr>
          <a:xfrm>
            <a:off x="1071720" y="55720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Arial"/>
              </a:rPr>
              <a:t>Training on Salzburg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Arial"/>
              </a:rPr>
              <a:t>¨Embedding Quality Assurance in Doctoral Education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Arial"/>
              </a:rPr>
              <a:t>EQADE (516891-TEMPUS-1-2011-1-DE-TEMPUS-S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Arial"/>
              </a:rPr>
              <a:t>Mostar, May 24-25, 201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e3b30"/>
                </a:solidFill>
                <a:latin typeface="Franklin Gothic Book"/>
              </a:rPr>
              <a:t>UNIVERZITET U ZENICI</a:t>
            </a:r>
            <a:r>
              <a:rPr b="1" lang="hr-HR" sz="2000" spc="-1" strike="noStrike">
                <a:solidFill>
                  <a:srgbClr val="4e3b30"/>
                </a:solidFill>
                <a:latin typeface="Franklin Gothic Book"/>
              </a:rPr>
              <a:t> (UNIVERSITY OF ZENICA) –  </a:t>
            </a:r>
            <a:r>
              <a:rPr b="1" lang="nl-NL" sz="2000" spc="-1" strike="noStrike">
                <a:solidFill>
                  <a:srgbClr val="4e3b30"/>
                </a:solidFill>
                <a:latin typeface="Franklin Gothic Book"/>
              </a:rPr>
              <a:t>UNIVERSITAS STUDIORUM ZENICAENSSIS</a:t>
            </a:r>
            <a:r>
              <a:rPr b="1" lang="hr-HR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nl-NL" sz="2000" spc="-1" strike="noStrike">
                <a:solidFill>
                  <a:srgbClr val="4e3b30"/>
                </a:solidFill>
                <a:latin typeface="Franklin Gothic Book"/>
              </a:rPr>
              <a:t>UNIVERSITY OF ZENIC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e3b30"/>
                </a:solidFill>
                <a:latin typeface="Franklin Gothic Book"/>
              </a:rPr>
              <a:t>Adress</a:t>
            </a:r>
            <a:r>
              <a:rPr b="0" lang="hr-HR" sz="2000" spc="-1" strike="noStrike">
                <a:solidFill>
                  <a:srgbClr val="4e3b30"/>
                </a:solidFill>
                <a:latin typeface="Franklin Gothic Book"/>
              </a:rPr>
              <a:t>: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e3b30"/>
                </a:solidFill>
                <a:latin typeface="Franklin Gothic Book"/>
              </a:rPr>
              <a:t>FAKULTETSKA</a:t>
            </a:r>
            <a:r>
              <a:rPr b="1" lang="hr-HR" sz="2000" spc="-1" strike="noStrike">
                <a:solidFill>
                  <a:srgbClr val="4e3b30"/>
                </a:solidFill>
                <a:latin typeface="Franklin Gothic Book"/>
              </a:rPr>
              <a:t> 3, 72 000 </a:t>
            </a:r>
            <a:r>
              <a:rPr b="1" lang="pl-PL" sz="2000" spc="-1" strike="noStrike">
                <a:solidFill>
                  <a:srgbClr val="4e3b30"/>
                </a:solidFill>
                <a:latin typeface="Franklin Gothic Book"/>
              </a:rPr>
              <a:t>ZENICA</a:t>
            </a:r>
            <a:r>
              <a:rPr b="1" lang="hr-HR" sz="20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1" lang="pl-PL" sz="2000" spc="-1" strike="noStrike">
                <a:solidFill>
                  <a:srgbClr val="4e3b30"/>
                </a:solidFill>
                <a:latin typeface="Franklin Gothic Book"/>
              </a:rPr>
              <a:t>BOSNA I HERECEGOVIN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e3b30"/>
                </a:solidFill>
                <a:latin typeface="Franklin Gothic Book"/>
              </a:rPr>
              <a:t>Official logo:</a:t>
            </a:r>
            <a:r>
              <a:rPr b="0" lang="pl-PL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e3b30"/>
                </a:solidFill>
                <a:latin typeface="Franklin Gothic Book"/>
              </a:rPr>
              <a:t>Tel.:</a:t>
            </a:r>
            <a:r>
              <a:rPr b="0" lang="pt-BR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pt-BR" sz="2000" spc="-1" strike="noStrike">
                <a:solidFill>
                  <a:srgbClr val="4e3b30"/>
                </a:solidFill>
                <a:latin typeface="Franklin Gothic Book"/>
              </a:rPr>
              <a:t>+ 387 32 444 430 + 387 32 444 420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e3b30"/>
                </a:solidFill>
                <a:latin typeface="Franklin Gothic Book"/>
              </a:rPr>
              <a:t>Fax.:</a:t>
            </a:r>
            <a:r>
              <a:rPr b="0" lang="pt-BR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pt-BR" sz="2000" spc="-1" strike="noStrike">
                <a:solidFill>
                  <a:srgbClr val="4e3b30"/>
                </a:solidFill>
                <a:latin typeface="Franklin Gothic Book"/>
              </a:rPr>
              <a:t>+ 387 32 444 431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e3b30"/>
                </a:solidFill>
                <a:latin typeface="Franklin Gothic Book"/>
              </a:rPr>
              <a:t>Web site:</a:t>
            </a:r>
            <a:r>
              <a:rPr b="0" lang="hr-HR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pt-BR" sz="2000" spc="-1" strike="noStrike">
                <a:solidFill>
                  <a:srgbClr val="4e3b30"/>
                </a:solidFill>
                <a:latin typeface="Franklin Gothic Book"/>
              </a:rPr>
              <a:t>www.unze.b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e3b30"/>
                </a:solidFill>
                <a:latin typeface="Franklin Gothic Book"/>
              </a:rPr>
              <a:t>T</a:t>
            </a:r>
            <a:r>
              <a:rPr b="0" lang="bs-BA" sz="2000" spc="-1" strike="noStrike">
                <a:solidFill>
                  <a:srgbClr val="4e3b30"/>
                </a:solidFill>
                <a:latin typeface="Franklin Gothic Book"/>
              </a:rPr>
              <a:t>YPE</a:t>
            </a:r>
            <a:r>
              <a:rPr b="0" lang="pt-BR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hr-HR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bs-BA" sz="2000" spc="-1" strike="noStrike">
                <a:solidFill>
                  <a:srgbClr val="4e3b30"/>
                </a:solidFill>
                <a:latin typeface="Franklin Gothic Book"/>
              </a:rPr>
              <a:t>PUBLIC INSTITU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4e3b30"/>
                </a:solidFill>
                <a:latin typeface="Franklin Gothic Book"/>
              </a:rPr>
              <a:t>NUMBER OF STUDENTS</a:t>
            </a:r>
            <a:r>
              <a:rPr b="0" lang="pt-BR" sz="20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1" lang="pt-BR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bs-BA" sz="2000" spc="-1" strike="noStrike">
                <a:solidFill>
                  <a:srgbClr val="4e3b30"/>
                </a:solidFill>
                <a:latin typeface="Franklin Gothic Book"/>
              </a:rPr>
              <a:t>6001 (76 PHD CANDIDATES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4e3b30"/>
                </a:solidFill>
                <a:latin typeface="Franklin Gothic Book"/>
              </a:rPr>
              <a:t>NUMBER OF STAFF:</a:t>
            </a:r>
            <a:r>
              <a:rPr b="1" lang="pt-BR" sz="20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1" lang="bs-BA" sz="2000" spc="-1" strike="noStrike">
                <a:solidFill>
                  <a:srgbClr val="4e3b30"/>
                </a:solidFill>
                <a:latin typeface="Franklin Gothic Book"/>
              </a:rPr>
              <a:t>14 (127 FULL TIME + 94 PART TIME + 194 GUESTS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4e3b30"/>
                </a:solidFill>
                <a:latin typeface="Franklin Gothic Book"/>
              </a:rPr>
              <a:t>STALNO ZAPOSLENIH</a:t>
            </a:r>
            <a:r>
              <a:rPr b="0" lang="pt-BR" sz="20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r>
              <a:rPr b="1" lang="bs-BA" sz="2000" spc="-1" strike="noStrike">
                <a:solidFill>
                  <a:srgbClr val="4e3b30"/>
                </a:solidFill>
                <a:latin typeface="Franklin Gothic Book"/>
              </a:rPr>
              <a:t>356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4e3b30"/>
                </a:solidFill>
                <a:latin typeface="Franklin Gothic Book"/>
              </a:rPr>
              <a:t>UKUPNI PROSTOR: </a:t>
            </a:r>
            <a:r>
              <a:rPr b="1" lang="pt-BR" sz="2000" spc="-1" strike="noStrike">
                <a:solidFill>
                  <a:srgbClr val="4e3b30"/>
                </a:solidFill>
                <a:latin typeface="Franklin Gothic Book"/>
              </a:rPr>
              <a:t>39 200 m</a:t>
            </a:r>
            <a:r>
              <a:rPr b="1" lang="pt-BR" sz="2000" spc="-1" strike="noStrike" baseline="30000">
                <a:solidFill>
                  <a:srgbClr val="4e3b30"/>
                </a:solidFill>
                <a:latin typeface="Franklin Gothic Book"/>
              </a:rPr>
              <a:t>2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e3b30"/>
                </a:solidFill>
                <a:latin typeface="Franklin Gothic Book"/>
              </a:rPr>
              <a:t>WEB ADRES</a:t>
            </a:r>
            <a:r>
              <a:rPr b="0" lang="bs-BA" sz="20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0" lang="pt-BR" sz="2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pt-BR" sz="20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rektorat@unze.b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10" name="Object 2"/>
          <p:cNvGraphicFramePr/>
          <p:nvPr/>
        </p:nvGraphicFramePr>
        <p:xfrm>
          <a:off x="7000920" y="2571840"/>
          <a:ext cx="1500120" cy="147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00920" y="2571840"/>
                    <a:ext cx="150012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4e3b30"/>
                </a:solidFill>
                <a:latin typeface="Franklin Gothic Book"/>
              </a:rPr>
              <a:t>Road Map is created for University of Zenica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4e3b30"/>
                </a:solidFill>
                <a:latin typeface="Franklin Gothic Book"/>
              </a:rPr>
              <a:t>Guidlines for PhD studies  - finished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4e3b30"/>
                </a:solidFill>
                <a:latin typeface="Franklin Gothic Book"/>
              </a:rPr>
              <a:t>Written regulations for PhD are created (</a:t>
            </a:r>
            <a:r>
              <a:rPr b="0" lang="hr-HR" sz="3200" spc="-1" strike="noStrike">
                <a:solidFill>
                  <a:srgbClr val="4e3b30"/>
                </a:solidFill>
                <a:latin typeface="Franklin Gothic Book"/>
              </a:rPr>
              <a:t>Rulebook on organisation of bachelor, master and doctoral study, </a:t>
            </a:r>
            <a:r>
              <a:rPr b="0" lang="sr-Latn-CS" sz="3200" spc="-1" strike="noStrike">
                <a:solidFill>
                  <a:srgbClr val="4e3b30"/>
                </a:solidFill>
                <a:latin typeface="Franklin Gothic Book"/>
              </a:rPr>
              <a:t>Regulations on the organization of doctoral studies, Procedures for reporting a doctoral dissertation in the organization of quality systems at the UNZE </a:t>
            </a:r>
            <a:r>
              <a:rPr b="0" lang="hr-HR" sz="32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e3b30"/>
                </a:solidFill>
                <a:latin typeface="Franklin Gothic Book"/>
              </a:rPr>
              <a:t>Team for developing PhD study programm is f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und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Footer Placeholder 3"/>
          <p:cNvSpPr/>
          <p:nvPr/>
        </p:nvSpPr>
        <p:spPr>
          <a:xfrm>
            <a:off x="2571840" y="6286680"/>
            <a:ext cx="4357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Embedding Quality Assurance in Doctoral Education, Mostar 23.-25.05.2012. , B&amp;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4e3b30"/>
                </a:solidFill>
                <a:latin typeface="Franklin Gothic Book"/>
              </a:rPr>
              <a:t>Joint PhD candidates data base on University/National level (e-platform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4e3b30"/>
                </a:solidFill>
                <a:latin typeface="Franklin Gothic Book"/>
              </a:rPr>
              <a:t>Content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4e3b30"/>
                </a:solidFill>
                <a:latin typeface="Franklin Gothic Book"/>
              </a:rPr>
              <a:t>PhD candidat name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4e3b30"/>
                </a:solidFill>
                <a:latin typeface="Franklin Gothic Book"/>
              </a:rPr>
              <a:t>Tutor name, Institution and field of research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4e3b30"/>
                </a:solidFill>
                <a:latin typeface="Franklin Gothic Book"/>
              </a:rPr>
              <a:t>Thesis tit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4e3b30"/>
                </a:solidFill>
                <a:latin typeface="Franklin Gothic Book"/>
              </a:rPr>
              <a:t>Research fiel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bs-BA" sz="2800" spc="-1" strike="noStrike">
                <a:solidFill>
                  <a:srgbClr val="4e3b30"/>
                </a:solidFill>
                <a:latin typeface="Franklin Gothic Book"/>
              </a:rPr>
              <a:t>Universtiy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2571840" y="6286680"/>
            <a:ext cx="414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Embedding Quality Assurance in Doctoral Education, Mostar 23.-25.05.2012. , B&amp;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2"/>
          <p:cNvSpPr/>
          <p:nvPr/>
        </p:nvSpPr>
        <p:spPr>
          <a:xfrm>
            <a:off x="0" y="51768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"/>
          <p:cNvSpPr/>
          <p:nvPr/>
        </p:nvSpPr>
        <p:spPr>
          <a:xfrm>
            <a:off x="0" y="441360"/>
            <a:ext cx="9144000" cy="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5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9"/>
          <p:cNvSpPr/>
          <p:nvPr/>
        </p:nvSpPr>
        <p:spPr>
          <a:xfrm>
            <a:off x="357120" y="1714680"/>
            <a:ext cx="80726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000000"/>
                </a:solidFill>
                <a:latin typeface="Comic Sans MS"/>
              </a:rPr>
              <a:t>Prof.Dr Darko Petkov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000000"/>
                </a:solidFill>
                <a:latin typeface="Comic Sans MS"/>
              </a:rPr>
              <a:t>vice.-rector of the University of Ze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bs-BA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bs-BA" sz="1800" spc="-1" strike="noStrike" u="sng">
                <a:solidFill>
                  <a:srgbClr val="ad1f1f"/>
                </a:solidFill>
                <a:uFillTx/>
                <a:latin typeface="Comic Sans MS"/>
                <a:hlinkClick r:id="rId2"/>
              </a:rPr>
              <a:t>darko.petkovic@unze.ba</a:t>
            </a:r>
            <a:r>
              <a:rPr b="1" lang="bs-BA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1"/>
          <p:cNvSpPr/>
          <p:nvPr/>
        </p:nvSpPr>
        <p:spPr>
          <a:xfrm>
            <a:off x="285840" y="350028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Arial"/>
              </a:rPr>
              <a:t>MSc Oruč Mir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Arial"/>
              </a:rPr>
              <a:t>mirza.oruc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Arial"/>
              </a:rPr>
              <a:t>Senior 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Arial"/>
              </a:rPr>
              <a:t>ECTS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5500800" y="3429000"/>
            <a:ext cx="285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Arial"/>
              </a:rPr>
              <a:t>Doc dr sc Malik Čabaravdi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Arial"/>
              </a:rPr>
              <a:t>mcabaravdic@mf.unze.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Arial"/>
              </a:rPr>
              <a:t>Assistant pro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11:25:40Z</dcterms:created>
  <dc:creator> </dc:creator>
  <dc:description/>
  <dc:language>en-US</dc:language>
  <cp:lastModifiedBy>SUS-IBM</cp:lastModifiedBy>
  <dcterms:modified xsi:type="dcterms:W3CDTF">2012-05-31T12:26:04Z</dcterms:modified>
  <cp:revision>10</cp:revision>
  <dc:subject/>
  <dc:title>Slide 1</dc:title>
</cp:coreProperties>
</file>