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F09F-690B-4F9F-B7CD-8C87C6A0A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9801-BF45-4DCC-BC2A-267AA899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A1C5-EFCC-493C-9D1F-FB15B32E2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16A7-1C3E-4517-A99F-62D27E220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8C14-3E2C-42E1-B2A1-18A889C40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95B4-47B4-4400-AC35-ED9ED1FD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AA42-EB03-4253-80C3-D9C205B1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D798-4D64-41B1-A522-E36F3D1D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3121-3977-41AA-A56F-AA0E262C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BEF8-EA26-4D0F-A557-EB989271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9C4C-D88F-4A3A-8122-B3914FCB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E986-1384-4A99-B59F-9280FDC9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5BD3-F8A7-4A61-899B-06EF1166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FF5D-68CC-4629-B033-623FC1BF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D006-9461-4B43-AD9E-75541C6B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CC9E-026B-4EF7-85BC-1509FF694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1B0E-F405-4FB8-B492-CDD3025B3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84BC-2B10-42D9-A51F-733C76D5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F268-B4F0-4755-AC9C-7118A8E1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CEBC-35C7-4147-ABC2-39941DDB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7B25-445F-49F6-961C-5EAE97DF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BD5E-35F9-4B26-ADC4-78F77156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ECFD-BC9E-49F4-8D86-5F0E9719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42F4-C8DC-4402-8172-2EDCE866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2A0B-1544-4262-B0DC-A72CCE0289F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5F69-FAF1-4D9C-91B2-519291A3EA8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4400" spc="-1" strike="noStrike">
                <a:solidFill>
                  <a:srgbClr val="eaeaea"/>
                </a:solidFill>
                <a:latin typeface="Tahoma"/>
              </a:rPr>
              <a:t>I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plemented and current activiti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ffffff"/>
                </a:solidFill>
                <a:latin typeface="Tahoma"/>
              </a:rPr>
              <a:t>University of Tuz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400" spc="-1" strike="noStrike">
                <a:solidFill>
                  <a:srgbClr val="ffffff"/>
                </a:solidFill>
                <a:latin typeface="Tahoma"/>
              </a:rPr>
              <a:t>Alma Huremov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400" spc="-1" strike="noStrike">
                <a:solidFill>
                  <a:srgbClr val="ffffff"/>
                </a:solidFill>
                <a:latin typeface="Tahoma"/>
              </a:rPr>
              <a:t>Azra Kurt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400" spc="-1" strike="noStrike">
                <a:solidFill>
                  <a:srgbClr val="ffffff"/>
                </a:solidFill>
                <a:latin typeface="Tahoma"/>
              </a:rPr>
              <a:t>Nijaz Tih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3200" spc="-1" strike="noStrike">
                <a:solidFill>
                  <a:srgbClr val="eaeaea"/>
                </a:solidFill>
                <a:latin typeface="Tahoma"/>
              </a:rPr>
              <a:t>Guidelin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fining the</a:t>
            </a:r>
            <a:r>
              <a:rPr b="1" lang="hr-B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valuation of MSc degree in ECTS points in the cycle III (MSc equivalent to 2 exams</a:t>
            </a:r>
            <a:r>
              <a:rPr b="1" lang="hr-BA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fining the number of c</a:t>
            </a:r>
            <a:r>
              <a:rPr b="1" lang="hr-BA" sz="2400" spc="-1" strike="noStrike">
                <a:solidFill>
                  <a:srgbClr val="ffffff"/>
                </a:solidFill>
                <a:latin typeface="Tahoma"/>
              </a:rPr>
              <a:t>ourse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with ECTS credits, </a:t>
            </a:r>
            <a:r>
              <a:rPr b="1" lang="hr-BA" sz="2400" spc="-1" strike="noStrike">
                <a:solidFill>
                  <a:srgbClr val="ffffff"/>
                </a:solidFill>
                <a:latin typeface="Tahoma"/>
              </a:rPr>
              <a:t>the number of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tact hours</a:t>
            </a:r>
            <a:r>
              <a:rPr b="1" lang="hr-B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 the first two semesters (first year students)</a:t>
            </a:r>
            <a:r>
              <a:rPr b="1" lang="hr-BA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 subjects per semester with a maximum of 30 contact hours per subj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3200" spc="-1" strike="noStrike">
                <a:solidFill>
                  <a:srgbClr val="eaeaea"/>
                </a:solidFill>
                <a:latin typeface="Tahoma"/>
              </a:rPr>
              <a:t>Guidelin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898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2400" spc="-1" strike="noStrike">
                <a:solidFill>
                  <a:srgbClr val="ffffff"/>
                </a:solidFill>
                <a:latin typeface="Tahoma"/>
              </a:rPr>
              <a:t>Defining the number of the research seminars per semester, including the presentation of the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achievements</a:t>
            </a:r>
            <a:r>
              <a:rPr b="1" lang="hr-BA" sz="2400" spc="-1" strike="noStrike">
                <a:solidFill>
                  <a:srgbClr val="ffffff"/>
                </a:solidFill>
                <a:latin typeface="Tahoma"/>
              </a:rPr>
              <a:t>  and results  in the research related to doctoral stu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3200" spc="-1" strike="noStrike">
                <a:solidFill>
                  <a:srgbClr val="eaeaea"/>
                </a:solidFill>
                <a:latin typeface="Tahoma"/>
              </a:rPr>
              <a:t>Guidelin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ng the evaluation of doctoral dissertations (60-90 ETCS point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commen</a:t>
            </a:r>
            <a:r>
              <a:rPr b="0" lang="hr-BA" sz="2800" spc="-1" strike="noStrike">
                <a:solidFill>
                  <a:srgbClr val="ffffff"/>
                </a:solidFill>
                <a:latin typeface="Tahoma"/>
              </a:rPr>
              <a:t>d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include  teachers from other univers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essential that representatives of the Faculty Council at the level of the Council Study Group implement the Guidelines and Rules on the third cycle - doctoral study at the University of Tuzl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3200" spc="-1" strike="noStrike">
                <a:solidFill>
                  <a:srgbClr val="eaeaea"/>
                </a:solidFill>
                <a:latin typeface="Tahoma"/>
              </a:rPr>
              <a:t>Mentor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sociate or full professor, or professor emeritus from the area of </a:t>
            </a:r>
            <a:r>
              <a:rPr b="0" lang="hr-BA" sz="2400" spc="-1" strike="noStrike">
                <a:solidFill>
                  <a:srgbClr val="ffffff"/>
                </a:solidFill>
                <a:latin typeface="Tahoma"/>
              </a:rPr>
              <a:t>thesi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400" spc="-1" strike="noStrike">
                <a:solidFill>
                  <a:srgbClr val="ffffff"/>
                </a:solidFill>
                <a:latin typeface="Tahoma"/>
              </a:rPr>
              <a:t>To hav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t least two scientific papers published in journals indexed in international bibliographic databases (SCI, CC) from the field of doctoral dissert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sist a PhD candidate in the choice of methods of scientific research, references, preparation of the structure of the dissertation, and he gives other professional help to the PhD candidat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blication of the PhD thesis </a:t>
            </a:r>
            <a:r>
              <a:rPr b="0" lang="hr-BA" sz="2800" spc="-1" strike="noStrike">
                <a:solidFill>
                  <a:srgbClr val="ffffff"/>
                </a:solidFill>
                <a:latin typeface="Tahoma"/>
              </a:rPr>
              <a:t>result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</a:t>
            </a:r>
            <a:r>
              <a:rPr b="0" lang="hr-BA" sz="2800" spc="-1" strike="noStrike">
                <a:solidFill>
                  <a:srgbClr val="ffffff"/>
                </a:solidFill>
                <a:latin typeface="Tahoma"/>
              </a:rPr>
              <a:t>obligatory before defen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andidate must have at least one scientific paper published in international journals indexed in international bibliographic databases (SCI, CC)</a:t>
            </a:r>
            <a:r>
              <a:rPr b="0" lang="hr-BA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Assessment and defense of the thesi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2800" spc="-1" strike="noStrike">
                <a:solidFill>
                  <a:srgbClr val="ffffff"/>
                </a:solidFill>
                <a:latin typeface="Tahoma"/>
              </a:rPr>
              <a:t>It is similar to previous ru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2800" spc="-1" strike="noStrike">
                <a:solidFill>
                  <a:srgbClr val="ffffff"/>
                </a:solidFill>
                <a:latin typeface="Tahoma"/>
              </a:rPr>
              <a:t>Commission consists from 3-5 teac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2800" spc="-1" strike="noStrike">
                <a:solidFill>
                  <a:srgbClr val="ffffff"/>
                </a:solidFill>
                <a:latin typeface="Tahoma"/>
              </a:rPr>
              <a:t>At least one should be from other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2800" spc="-1" strike="noStrike">
                <a:solidFill>
                  <a:srgbClr val="eaeaea"/>
                </a:solidFill>
                <a:latin typeface="Tahoma"/>
              </a:rPr>
              <a:t>Reaserach project and funding budget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4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BA" sz="4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BA" sz="4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BA" sz="4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BA" sz="4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BA" sz="8800" spc="-1" strike="noStrike">
                <a:solidFill>
                  <a:srgbClr val="ffff00"/>
                </a:solidFill>
                <a:latin typeface="Tahoma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3200" spc="-1" strike="noStrike">
                <a:solidFill>
                  <a:srgbClr val="eaeaea"/>
                </a:solidFill>
                <a:latin typeface="Tahoma"/>
              </a:rPr>
              <a:t>Current aciv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773000"/>
            <a:ext cx="75438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ment of Curriculum for the Doctoral study at the majority of faculty</a:t>
            </a:r>
            <a:r>
              <a:rPr b="0" lang="hr-B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finition of study</a:t>
            </a:r>
            <a:r>
              <a:rPr b="0" lang="hr-BA" sz="2400" spc="-1" strike="noStrike">
                <a:solidFill>
                  <a:srgbClr val="ffffff"/>
                </a:solidFill>
                <a:latin typeface="Tahoma"/>
              </a:rPr>
              <a:t>  progra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BA" sz="2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urses, admission criteria</a:t>
            </a:r>
            <a:r>
              <a:rPr b="0" lang="hr-BA" sz="2400" spc="-1" strike="noStrike">
                <a:solidFill>
                  <a:srgbClr val="ffffff"/>
                </a:solidFill>
                <a:latin typeface="Tahoma"/>
              </a:rPr>
              <a:t>, whole procedure od study at faculty leve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400" spc="-1" strike="noStrike">
                <a:solidFill>
                  <a:srgbClr val="ffffff"/>
                </a:solidFill>
                <a:latin typeface="Tahoma"/>
              </a:rPr>
              <a:t>Evaluation of study program at University level by Sen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400" spc="-1" strike="noStrike">
                <a:solidFill>
                  <a:srgbClr val="ffffff"/>
                </a:solidFill>
                <a:latin typeface="Tahoma"/>
              </a:rPr>
              <a:t>Approval of study progr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4400" spc="-1" strike="noStrike">
                <a:solidFill>
                  <a:srgbClr val="eaeaea"/>
                </a:solidFill>
                <a:latin typeface="Tahoma"/>
              </a:rPr>
              <a:t>Conclus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898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2800" spc="-1" strike="noStrike">
                <a:solidFill>
                  <a:srgbClr val="ffffff"/>
                </a:solidFill>
                <a:latin typeface="Tahoma"/>
              </a:rPr>
              <a:t>Doctoral study will include courses and resear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ctoral education requires sustainable and specific fun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2800" spc="-1" strike="noStrike">
                <a:solidFill>
                  <a:srgbClr val="ffffff"/>
                </a:solidFill>
                <a:latin typeface="Tahoma"/>
              </a:rPr>
              <a:t>It is necessery to promote i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tersectorial collaboration, cooperation between universities and nonacademic se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42920" y="1197000"/>
            <a:ext cx="662472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ama Arts Academ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ulty of Special Educ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ulty of Econom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ulty of La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ulty of Electrical Engineer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ulty of Physical Training and Spor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ulty of Philosoph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ulty of Machine Engineer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dical Facul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ulty of Pharmac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ulty of Scien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ulty of Mining, Geology and Civil Engineer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ulty of Technolog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2400" spc="-1" strike="noStrike">
                <a:solidFill>
                  <a:srgbClr val="eaeaea"/>
                </a:solidFill>
                <a:latin typeface="Tahoma"/>
              </a:rPr>
              <a:t>Faculties/Academy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In 2011 school yea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1788 bachelors, 176 masters, 48 do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16 739 students are currently stud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Key Decisions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4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cision of Senate of University-22.12. 2010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ULES ON THE THIRD CYLE STUDY-DOCTORAL STUDY AT UNIVERSITY OF TUZ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24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cision of Senate of University</a:t>
            </a:r>
            <a:r>
              <a:rPr b="1" lang="hr-BA" sz="2400" spc="-1" strike="noStrike">
                <a:solidFill>
                  <a:srgbClr val="ffffff"/>
                </a:solidFill>
                <a:latin typeface="Tahoma"/>
              </a:rPr>
              <a:t>, 19.10.2011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UIDELINES FOR PREPARATION OF STUDY PROGRAM OF THIRD CYCL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3200" spc="-1" strike="noStrike">
                <a:solidFill>
                  <a:srgbClr val="eaeaea"/>
                </a:solidFill>
                <a:latin typeface="Tahoma"/>
              </a:rPr>
              <a:t>Rules regulat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400" spc="-1" strike="noStrike">
                <a:solidFill>
                  <a:srgbClr val="ffffff"/>
                </a:solidFill>
                <a:latin typeface="Tahoma"/>
              </a:rPr>
              <a:t>The organization and implementation of doctoral stud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tructure of the study progr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400" spc="-1" strike="noStrike">
                <a:solidFill>
                  <a:srgbClr val="ffffff"/>
                </a:solidFill>
                <a:latin typeface="Tahoma"/>
              </a:rPr>
              <a:t>Enrolling proced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400" spc="-1" strike="noStrike">
                <a:solidFill>
                  <a:srgbClr val="ffffff"/>
                </a:solidFill>
                <a:latin typeface="Tahoma"/>
              </a:rPr>
              <a:t>Duration of the stud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400" spc="-1" strike="noStrike">
                <a:solidFill>
                  <a:srgbClr val="ffffff"/>
                </a:solidFill>
                <a:latin typeface="Tahoma"/>
              </a:rPr>
              <a:t>The mode of examination and research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400" spc="-1" strike="noStrike">
                <a:solidFill>
                  <a:srgbClr val="ffffff"/>
                </a:solidFill>
                <a:latin typeface="Tahoma"/>
              </a:rPr>
              <a:t>Application procedures, evaluation and defense of doctoral the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rocedure of appointment (and conditions)</a:t>
            </a:r>
            <a:r>
              <a:rPr b="0" lang="hr-BA" sz="2400" spc="-1" strike="noStrike">
                <a:solidFill>
                  <a:srgbClr val="ffffff"/>
                </a:solidFill>
                <a:latin typeface="Tahoma"/>
              </a:rPr>
              <a:t> of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entor</a:t>
            </a:r>
            <a:r>
              <a:rPr b="0" lang="hr-B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dure for assessment of doctoral </a:t>
            </a:r>
            <a:r>
              <a:rPr b="0" lang="hr-BA" sz="2400" spc="-1" strike="noStrike">
                <a:solidFill>
                  <a:srgbClr val="ffffff"/>
                </a:solidFill>
                <a:latin typeface="Tahoma"/>
              </a:rPr>
              <a:t>the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rocedure of defense of the doctoral </a:t>
            </a:r>
            <a:r>
              <a:rPr b="0" lang="hr-BA" sz="2400" spc="-1" strike="noStrike">
                <a:solidFill>
                  <a:srgbClr val="ffffff"/>
                </a:solidFill>
                <a:latin typeface="Tahoma"/>
              </a:rPr>
              <a:t>the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3200" spc="-1" strike="noStrike">
                <a:solidFill>
                  <a:srgbClr val="eaeaea"/>
                </a:solidFill>
                <a:latin typeface="Tahoma"/>
              </a:rPr>
              <a:t>Organization of stud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octoral studies are organized by </a:t>
            </a:r>
            <a:r>
              <a:rPr b="0" lang="hr-BA" sz="2400" spc="-1" strike="noStrike">
                <a:solidFill>
                  <a:srgbClr val="ffffff"/>
                </a:solidFill>
                <a:latin typeface="Tahoma"/>
              </a:rPr>
              <a:t>Faculty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hr-BA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ademy, together with other</a:t>
            </a:r>
            <a:r>
              <a:rPr b="0" lang="hr-B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igher education institutions or </a:t>
            </a:r>
            <a:r>
              <a:rPr b="0" lang="hr-BA" sz="2400" spc="-1" strike="noStrike">
                <a:solidFill>
                  <a:srgbClr val="ffffff"/>
                </a:solidFill>
                <a:latin typeface="Tahoma"/>
              </a:rPr>
              <a:t>by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Universities as </a:t>
            </a:r>
            <a:r>
              <a:rPr b="0" lang="hr-BA" sz="2400" spc="-1" strike="noStrike">
                <a:solidFill>
                  <a:srgbClr val="ffffff"/>
                </a:solidFill>
                <a:latin typeface="Tahoma"/>
              </a:rPr>
              <a:t>common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study with other Univers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study is organized in the scientific/artistic field for which the University </a:t>
            </a:r>
            <a:r>
              <a:rPr b="0" lang="hr-BA" sz="2400" spc="-1" strike="noStrike">
                <a:solidFill>
                  <a:srgbClr val="ffffff"/>
                </a:solidFill>
                <a:latin typeface="Tahoma"/>
              </a:rPr>
              <a:t>is accredited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fter finish</a:t>
            </a:r>
            <a:r>
              <a:rPr b="0" lang="hr-BA" sz="2400" spc="-1" strike="noStrike">
                <a:solidFill>
                  <a:srgbClr val="ffffff"/>
                </a:solidFill>
                <a:latin typeface="Tahoma"/>
              </a:rPr>
              <a:t>ing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of the doctoral study candidates acquire academic title: Doctor of Science / Arts in the corresponding scientific fiel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3200" spc="-1" strike="noStrike">
                <a:solidFill>
                  <a:srgbClr val="eaeaea"/>
                </a:solidFill>
                <a:latin typeface="Tahoma"/>
              </a:rPr>
              <a:t>Governing of the Stud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Doctoral study is conducted </a:t>
            </a:r>
            <a:r>
              <a:rPr b="1" lang="hr-BA" sz="2800" spc="-1" strike="noStrike">
                <a:solidFill>
                  <a:srgbClr val="ffffff"/>
                </a:solidFill>
                <a:latin typeface="Tahoma"/>
              </a:rPr>
              <a:t>by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ouncil f</a:t>
            </a:r>
            <a:r>
              <a:rPr b="1" lang="hr-BA" sz="2800" spc="-1" strike="noStrike">
                <a:solidFill>
                  <a:srgbClr val="ffffff"/>
                </a:solidFill>
                <a:latin typeface="Tahoma"/>
              </a:rPr>
              <a:t>or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Doctoral study, nominated by Teaching-Scientific Council </a:t>
            </a:r>
            <a:r>
              <a:rPr b="1" lang="hr-BA" sz="2800" spc="-1" strike="noStrike">
                <a:solidFill>
                  <a:srgbClr val="ffffff"/>
                </a:solidFill>
                <a:latin typeface="Tahoma"/>
              </a:rPr>
              <a:t>of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Faculty or Senate (consist from 5-7 members –teachers</a:t>
            </a:r>
            <a:r>
              <a:rPr b="1" lang="hr-BA" sz="2800" spc="-1" strike="noStrike">
                <a:solidFill>
                  <a:srgbClr val="ffffff"/>
                </a:solidFill>
                <a:latin typeface="Tahoma"/>
              </a:rPr>
              <a:t> at the study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2800" spc="-1" strike="noStrike">
                <a:solidFill>
                  <a:srgbClr val="ffffff"/>
                </a:solidFill>
                <a:latin typeface="Tahoma"/>
              </a:rPr>
              <a:t>One of the member of Council is Head of doctoral stu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3200" spc="-1" strike="noStrike">
                <a:solidFill>
                  <a:srgbClr val="eaeaea"/>
                </a:solidFill>
                <a:latin typeface="Tahoma"/>
              </a:rPr>
              <a:t>Organization of stud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Regular stu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Part time stu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Distance e-learning stu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ombination these three metho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3200" spc="-1" strike="noStrike">
                <a:solidFill>
                  <a:srgbClr val="eaeaea"/>
                </a:solidFill>
                <a:latin typeface="Tahoma"/>
              </a:rPr>
              <a:t>Guidelin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fining criteria for admission to doctoral studies in accordance with the Regulations of the third cycle - doctoral </a:t>
            </a:r>
            <a:r>
              <a:rPr b="1" lang="hr-BA" sz="2400" spc="-1" strike="noStrike">
                <a:solidFill>
                  <a:srgbClr val="ffffff"/>
                </a:solidFill>
                <a:latin typeface="Tahoma"/>
              </a:rPr>
              <a:t>study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at the University of Tuz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22:22:13Z</dcterms:created>
  <dc:creator>Dr. Nijaz Tihic</dc:creator>
  <dc:description/>
  <dc:language>en-US</dc:language>
  <cp:lastModifiedBy>SUS-IBM</cp:lastModifiedBy>
  <dcterms:modified xsi:type="dcterms:W3CDTF">2012-05-31T12:26:25Z</dcterms:modified>
  <cp:revision>24</cp:revision>
  <dc:subject/>
  <dc:title>Slide 1</dc:title>
</cp:coreProperties>
</file>