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1F0-9DA6-4FA9-BB02-042CC18A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DF9-B779-47DC-A5EF-B3FA4DE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7B41-8325-43B4-B62C-2860A9E7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3F4B4-0755-4637-ADFE-62CDEA00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07B66-93ED-4DFB-9357-EE64593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867C0-4E13-45DA-B0FC-7C689BF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12BC-1E1C-4EB1-95B3-0FB42060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A50C3-8FAA-4F38-81EA-ACC9858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199C5-FA77-42C3-9526-DE27983C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B3C6F-360C-432C-955E-950173A3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986FB-52B7-46DB-BABE-37878DE4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4CF-32DF-4B8A-A1A4-DA6A6D2F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F2A-5AD2-445D-B567-F45AD2B8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D9B6-E4C7-4B7D-8927-EFDB7BDD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182A-7B14-4B57-A171-CFDEECD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B576-493F-4667-B452-A8799222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1533-9606-4298-A062-60FB2A3A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F514-AB82-43EF-B3DE-492B9F3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2C76-324A-4EDA-BF49-92B0C12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F281-B98B-40F1-A2A3-EE312395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ED7-1BB0-40E1-90CC-EFC85CC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4083-FCA2-43A7-A4D7-57BA718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D066-2246-43A6-886F-6249A78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A7A3-BEC6-4554-A95A-A73D7A6A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56E5-AE0F-495F-8B6C-7BD72AD2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1E27-493F-4C66-88B2-EE3D5837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A1DAD-94B1-42AA-AAAB-16C8BF1E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FBDE-AA1E-433F-A391-B75322D3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F006-C2D4-4C06-AF9F-8A74DC0E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2624-D42A-4D90-8A4E-6B16C198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303B-E23D-4A29-B09A-CAC8762C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FF2-B608-488D-BEA2-D10E8C31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0552-CA39-49E4-BF11-4FCB03DE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3F7D-F184-41F9-892E-108BA488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3B4C-F428-4A1F-8F2A-62AE0C0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E97A-9BD6-42E1-A2B8-C76A3DB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16F0-2D2E-4BAB-9CA4-FEE7C10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2C6F-2268-4E5B-BB14-05B3077D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BF15-D3B8-4B3C-92F7-C6533CC0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D7AA-9D88-43C6-BE64-99AA7B39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82C0-557F-4255-8CB5-E989F0B2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1222D-F082-40FC-B5E6-07839B7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D43-6A59-42E5-9821-6D580A31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B4B6-5A1E-406F-85D7-CC588355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8D5E-88FC-42F5-93D5-24556728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7854-C62A-4F79-BEBC-86E7FD69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B34F-09E2-43CF-A813-96D86368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3943-1A22-4C57-8B81-1B78ECD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C43A-3E0C-4AAF-A3C9-EF53EFA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96F4-1D75-4AD7-B191-F36EC88A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BF24-89CD-4BF0-AD26-78B12CC8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35F8-C4BD-42DA-B309-E34D66C5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90EF-E405-498A-8EA6-38F12B1F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496-CEAF-4EDC-AEB1-B48D6B1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00B4-68ED-4A83-AD4C-D39F4A3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516A-42E4-4007-A96C-DFDAA20E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471AD-DEDD-471E-9E0D-17EF80A8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4EEC0-C32B-4590-AD74-EEE0BB25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7728-6837-494E-B09D-0B892905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A4078-DC7E-4DD8-B41A-6FBED4AB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57F44-25E1-4C39-972E-BC2B4EB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71605-05BD-4166-B499-DE33AF4D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8007-C876-460D-9471-048D5E0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845E-A006-42F6-861F-73AC1A71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60E-3AA2-4889-BB60-B44AB467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0E2A-F86F-42EA-91B3-0087A6EC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6F788-3534-4AC9-98D8-7208196F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399BE-9A6C-46C1-BB89-9570B6E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2C535-3290-480F-A547-FA7157E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F19F9-0AFC-4FD1-91BD-54B86B8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E791-4529-46D8-A077-DB8E0A32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CC07-C84B-4F64-BA05-CC05E85A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D153-4E33-4319-9E70-366F83A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0C38-DFC2-4257-88D3-3BF13A7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81A2-8581-4496-B795-1DEABE7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4DC-C858-4545-A79E-9172CB0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ADA9-112A-4531-A981-966CE65F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3B627-5B5E-4FAF-BFB6-EDE3936F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79C4-8ABF-4122-A7F3-ABBE1AE7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8DC7-3E61-4068-BCC9-02CBCFEA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0C994-C8B5-4D09-8269-56088D7D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98412-DDA6-478E-B45D-0D962F9A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16620-1894-4F31-B20A-5114C36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28D96-064C-4667-BB6D-6A51443F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6CA5-402F-48DC-8AA4-F5E7932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EADCB-ADA3-401A-982E-9412717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10D-76D2-42DF-AE1B-BC3A8BD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E47B-1400-4ABF-A1ED-55009907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C9FD0-D9D2-4DE2-A343-950B7A7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FD9E-1187-4FDE-B6BD-0055C86A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2FB7-1709-41B5-9F2C-FE70E4DB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2EF2-0742-4C94-9D76-6A8AC364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0BDB0-AAEB-4124-88E6-9DF69459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531E-B0BE-48A2-8BE6-596D962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6C40-EABF-4A18-AEBB-319438C1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85609-4570-45CA-9903-A660FBF7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81625-D834-4C04-966D-CD3F15E1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98C-6A52-4607-BA9D-5150C2C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56F33-128D-439C-855B-0706E490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11D17-9309-428A-AB3B-18B3142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8894C-507F-4A73-A104-5FD5EB8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A984-78B8-4B6A-8E62-0F22B7FA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0CBB0-35FF-4126-AB91-2C1820D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6AA0-E9CC-47AC-9E8B-3125F6DA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1DA9B-70CD-484E-9591-3D5D570C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7C16E-E560-4FE9-AC3F-F9CA359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FD842-EA2A-4989-B2CE-AE8539BD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56B91-FD29-4B9E-B94E-7AC2CFB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0737-C702-4BED-B7F9-88DF5C975751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AC0C-19AE-4227-B980-205D4D4CF95D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152360" y="2809800"/>
            <a:ext cx="686448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AC6F-25BB-4205-921C-DB416E57579B}" type="datetime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8D2B-C892-41A2-B25D-FE71CEF6EA3D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583-2F1C-451A-96D5-CEFB3E71DD21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89B3-53F3-4DED-B354-37AA5484EA58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1836-4670-4509-A410-E160FF44D32D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3EDE-DD6B-4E0F-9E3E-23399C5D97A6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2A2D-F415-48D8-845B-04CE72C20613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837-AC77-4A62-848C-20C9E68505C3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65AD-B6C8-476C-ACD6-6B1790D9E4B2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22F-817D-4905-B1A4-4182A214C576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671A-4619-4752-92C1-57EB210C31BC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FD61-DD80-414A-9A41-8B9CA168585C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50A0-02C7-488D-BF94-44AE9C0415F5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C75-5696-4B08-A803-6B675AE60837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56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65642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656136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B0E-9DD5-423B-A957-346D11E2D49D}" type="datetime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CB97-835D-4502-8A84-DFC37FB89BF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328680" y="360360"/>
            <a:ext cx="8504280" cy="21448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jan Bokonjic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drag Minic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rdjan Masic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nad Markovic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each PhD student must have a principal supervisor and when relevant at least one co-superviso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number of PhD students per supervisor must be compatible with the supervisor's workloa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upervisors must be scientifically qualified in the field concerne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upervisors must have regular consultations with their student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institution must ensure that training in supervision is available for all supervisor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83840" y="11124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4400" spc="-1" strike="noStrike">
                <a:solidFill>
                  <a:srgbClr val="895d1d"/>
                </a:solidFill>
                <a:latin typeface="Book Antiqua"/>
              </a:rPr>
              <a:t>5. SUPERVISION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upervisors should have broad local and international scientific networks to be able to introduce the PhD student into the scientific communit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5d1d"/>
                </a:solidFill>
                <a:latin typeface="Book Antiqua"/>
              </a:rPr>
              <a:t>5. SUPERVISION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D student should  acquired the skills to carry out independent, original and scientifically significant research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benchmark for the PhD thesis must be the outcome to be expected from 3-4 years’ research at international level and is the equivalent of at least three in extenso papers published in internationally recognized, peer-reviewed journal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6. PhD THESIS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D thesis must include a full review of the literature relevant to the themes in the papers, and a full account of the research aims, methodological considerations, results, discussion, conclusions and further perspectives of the PhD project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6. PhD THESIS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3466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acceptance of a PhD thesis must include acceptance of both the written thesis and a subsequent oral defence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6680" indent="-3466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PhD degrees must be awarded by the institution on the basis of a recommendation from an assessment committe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6680" indent="-3466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assessment committee must consist of established and active scientists-at least two should be from another institution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6680" indent="-3466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o avoid conflict of interest, the supervisor must not be a member of the assessment committee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6680" indent="-3466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rewriting the thesi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7. ASSESSMENT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graduate school must have sufficient resources for proper conduct of PhD programm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re should be procedures for regular review and updating of the structure, function and quality of PhD programm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re should be procedures for regular review and updating of the structure, function and quality of PhD programm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8. STRUCTURE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Orpheus-Organization for PhD education in Biomedicine and Health Sciences in the European system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Orpheus held first meeting in 2004 and 2005 and defined first standards/ Zagreb declaratio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In Vienna 2007/ cooperative network for PhD educatio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2010 Izmir –quality indicators for PhD train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Background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840"/>
            <a:ext cx="77472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present document proposes a set of standards for PhD programmes and the level of a PhD degree in biomedicin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document also builds on the pre-existing trilogy of WFME Global Standards for Quality Improvement in Medical Education (ref. 6), and the 2010 Salzburg II document of the EUA-CD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is document is the result of extensive discussions at all ORPHEUS annual meetings since 2004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Association of Medical Schools in Europe, Association for Medical Education in Europe, Federation of European Biochemical Societies, International Union of Basic and Clinical Pharmacology and WFM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21276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Document-set of standard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15520" y="2247840"/>
            <a:ext cx="85726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Book Antiqua"/>
              </a:rPr>
              <a:t>University of Bergen Norway 19-21 April 2012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Establishing evaluation in PhD train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698400" y="2897280"/>
            <a:ext cx="77472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98400" y="2247480"/>
            <a:ext cx="77472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strong research environment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the facilities available to the PhD students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research must be consistent with international ethical standards (</a:t>
            </a:r>
            <a:r>
              <a:rPr b="0" lang="tr-TR" sz="2800" spc="-1" strike="noStrike">
                <a:solidFill>
                  <a:srgbClr val="262626"/>
                </a:solidFill>
                <a:latin typeface="Book Antiqua"/>
              </a:rPr>
              <a:t>Helsinki Declaration </a:t>
            </a:r>
            <a:r>
              <a:rPr b="0" lang="fr-FR" sz="2800" spc="-1" strike="noStrike">
                <a:solidFill>
                  <a:srgbClr val="262626"/>
                </a:solidFill>
                <a:latin typeface="Book Antiqua"/>
              </a:rPr>
              <a:t>II (clinical), EU Directive 2010/63/EU (animal), 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and Oviedo Convention (bioethics).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collaboration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internationalization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5880" y="569880"/>
            <a:ext cx="87310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1. RESEARCH ENVIRONMENT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ompetences that enable PhD students to become a qualified researcher;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ompletion of a PhD programme must also be of potential benefit for those who end in careers outside of academic or clinical research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2. OUTCOMES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D students must be selected on the basis of a competitive and transparent proces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pplicants for a PhD programme must have an educational level corresponding to a master’s degre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scientific quality of the research project to be performed by the PhD student must be approve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degree to which the project encourages innovation and creativity,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qualifications of the nominated supervisors and resourc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56988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3. ADMISSION POLICY AND CRITERIA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D training programmes must be based on original research, courses and other activities which include analytical and critical think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D programmes must be performed under supervisio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D programmes must ensure that students have substantial training in the rules concerning ethics and responsible conduct in research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7480" indent="-3574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D programmes must be structured with a clear time limit, a length equivalent to 3-4 years full time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56988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4. PhD TRAINING PROGRAMME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programme must include formalized courses totaling about 6 months (~30 ECTS points) parallel with the PhD project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36108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re must be arrangements to allow PhD students, if relevant, to perform part of their PhD programme at another institution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36108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continuous assessment of the progress of PhD student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36108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sis committee and representatives of the PhD students should interact with the leadership of the graduate school regarding the design, management and evaluation of PhD programme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163440" y="569880"/>
            <a:ext cx="93074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4. PhD TRAINING PROGRAMME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18:11Z</dcterms:created>
  <dc:creator>dejan bokonjic</dc:creator>
  <dc:description/>
  <dc:language>en-US</dc:language>
  <cp:lastModifiedBy>SUS-IBM</cp:lastModifiedBy>
  <dcterms:modified xsi:type="dcterms:W3CDTF">2012-05-31T12:20:10Z</dcterms:modified>
  <cp:revision>15</cp:revision>
  <dc:subject/>
  <dc:title>Standards for PhD education in Biomedicine and Health Sciences in Europe</dc:title>
</cp:coreProperties>
</file>