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6286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642760" y="2639520"/>
            <a:ext cx="6286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4276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86404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21384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93640" y="21384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642760" y="263952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68200" y="263952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893640" y="263952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642760" y="213840"/>
            <a:ext cx="628668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6286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786040" y="5357520"/>
            <a:ext cx="614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4276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642760" y="213840"/>
            <a:ext cx="628668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86404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42760" y="2639520"/>
            <a:ext cx="6286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6286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42760" y="2639520"/>
            <a:ext cx="6286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64276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86404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68200" y="21384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93640" y="21384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642760" y="263952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768200" y="263952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893640" y="263952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42760" y="213840"/>
            <a:ext cx="628668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6286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6286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786040" y="5357520"/>
            <a:ext cx="614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4276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86404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42760" y="2639520"/>
            <a:ext cx="6286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6286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42760" y="2639520"/>
            <a:ext cx="6286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4276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86404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68200" y="21384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93640" y="21384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42760" y="263952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768200" y="263952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893640" y="2639520"/>
            <a:ext cx="202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786040" y="5357520"/>
            <a:ext cx="614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64276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864040" y="263952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4276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64040" y="213840"/>
            <a:ext cx="3067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42760" y="2639520"/>
            <a:ext cx="6286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2760" y="213840"/>
            <a:ext cx="6286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21"/>
          <p:cNvGrpSpPr/>
          <p:nvPr/>
        </p:nvGrpSpPr>
        <p:grpSpPr>
          <a:xfrm>
            <a:off x="-785880" y="500040"/>
            <a:ext cx="9787320" cy="6794640"/>
            <a:chOff x="-785880" y="500040"/>
            <a:chExt cx="9787320" cy="6794640"/>
          </a:xfrm>
        </p:grpSpPr>
        <p:sp>
          <p:nvSpPr>
            <p:cNvPr id="39" name="Round Single Corner Rectangle 4"/>
            <p:cNvSpPr/>
            <p:nvPr/>
          </p:nvSpPr>
          <p:spPr>
            <a:xfrm>
              <a:off x="-571320" y="500040"/>
              <a:ext cx="9572760" cy="6644160"/>
            </a:xfrm>
            <a:custGeom>
              <a:avLst/>
              <a:gdLst>
                <a:gd name="textAreaLeft" fmla="*/ 0 w 9572760"/>
                <a:gd name="textAreaRight" fmla="*/ 9376920 w 9572760"/>
                <a:gd name="textAreaTop" fmla="*/ 0 h 6644160"/>
                <a:gd name="textAreaBottom" fmla="*/ 6644520 h 6644160"/>
              </a:gdLst>
              <a:ahLst/>
              <a:rect l="textAreaLeft" t="textAreaTop" r="textAreaRight" b="textAreaBottom"/>
              <a:pathLst>
                <a:path w="9572692" h="6644215">
                  <a:moveTo>
                    <a:pt x="0" y="0"/>
                  </a:moveTo>
                  <a:lnTo>
                    <a:pt x="8903354" y="0"/>
                  </a:lnTo>
                  <a:lnTo>
                    <a:pt x="8903354" y="0"/>
                  </a:lnTo>
                  <a:arcTo wR="669338" hR="669338" stAng="-5399995" swAng="5400000"/>
                  <a:lnTo>
                    <a:pt x="9572692" y="6644215"/>
                  </a:lnTo>
                  <a:lnTo>
                    <a:pt x="0" y="6644215"/>
                  </a:lnTo>
                  <a:close/>
                </a:path>
              </a:pathLst>
            </a:custGeom>
            <a:noFill/>
            <a:ln w="19080">
              <a:solidFill>
                <a:srgbClr val="d223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ounded Rectangle 5"/>
            <p:cNvSpPr/>
            <p:nvPr/>
          </p:nvSpPr>
          <p:spPr>
            <a:xfrm>
              <a:off x="4286160" y="1785960"/>
              <a:ext cx="115236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23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ounded Rectangle 7"/>
            <p:cNvSpPr/>
            <p:nvPr/>
          </p:nvSpPr>
          <p:spPr>
            <a:xfrm>
              <a:off x="-785880" y="1071360"/>
              <a:ext cx="115236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23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ounded Rectangle 8"/>
            <p:cNvSpPr/>
            <p:nvPr/>
          </p:nvSpPr>
          <p:spPr>
            <a:xfrm>
              <a:off x="2714400" y="3571920"/>
              <a:ext cx="500040" cy="500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23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ounded Rectangle 9"/>
            <p:cNvSpPr/>
            <p:nvPr/>
          </p:nvSpPr>
          <p:spPr>
            <a:xfrm>
              <a:off x="1928520" y="2428920"/>
              <a:ext cx="642960" cy="650880"/>
            </a:xfrm>
            <a:custGeom>
              <a:avLst/>
              <a:gdLst>
                <a:gd name="textAreaLeft" fmla="*/ 31320 w 642960"/>
                <a:gd name="textAreaRight" fmla="*/ 611640 w 642960"/>
                <a:gd name="textAreaTop" fmla="*/ 31320 h 650880"/>
                <a:gd name="textAreaBottom" fmla="*/ 619560 h 650880"/>
              </a:gdLst>
              <a:ahLst/>
              <a:rect l="textAreaLeft" t="textAreaTop" r="textAreaRight" b="textAreaBottom"/>
              <a:pathLst>
                <a:path w="21600" h="21866">
                  <a:moveTo>
                    <a:pt x="3600" y="0"/>
                  </a:moveTo>
                  <a:arcTo wR="3600" hR="3600" stAng="16200000" swAng="-5400000"/>
                  <a:lnTo>
                    <a:pt x="0" y="18266"/>
                  </a:lnTo>
                  <a:arcTo wR="3600" hR="3600" stAng="10800000" swAng="-5400000"/>
                  <a:lnTo>
                    <a:pt x="18000" y="21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223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ounded Rectangle 10"/>
            <p:cNvSpPr/>
            <p:nvPr/>
          </p:nvSpPr>
          <p:spPr>
            <a:xfrm>
              <a:off x="142560" y="2643120"/>
              <a:ext cx="928440" cy="86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23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ounded Rectangle 11"/>
            <p:cNvSpPr/>
            <p:nvPr/>
          </p:nvSpPr>
          <p:spPr>
            <a:xfrm>
              <a:off x="928440" y="3857760"/>
              <a:ext cx="115236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23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ounded Rectangle 12"/>
            <p:cNvSpPr/>
            <p:nvPr/>
          </p:nvSpPr>
          <p:spPr>
            <a:xfrm>
              <a:off x="1214280" y="1785960"/>
              <a:ext cx="357120" cy="365040"/>
            </a:xfrm>
            <a:custGeom>
              <a:avLst/>
              <a:gdLst>
                <a:gd name="textAreaLeft" fmla="*/ 17280 w 357120"/>
                <a:gd name="textAreaRight" fmla="*/ 339840 w 357120"/>
                <a:gd name="textAreaTop" fmla="*/ 17280 h 365040"/>
                <a:gd name="textAreaBottom" fmla="*/ 347760 h 365040"/>
              </a:gdLst>
              <a:ahLst/>
              <a:rect l="textAreaLeft" t="textAreaTop" r="textAreaRight" b="textAreaBottom"/>
              <a:pathLst>
                <a:path w="21600" h="22079">
                  <a:moveTo>
                    <a:pt x="3600" y="0"/>
                  </a:moveTo>
                  <a:arcTo wR="3600" hR="3600" stAng="16200000" swAng="-5400000"/>
                  <a:lnTo>
                    <a:pt x="0" y="18479"/>
                  </a:lnTo>
                  <a:arcTo wR="3600" hR="3600" stAng="10800000" swAng="-5400000"/>
                  <a:lnTo>
                    <a:pt x="18000" y="220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223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ounded Rectangle 13"/>
            <p:cNvSpPr/>
            <p:nvPr/>
          </p:nvSpPr>
          <p:spPr>
            <a:xfrm>
              <a:off x="3071880" y="1357200"/>
              <a:ext cx="428400" cy="42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23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14"/>
            <p:cNvSpPr/>
            <p:nvPr/>
          </p:nvSpPr>
          <p:spPr>
            <a:xfrm>
              <a:off x="-182520" y="6205680"/>
              <a:ext cx="115236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23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ffffff"/>
                  </a:solidFill>
                  <a:latin typeface="Franklin Gothic Medium"/>
                </a:rPr>
                <a:t>Higher Education Develop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ounded Rectangle 15"/>
            <p:cNvSpPr/>
            <p:nvPr/>
          </p:nvSpPr>
          <p:spPr>
            <a:xfrm>
              <a:off x="2265120" y="6215400"/>
              <a:ext cx="115236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1ad4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360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ffffff"/>
                  </a:solidFill>
                  <a:latin typeface="Franklin Gothic Medium"/>
                </a:rPr>
                <a:t>Arts &amp; Cul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ounded Rectangle 16"/>
            <p:cNvSpPr/>
            <p:nvPr/>
          </p:nvSpPr>
          <p:spPr>
            <a:xfrm>
              <a:off x="3490920" y="6205680"/>
              <a:ext cx="115092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93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ffffff"/>
                  </a:solidFill>
                  <a:latin typeface="Franklin Gothic Medium"/>
                </a:rPr>
                <a:t>Higher Education &amp; Human Righ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ounded Rectangle 17"/>
            <p:cNvSpPr/>
            <p:nvPr/>
          </p:nvSpPr>
          <p:spPr>
            <a:xfrm>
              <a:off x="1041120" y="6205680"/>
              <a:ext cx="115236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cb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ffffff"/>
                  </a:solidFill>
                  <a:latin typeface="Franklin Gothic Medium"/>
                </a:rPr>
                <a:t>Linking Higher Education &amp; Econom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Grafik 17" descr="wus logo.png"/>
          <p:cNvPicPr/>
          <p:nvPr/>
        </p:nvPicPr>
        <p:blipFill>
          <a:blip r:embed="rId2"/>
          <a:stretch/>
        </p:blipFill>
        <p:spPr>
          <a:xfrm>
            <a:off x="5940360" y="6119640"/>
            <a:ext cx="2770200" cy="54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642760" y="213840"/>
            <a:ext cx="6286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 Single Corner Rectangle 3"/>
          <p:cNvSpPr/>
          <p:nvPr/>
        </p:nvSpPr>
        <p:spPr>
          <a:xfrm>
            <a:off x="-241200" y="5072040"/>
            <a:ext cx="9144000" cy="1571760"/>
          </a:xfrm>
          <a:custGeom>
            <a:avLst/>
            <a:gdLst>
              <a:gd name="textAreaLeft" fmla="*/ 0 w 9144000"/>
              <a:gd name="textAreaRight" fmla="*/ 9067320 w 914400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9144000" h="1571625">
                <a:moveTo>
                  <a:pt x="0" y="0"/>
                </a:moveTo>
                <a:lnTo>
                  <a:pt x="8882057" y="0"/>
                </a:lnTo>
                <a:lnTo>
                  <a:pt x="8882057" y="0"/>
                </a:lnTo>
                <a:arcTo wR="261943" hR="261943" stAng="-5400000" swAng="5400000"/>
                <a:lnTo>
                  <a:pt x="9144000" y="1571625"/>
                </a:lnTo>
                <a:lnTo>
                  <a:pt x="0" y="1571625"/>
                </a:lnTo>
                <a:close/>
              </a:path>
            </a:pathLst>
          </a:custGeom>
          <a:gradFill rotWithShape="0">
            <a:gsLst>
              <a:gs pos="0">
                <a:srgbClr val="d2232a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0" y="4795920"/>
            <a:ext cx="3929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ffff"/>
                </a:solidFill>
                <a:latin typeface="Franklin Gothic Medium"/>
              </a:rPr>
              <a:t>WUS 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2642760" y="213840"/>
            <a:ext cx="6286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dino.mujkic@wus-austria.org" TargetMode="External"/><Relationship Id="rId2" Type="http://schemas.openxmlformats.org/officeDocument/2006/relationships/hyperlink" Target="http://www.wus-austria.org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728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en-US" sz="2500" spc="-1" strike="noStrike">
                <a:solidFill>
                  <a:srgbClr val="777777"/>
                </a:solidFill>
                <a:latin typeface="Franklin Gothic Medium"/>
              </a:rPr>
              <a:t>”</a:t>
            </a:r>
            <a:br>
              <a:rPr sz="2500"/>
            </a:br>
            <a:br>
              <a:rPr sz="2500"/>
            </a:br>
            <a:r>
              <a:rPr b="0" lang="bs-BA" sz="2200" spc="-1" strike="noStrike">
                <a:solidFill>
                  <a:srgbClr val="7f7f7f"/>
                </a:solidFill>
                <a:latin typeface="Franklin Gothic Medium"/>
              </a:rPr>
              <a:t>TRAINING ON SALZBURG PRINCIPLES</a:t>
            </a:r>
            <a:br>
              <a:rPr sz="2200"/>
            </a:br>
            <a:r>
              <a:rPr b="0" lang="en-US" sz="2200" spc="-1" strike="noStrike">
                <a:solidFill>
                  <a:srgbClr val="7f7f7f"/>
                </a:solidFill>
                <a:latin typeface="Franklin Gothic Medium"/>
              </a:rPr>
              <a:t>„Embedding Quality Assurance in Doctoral Education –</a:t>
            </a:r>
            <a:br>
              <a:rPr sz="2200"/>
            </a:br>
            <a:r>
              <a:rPr b="0" lang="bs-BA" sz="2200" spc="-1" strike="noStrike">
                <a:solidFill>
                  <a:srgbClr val="7f7f7f"/>
                </a:solidFill>
                <a:latin typeface="Franklin Gothic Medium"/>
              </a:rPr>
              <a:t>EQADE (516891-TEMPUS-1-2011-1-DE-TEMPUS-SMGR)“</a:t>
            </a:r>
            <a:br>
              <a:rPr sz="2200"/>
            </a:br>
            <a:r>
              <a:rPr b="0" lang="bs-BA" sz="2200" spc="-1" strike="noStrike">
                <a:solidFill>
                  <a:srgbClr val="7f7f7f"/>
                </a:solidFill>
                <a:latin typeface="Franklin Gothic Medium"/>
              </a:rPr>
              <a:t>Mostar</a:t>
            </a:r>
            <a:br>
              <a:rPr sz="2200"/>
            </a:br>
            <a:r>
              <a:rPr b="0" lang="bs-BA" sz="2200" spc="-1" strike="noStrike">
                <a:solidFill>
                  <a:srgbClr val="7f7f7f"/>
                </a:solidFill>
                <a:latin typeface="Franklin Gothic Medium"/>
              </a:rPr>
              <a:t>May 24 - 25, 2012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47280" y="422064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f7f7f"/>
                </a:solidFill>
                <a:latin typeface="Arial"/>
              </a:rPr>
              <a:t>Dino Mujkic, M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13840"/>
            <a:ext cx="83185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ation: doctoral programmes should operate within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ropriate time duration (three to four years fulltime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as a ru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213840"/>
            <a:ext cx="8605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motion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novative stru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o meet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 of interdisciplinary training and the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development of transferable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9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213840"/>
            <a:ext cx="8605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ing mo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octoral programmes should seek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offer geographical as well as 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disciplinary and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sectoral mobility and international collaboration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an integrated framework of cooperation between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universities and other part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10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213840"/>
            <a:ext cx="8605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priate fun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quality doctoral programmes and the success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ion by doctoral candidates requires appropriate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and sustainable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000000"/>
                </a:solidFill>
                <a:latin typeface="Franklin Gothic Medium"/>
              </a:rPr>
              <a:t>Dublin Descriptors    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84360" y="214200"/>
            <a:ext cx="824544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Qualifications that signify completion of the third cycle are award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students wh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Calibri"/>
              </a:rPr>
              <a:t>- have demonstrated a systematic understanding of a field of study and mastery of the skills and methods of research associated with that fiel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Calibri"/>
              </a:rPr>
              <a:t>- have demonstrated the ability to conceive, design, implement and adapt a substantial process of research with scholarly integr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Calibri"/>
              </a:rPr>
              <a:t>- have made a contribution through original research that extends the frontier of knowledge by developing a substantial body of work, some of which merits national or international refereed public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Calibri"/>
              </a:rPr>
              <a:t>- are capable of critical analysis, evaluation and synthesis of new and complex ide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Calibri"/>
              </a:rPr>
              <a:t>- can communicate with their peers, the larger scholarly community and with society in general about their areas of experti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Calibri"/>
              </a:rPr>
              <a:t>- can be expected to be able to promote, within academic and professional contexts, technological, social or cultural advancement in a knowledge based socie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5977080" cy="42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53964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THANK YOU</a:t>
            </a:r>
            <a:r>
              <a:rPr b="0" lang="bs-BA" sz="3600" spc="-1" strike="noStrike">
                <a:solidFill>
                  <a:srgbClr val="000000"/>
                </a:solidFill>
                <a:latin typeface="Franklin Gothic Medium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2276640"/>
            <a:ext cx="7488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Dino Mujkić, Regional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no.mujkic@wus-austria.org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wus-austria.org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000000"/>
                </a:solidFill>
                <a:latin typeface="Franklin Gothic Medium"/>
              </a:rPr>
              <a:t>3. Cycle  - Begining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50920" y="47628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rlin Communique 2003 added a third cycle to the Bologna process to include doctor education and promote links between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ropean Research Area (ERA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ropean Higher Education Area</a:t>
            </a:r>
            <a:r>
              <a:rPr b="1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H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Franklin Gothic Medium"/>
              </a:rPr>
              <a:t>Salzburg Principle</a:t>
            </a:r>
            <a:br>
              <a:rPr sz="3200"/>
            </a:br>
            <a:r>
              <a:rPr b="0" lang="bs-BA" sz="3200" spc="-1" strike="noStrike">
                <a:solidFill>
                  <a:srgbClr val="000000"/>
                </a:solidFill>
                <a:latin typeface="Franklin Gothic Medium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213840"/>
            <a:ext cx="8678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tandards for establishing and implemen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3. Cyc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00240" y="522900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213840"/>
            <a:ext cx="8390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re component of doctoral training is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ancement of knowledg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ough orig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ear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t the same time it is recognised that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toral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 must increasingly meet the needs of an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ment market that is wider than academia.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13840"/>
            <a:ext cx="84614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mbedding in institutional strategies and polic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versities as institutions need to assume responsibility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nsuring that the doctoral programmes and research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 they offer are designed to meet new challenges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include appropriate professional career development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opportun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89000"/>
            <a:ext cx="8374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ortance of divers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rich diversity of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toral programmes in Europe – including joint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torates – is a strength which has to be underpinned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quality and sound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213840"/>
            <a:ext cx="8390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toral candidates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stage research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hould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recognized as professionals – with commensurate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s – who make a key contribution to the creation of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new knowled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630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ucial role of supervi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ssessment: in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ect of individual doctoral candidates, arrangements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supervision and assessment should be based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a transparent contractual framework of shared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ibilities between doctoral candidates, supervisors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he institution (and where appropriate inclu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other partne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86040" y="535752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hieving critical m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octoral programmes should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achieve critical mass and should draw on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types of innovative practice being introduced in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ies across Europe, bearing in mind that different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s may be appropriate to different contexts and inparticular across larger and smaller European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ange from graduate schools in major 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versities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ternational, national and regional collaboration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between universitie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8:00:08Z</dcterms:created>
  <dc:creator>Nina</dc:creator>
  <dc:description/>
  <dc:language>en-US</dc:language>
  <cp:lastModifiedBy>SUS-IBM</cp:lastModifiedBy>
  <dcterms:modified xsi:type="dcterms:W3CDTF">2012-05-31T12:31:26Z</dcterms:modified>
  <cp:revision>73</cp:revision>
  <dc:subject/>
  <dc:title>Slide 1</dc:title>
</cp:coreProperties>
</file>