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811-6F7B-41DB-BF9F-84DF501B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8A2-8EFD-4889-9D5C-712D93B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AC0-A4D9-40C6-B019-586744BD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261-71E4-49AE-8442-715A0139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CBB0-CD7D-4014-9C32-97504944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C89A-E42A-4776-9A69-C92F1FC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B37F-171A-4550-B31F-24E5A469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202E-8D50-44B0-BA96-DA29FF3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DFDF-66B2-4703-B215-60F0D6D9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57D9-90D6-4A95-8026-2DE993A4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8F18-1D5C-4C64-AC03-56210E1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BF2-F0D3-4035-B5E6-EEFBEF8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7DE-10AA-46D8-8807-704B621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336-079C-4E00-B3BA-9A3CC0A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E156-CC43-4A10-8AD4-1800A63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E1F0-4A66-4F0C-8340-B358F3B3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5DFE-D7A6-455C-9A02-6FB729E2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3F1A-5DC5-483B-B5D1-AEBB067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8628-7DAA-4273-A590-562CA9F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A749-1749-407C-B960-67CE26F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D1B9-6F0A-48EE-91DD-4B278D8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0631-A72D-4EB3-8342-B5E8992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611-B45F-4E1F-A843-9B93262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91F5-E36B-4D26-A982-3C3EE0CC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974D-53A7-4FBE-9997-EB10501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6053-29CF-4BB6-AD6E-4BE4576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7E7F-FAE8-4CDD-9965-A143A36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D9E6-98AC-4E3C-8AEA-401E824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C36D-265D-447E-B6EF-9CF1A1CF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C982-48E0-4763-BCD9-A3953E39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2722-E740-4E63-94A1-548605E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AD43-4D28-4899-A641-2C6AA0E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1462-8AFC-4AA3-9CA9-D210A1E3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31A-4F23-431E-B491-2DBBA83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6AAB-5088-4CE4-9E2E-5C3E91E1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1260-C502-4BE6-AD5C-D7958CB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A95F-C0E1-497F-B9D6-41A07E41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A2BC-DE00-495C-B900-9BD111F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B72B-F649-4F3C-9526-5F8ADAE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CB28-5441-4CD3-B375-C435BCB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4A3F-64F7-4FC8-AD0F-77988A9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0F48-54BA-4BD8-92F5-C2FEC4BA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4692-1BF5-44CB-A2E0-99671808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3804-5DDA-4B1A-AA48-FB9FF5EF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FA1-96AB-4246-9AB7-7E5C0780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7634-C407-4766-832C-9FA6AE9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66E4-FEBA-4880-803D-02961B0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5F18-80CD-4881-9912-2FDBA6F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5841-37D9-4782-A35A-841ED31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BEF3-97CC-4FBD-9EEB-B38A1C4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3B57-893F-4505-9158-1DC84AB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C755-B0AF-4E97-88D1-BA402A8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B21F-42C0-4AC3-82BF-DC77F800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08DF0-FA4A-4B2A-8898-24B571AC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5BE1-03A4-42E9-A83F-5C23756B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553-8489-4171-BCDF-3633462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2798-2A5F-44D3-80F7-F81AEC5F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674-1758-4B2D-A994-DEA41AB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143-F848-400C-BD93-0CCC147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0BE-BABB-4FBB-8FB7-C5C1A0B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131-CC92-4106-9768-1AD4A4E164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9F3-2746-4CFE-8DD4-0E9DDFC97CE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10E-6E90-4DFF-9D3A-58AD1B83B81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A4A9-F44D-4D53-ADE8-87C748A4D7B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811-6A29-46B8-AE89-E7F57DBC33B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56760" y="4786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79766f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571920" y="571680"/>
            <a:ext cx="2071800" cy="1857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722160" y="3000240"/>
            <a:ext cx="7772400" cy="314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ff8d3e"/>
                </a:solidFill>
                <a:latin typeface="Verdana"/>
              </a:rPr>
              <a:t>„</a:t>
            </a:r>
            <a:r>
              <a:rPr b="1" lang="en-US" sz="2000" spc="-1" strike="noStrike">
                <a:solidFill>
                  <a:srgbClr val="ff8d3e"/>
                </a:solidFill>
                <a:latin typeface="Verdana"/>
              </a:rPr>
              <a:t>Embedding Quality Assurance in Doctoral Education </a:t>
            </a:r>
            <a:br>
              <a:rPr sz="2000"/>
            </a:br>
            <a:r>
              <a:rPr b="1" lang="en-US" sz="1800" spc="-1" strike="noStrike">
                <a:solidFill>
                  <a:srgbClr val="ff8d3e"/>
                </a:solidFill>
                <a:latin typeface="Verdana"/>
              </a:rPr>
              <a:t>– EQADE (516891-TEMPUS-1-2011-1-DE-TEMPUS-SMGR)“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TRAINING ON  SALZBURG PRINCIPLES  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Mostar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May 24 - 25, 2012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0" y="29880"/>
            <a:ext cx="910764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c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1. Employment status of PhD candidates at the University (full time, part time, guest candidat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rom other institutes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the University are working 36 candidates who gained a PhD  and who are employed by the Universit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2. The average time required to finish  the PhD thesis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p to a year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3. Number of candidates abandoned doctoral studi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 out of 36 candidates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4. The percentage of enrolled students completing doctoral studies in a doctoral degre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ince up to now only one candidate, approximately 100%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7.5. Percentage of students employed after the promotion of doctoral studi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ince there is a deficit of teaching staff, the employment is 100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14240" y="29520"/>
            <a:ext cx="84297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Content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  <a:tabLst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Regulations for the acquisition of a Ph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  <a:tabLst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2. Requirements for the acquisition of a Ph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3. Institutional background for the performance of a Ph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4. Mentorship / Tutors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5. Research Projects (national/government/internation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6. National and international research cooper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7. Stat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136080"/>
            <a:ext cx="9144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1. Regulations for the acquisition of a Ph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.1. State / cantonal legislative acts to acquire a Ph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national and cantonal rules for acquiring a PhD (master degree, bachelor, second degree)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are expressed in Article 5, 6, 27-35, 53-57 of the Framework Law on Higher Education in B&amp;H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icle 43 -90 of the Law on Higher Education of USC, by the provisions of the Statute of  the University of Bihac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ule book on the use of academic titles, and the acquisition of scientific  and technical professions an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cess of gaining PhD degree at the University of Bihac, as well as their supporting acts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.2. Legislation to acquire the scientific degree of doctor of science and their rol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normative acts of the University of Bihac, which regulate the acquisition of a PhD, and in ad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the Law on Higher Education of USC, there is the Statute of the University of Bihac, Rule book on the firs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ycle of study, the Rule book on the second cycle of study, Rule book on the allocation of II cycle funds, Rule boo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n the use of academic titles, and the acquisition of scientific and technical professions and  the scientific proces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acquiring a PhD degree at the University of Bihac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0" y="30960"/>
            <a:ext cx="914400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Requirements for the acquisition of a Ph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1. The criteria for gaining the scientific degree of doctor of science and their fu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prescribed criteria at the University of Bihac, which regulate the acquisition of PhD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cluded in the following documents: Statute of the University of Bihac, Rule book on the first  cycle of study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ule book on the second cycle of study, Rule book on the allocation of  II cycle funds, Rule boo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n the use of academic titles, and the acquisition of scientific and  technical professions and the scientif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acquiring a PhD degree of at the University of Biha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2. Authorization regarding selection procedure for obtaining the scientific degree of doc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science and the decision to grant gained scientific Ph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the selection regarding aquisition of PhD in  the organizational and managerial structur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 the University of Bihac is in charge, as well as organizational and managerial structure of individu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ation units of the University of Bihac, and according to statutory provisions of the University of Bihac. 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to grant gained scientific PhD is being adopted by the University  Senate up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osal of organizational units' Teaching Councils, and promotion is made by the Rec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University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3. Setting the thesis/research work for acquisition of scientific Ph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 setting of the thesis for obtaining a PhD degree participates Teaching Council of an organization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upon proposal of a candidate and the expert committee (3-5 member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0" y="121320"/>
            <a:ext cx="9144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4. Authorized institutions of the University in charge of making decisions about the acquisi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scientific Ph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are made by the University Senate upon proposal of the Teaching Council of a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ational unit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5. Transparency and publication of acquired PhD results at the Univers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arency and publication of acquired PhD results at the University is required and guaranteed b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elevant scientific journals, and our higher education institutions annually present the publicati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i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wn teaching staff, realized in the last academic year (the titles of the papers, with special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mphasis to t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levance of the journal or conference where they are announced or presented, published books, etc.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versity has prescribed the procedure for issuing books and textbooks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6. Compulsory scientific papers for PhD acquisition at the Univers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acquire a PhD degree, at least three scientific papers are requir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85040"/>
            <a:ext cx="90914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3. Institutional background for the performance of a Ph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.1. Capacity and willingness of teachers in terms of mentoring candidates for acquiring a Ph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t the Universit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t the University there are about 60 trained and qualified employed teachers for mentoring candidate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ho gained a scientific PhD, out of those 27 assistant professors, 16 associate professors, 17 full-time professor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159 visiting lecturers, of which 53 assistant professors, 56 associate professors and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0 full-time professors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.2. Library, IT, technical, laboratory and other kinds of support at disposal to candidates, who ar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a procedure of gaining PhD at the Universit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t the University of Bihac to support candidates create their PhD thesis; a great number of library units 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ted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orm are available. Within each organizational unit, there are places for learning, and students can us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Cantonal and University Library with all its capacities. In addition to print library units, these facilities allow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ss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electronic databases, either directly or through the University Library in Sarajevo, professional lab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n the Biotechnical Faculty and Faculty of Technical Engineering and individual Information centers withi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ational units of the University. University of Bihac uses specific software programs to simulate actu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ditions, especially at the Biotechnical Faculty and Faculty of Technical Engineer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.3. Interdisciplinary centers or programs in which candidates who acquire PhD at the University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icipate within their program of study, (conduct research,  teach, or gain experiance, etc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nfortunately, these interdisciplinary centers and programs do not yet exist at the University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6840"/>
            <a:ext cx="9144000" cy="42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4.Mentorship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4.1. Conditions for obtaining a mentorship at the University (educational profile, scientific experienc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ition at the </a:t>
            </a: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rsity,</a:t>
            </a: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tc.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ntor can be an assistant professor, associate professor, full-time professor and professor emeritu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scientific experience in the particular field of study, and it should be a teacher of an area in which a doctor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 is to be done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4.2. The responsibility of mentors to support candidates for PhD (management of research activitie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onitor performance and evaluation procedures, etc.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ntor leads a candidate in its theoretical and research work and gives him/her a support through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ntire process of making thesi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3276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5. Research Projects (national/government/internation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.1. Funding of research projects at the University through national institutions, national and internation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oundation, institutes (EU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state institutions and national fund institutions 19 projects are being financed, and throug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national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itutes 7 projects. Federal Ministry of Education and Science approved 16 projects, the Fed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inistry of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and Trade 2 projects, the Ministry of Civil Affairs 1 project, there are 6 Tempus projects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niversity is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urrently participating in as a partner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University of Bihac has signed over 20 bilateral international agreements on cooperation with universiti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bro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ignificant positions in this segment occupy the contracts signed with universities in neighboring countri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ue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lack of language barriers, and greater utilization of such agreements and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.2. Responsibility for drafting and preparation of research project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versity has a responsibility through the International Relations Office, as well as Institutes an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ers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individual organizational units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.3. Research staff at the University, involved in research projects (full- time, part-time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versity includes 68 researchers in research projects with the full scope of work.</a:t>
            </a:r>
            <a:br>
              <a:rPr sz="1400"/>
            </a:br>
            <a:br>
              <a:rPr sz="1400"/>
            </a:br>
            <a:r>
              <a:rPr b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.4. The average annual income from the Research Fund for each teach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under of the University of Bihac does not allocate any funds for scientific research carried 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various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cation projects, both national, and international by the University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0" y="69840"/>
            <a:ext cx="91440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6. National and international research cooper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1.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 teams and  international cooperation of the Univers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research teams with international cooperation at the Univers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ams  consis  of staff from all faculties / college of the University and are included in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jects list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ection 5.1. of this presentation.</a:t>
            </a:r>
            <a:br>
              <a:rPr sz="1400"/>
            </a:br>
            <a:br>
              <a:rPr sz="1400"/>
            </a:b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2. Research projects at the University and international research group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research projects that are part of an international research group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rojects that are part of international resaerch groups are listed in Section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5.1. of this presentation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2:21:48Z</dcterms:created>
  <dc:creator>Rektor</dc:creator>
  <dc:description/>
  <dc:language>en-US</dc:language>
  <cp:lastModifiedBy>SUS-IBM</cp:lastModifiedBy>
  <dcterms:modified xsi:type="dcterms:W3CDTF">2012-05-31T12:25:20Z</dcterms:modified>
  <cp:revision>77</cp:revision>
  <dc:subject/>
  <dc:title>       „Embedding Quality Assurance in Doctoral Education – EQADE (516891-TEMPUS-1-2011-1-DE-TEMPUS-SMGR)“  TRAINING ON  SALZBURG PRINCIPLES Mostar   May 24 - 25, 2012  </dc:title>
</cp:coreProperties>
</file>