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A444-8CE5-4286-8BDF-5F97BB1648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CC35-797F-44CA-B65D-F3E2F3292F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5B50-07D6-404A-8A74-CAB32307FD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8894-A67F-4A60-BB57-303FCE29E3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A7A9-3834-4885-A0CB-5801F51E2E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C93E-84A8-4AB6-8A3F-54841F7B4A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D57B-C6FE-4439-9269-1AEAFA3C32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6ABC-0F7D-4B43-8D00-A03A3DEE5E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4B58-25DE-487E-BC16-E5B2BA6FA1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6183-93E6-4E60-8F19-8EDB52145D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CBB6-660F-4096-AD21-43039F39E9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8CDD-D927-4886-8877-178E490C1A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22DB-192D-48BE-B923-05E986D9B3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4794-28DF-4940-B413-26559A00F7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2655-09F2-4625-B6FE-3DF9D72F07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849F-BBCA-438C-A58B-86500330A6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8413-30EE-40E0-BB1D-49DB0D08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291D-F83F-4287-8E49-8494B32A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A02C-1E31-4D86-8CD8-533D0FF3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68EC-BD76-4D07-8612-AD5C8047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6DE6-8003-4BDD-9F6E-503BE41C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9D5F-081F-4DA4-9519-A4260E36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6120-A8FE-44B2-B7B8-228BF7B0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16D6-508D-4578-8352-F76ECE07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3DAC-FD73-4CD2-8F82-7066BA02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3D14-7FDB-4414-A1DB-AD313AF8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813D-5081-49E5-8B41-8417F6DC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BBB9-0F3F-45DA-8A1B-7143AC32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D469-952F-42FB-9971-0B284052344D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Tahoma"/>
              </a:rPr>
              <a:t>Roadmap Mostar Univer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Mladen Mi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University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f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o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osnia &amp; Herzegov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hr-HR" sz="4000" spc="-1" strike="noStrike">
                <a:solidFill>
                  <a:srgbClr val="99ff99"/>
                </a:solidFill>
                <a:latin typeface="Tahoma"/>
              </a:rPr>
              <a:t>T</a:t>
            </a:r>
            <a:r>
              <a:rPr b="0" lang="es-ES" sz="4000" spc="-1" strike="noStrike">
                <a:solidFill>
                  <a:srgbClr val="99ff99"/>
                </a:solidFill>
                <a:latin typeface="Tahoma"/>
              </a:rPr>
              <a:t>hreat</a:t>
            </a:r>
            <a:r>
              <a:rPr b="0" lang="hr-HR" sz="4000" spc="-1" strike="noStrike">
                <a:solidFill>
                  <a:srgbClr val="99ff99"/>
                </a:solidFill>
                <a:latin typeface="Tahoma"/>
              </a:rPr>
              <a:t>s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424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sufficient understanding of basic problems of University from those who make political decision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nderstanding higher education as expenditure and not investment in human resourc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nfavourable economic situation in the country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nstant brain drain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ncontrolled expansion of higher education (private) at the cost of quality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ff99"/>
                </a:solidFill>
                <a:latin typeface="Tahoma"/>
              </a:rPr>
              <a:t>Goals</a:t>
            </a:r>
            <a:r>
              <a:rPr b="0" lang="hr-HR" sz="4000" spc="-1" strike="noStrike">
                <a:solidFill>
                  <a:srgbClr val="99ff99"/>
                </a:solidFill>
                <a:latin typeface="Tahoma"/>
              </a:rPr>
              <a:t> (</a:t>
            </a:r>
            <a:r>
              <a:rPr b="0" lang="en-GB" sz="4000" spc="-1" strike="noStrike">
                <a:solidFill>
                  <a:srgbClr val="99ff99"/>
                </a:solidFill>
                <a:latin typeface="Tahoma"/>
              </a:rPr>
              <a:t>defined in the strategy of development</a:t>
            </a:r>
            <a:r>
              <a:rPr b="0" lang="hr-HR" sz="4000" spc="-1" strike="noStrike">
                <a:solidFill>
                  <a:srgbClr val="99ff99"/>
                </a:solidFill>
                <a:latin typeface="Tahoma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8713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ransformation of educational process to permanent learning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pplication of modern technologies for adopting and producing knowledge, through original researc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entor work with students and developing of creative abilities of students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cruiting and engaging outstanding students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ff99"/>
                </a:solidFill>
                <a:latin typeface="Tahoma"/>
              </a:rPr>
              <a:t>Goals (defined in the strategy of development</a:t>
            </a:r>
            <a:r>
              <a:rPr b="0" lang="hr-HR" sz="4000" spc="-1" strike="noStrike">
                <a:solidFill>
                  <a:srgbClr val="99ff99"/>
                </a:solidFill>
                <a:latin typeface="Tahoma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8713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tegrated Universit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ter-university international cooperation, projects, exchanges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hange of atmosphere (ambient) in University of Mostar in education in relation to future develop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riving innovation, through research to stimulate growth, create jobs and solve region’s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35164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ccffff"/>
                </a:solidFill>
                <a:latin typeface="Arial"/>
              </a:rPr>
              <a:t>Long list of goals:</a:t>
            </a:r>
            <a:br>
              <a:rPr sz="3600"/>
            </a:br>
            <a:r>
              <a:rPr b="0" lang="hr-HR" sz="3600" spc="-1" strike="noStrike">
                <a:solidFill>
                  <a:srgbClr val="ccffff"/>
                </a:solidFill>
                <a:latin typeface="Arial"/>
              </a:rPr>
              <a:t>huge l</a:t>
            </a:r>
            <a:r>
              <a:rPr b="0" lang="en-GB" sz="3600" spc="-1" strike="noStrike">
                <a:solidFill>
                  <a:srgbClr val="ccffff"/>
                </a:solidFill>
                <a:latin typeface="Arial"/>
              </a:rPr>
              <a:t>ist of </a:t>
            </a:r>
            <a:r>
              <a:rPr b="0" lang="hr-HR" sz="3600" spc="-1" strike="noStrike">
                <a:solidFill>
                  <a:srgbClr val="ccffff"/>
                </a:solidFill>
                <a:latin typeface="Arial"/>
              </a:rPr>
              <a:t>nice</a:t>
            </a:r>
            <a:r>
              <a:rPr b="0" lang="en-GB" sz="3600" spc="-1" strike="noStrike">
                <a:solidFill>
                  <a:srgbClr val="ccffff"/>
                </a:solidFill>
                <a:latin typeface="Arial"/>
              </a:rPr>
              <a:t> wishes</a:t>
            </a:r>
            <a:r>
              <a:rPr b="0" lang="en-GB" sz="36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" descr="ANd9GcQisJnf27bIFQIdf0IOaqIsYEJ4bjr5hVFVQZVpQ8cyxKhbbL_U"/>
          <p:cNvPicPr/>
          <p:nvPr/>
        </p:nvPicPr>
        <p:blipFill>
          <a:blip r:embed="rId1"/>
          <a:stretch/>
        </p:blipFill>
        <p:spPr>
          <a:xfrm>
            <a:off x="2268360" y="2357280"/>
            <a:ext cx="4032360" cy="40323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2"/>
          <p:cNvSpPr/>
          <p:nvPr/>
        </p:nvSpPr>
        <p:spPr>
          <a:xfrm>
            <a:off x="1763640" y="4365720"/>
            <a:ext cx="4969080" cy="2158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Huge, in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practice, </a:t>
            </a:r>
            <a:r>
              <a:rPr b="0" lang="hr-HR" sz="4000" spc="-1" strike="noStrike">
                <a:solidFill>
                  <a:srgbClr val="ffffff"/>
                </a:solidFill>
                <a:latin typeface="Tahoma"/>
              </a:rPr>
              <a:t>could be unrealist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cartk"/>
          <p:cNvPicPr/>
          <p:nvPr/>
        </p:nvPicPr>
        <p:blipFill>
          <a:blip r:embed="rId1"/>
          <a:stretch/>
        </p:blipFill>
        <p:spPr>
          <a:xfrm>
            <a:off x="1835280" y="1784520"/>
            <a:ext cx="539748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920" y="571464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ot of defects: inevitable accident</a:t>
            </a:r>
            <a:r>
              <a:rPr b="0" lang="hr-HR" sz="4000" spc="-1" strike="noStrike">
                <a:solidFill>
                  <a:srgbClr val="ffff99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2006_03_pp41_t01_LG"/>
          <p:cNvPicPr/>
          <p:nvPr/>
        </p:nvPicPr>
        <p:blipFill>
          <a:blip r:embed="rId1"/>
          <a:stretch/>
        </p:blipFill>
        <p:spPr>
          <a:xfrm>
            <a:off x="900000" y="1557360"/>
            <a:ext cx="7274160" cy="4176720"/>
          </a:xfrm>
          <a:prstGeom prst="rect">
            <a:avLst/>
          </a:prstGeom>
          <a:ln w="0">
            <a:noFill/>
          </a:ln>
        </p:spPr>
      </p:pic>
      <p:sp>
        <p:nvSpPr>
          <p:cNvPr id="78" name="Oval 8"/>
          <p:cNvSpPr/>
          <p:nvPr/>
        </p:nvSpPr>
        <p:spPr>
          <a:xfrm>
            <a:off x="5219640" y="4437000"/>
            <a:ext cx="1297080" cy="720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Naslov 4"/>
          <p:cNvSpPr/>
          <p:nvPr/>
        </p:nvSpPr>
        <p:spPr>
          <a:xfrm>
            <a:off x="0" y="333360"/>
            <a:ext cx="88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Actual</a:t>
            </a:r>
            <a:r>
              <a:rPr b="0" lang="hr-HR" sz="4000" spc="-1" strike="noStrike">
                <a:solidFill>
                  <a:srgbClr val="ffff99"/>
                </a:solidFill>
                <a:latin typeface="Arial"/>
              </a:rPr>
              <a:t> situation at our Univers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olution: </a:t>
            </a:r>
            <a:r>
              <a:rPr b="0" lang="hr-HR" sz="4000" spc="-1" strike="noStrike">
                <a:solidFill>
                  <a:srgbClr val="ffff99"/>
                </a:solidFill>
                <a:latin typeface="Arial"/>
              </a:rPr>
              <a:t>Permanent 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Quality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ANd9GcQyfZaTn1q5kuxWHjvpKlmeglUeHf-FxHw2PhFSfc-EzyIstDQMAQ"/>
          <p:cNvPicPr/>
          <p:nvPr/>
        </p:nvPicPr>
        <p:blipFill>
          <a:blip r:embed="rId1"/>
          <a:stretch/>
        </p:blipFill>
        <p:spPr>
          <a:xfrm>
            <a:off x="1619280" y="2421000"/>
            <a:ext cx="2343240" cy="1952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ANd9GcS0qw5fPAMJU-Ye_FMZDHIUccc0xnbSEkR5nn1pSSqC4XsqArf-cQ"/>
          <p:cNvPicPr/>
          <p:nvPr/>
        </p:nvPicPr>
        <p:blipFill>
          <a:blip r:embed="rId2"/>
          <a:stretch/>
        </p:blipFill>
        <p:spPr>
          <a:xfrm>
            <a:off x="5364000" y="2349360"/>
            <a:ext cx="221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ffff99"/>
                </a:solidFill>
                <a:latin typeface="Tahoma"/>
              </a:rPr>
              <a:t>University</a:t>
            </a:r>
            <a:r>
              <a:rPr b="0" lang="hr-BA" sz="4000" spc="-1" strike="noStrike">
                <a:solidFill>
                  <a:srgbClr val="ffff99"/>
                </a:solidFill>
                <a:latin typeface="Arial"/>
              </a:rPr>
              <a:t> of</a:t>
            </a:r>
            <a:r>
              <a:rPr b="0" lang="en-GB" sz="4000" spc="-1" strike="noStrike">
                <a:solidFill>
                  <a:srgbClr val="ffff99"/>
                </a:solidFill>
                <a:latin typeface="Tahoma"/>
              </a:rPr>
              <a:t> Mostar Road Map</a:t>
            </a:r>
            <a:r>
              <a:rPr b="0" lang="hr-HR" sz="4000" spc="-1" strike="noStrike">
                <a:solidFill>
                  <a:srgbClr val="ffff99"/>
                </a:solidFill>
                <a:latin typeface="Arial"/>
              </a:rPr>
              <a:t> 2014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2012-Instalation of Springer data basi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learning resource,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or adopting and producing knowledge, through original researc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2012-Defining University strategic plan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2013-Defining quality control standards in doctoral educatio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2013-Structuring new doctoral studi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2014-Starting doctoral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2014-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ter-university international cooperation, projects, exchanges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of doctoral candid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Tahoma"/>
              </a:rPr>
              <a:t>Road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Definition: Road map is a </a:t>
            </a:r>
            <a:r>
              <a:rPr b="0" lang="en-GB" sz="3200" spc="-1" strike="noStrike">
                <a:solidFill>
                  <a:srgbClr val="99ff99"/>
                </a:solidFill>
                <a:latin typeface="Tahoma"/>
                <a:ea typeface="Tahoma"/>
              </a:rPr>
              <a:t>strategic plan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 tha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matches short-term and long-term goals with specific solutions to help meet those go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99"/>
                </a:solidFill>
                <a:latin typeface="Arial"/>
              </a:rPr>
              <a:t>Ingredients </a:t>
            </a:r>
            <a:r>
              <a:rPr b="0" lang="hr-BA" sz="4400" spc="-1" strike="noStrike">
                <a:solidFill>
                  <a:srgbClr val="ffff99"/>
                </a:solidFill>
                <a:latin typeface="Arial"/>
              </a:rPr>
              <a:t>of</a:t>
            </a:r>
            <a:r>
              <a:rPr b="0" lang="en-GB" sz="4400" spc="-1" strike="noStrike">
                <a:solidFill>
                  <a:srgbClr val="ffff99"/>
                </a:solidFill>
                <a:latin typeface="Tahoma"/>
              </a:rPr>
              <a:t> Road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3640" y="2060280"/>
            <a:ext cx="849780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ission stat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ision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WOT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oal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Tahoma"/>
              </a:rPr>
              <a:t>Mission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here are we now?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t we do? </a:t>
            </a:r>
            <a:r>
              <a:rPr b="0" lang="en-GB" sz="2800" spc="-1" strike="noStrike">
                <a:solidFill>
                  <a:srgbClr val="ffff99"/>
                </a:solidFill>
                <a:latin typeface="Tahoma"/>
              </a:rPr>
              <a:t>Why does our organization exist?</a:t>
            </a:r>
            <a:r>
              <a:rPr b="0" lang="hr-HR" sz="28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o build powerful, autonomous and integrated academic community of teachers - researchers and students incorporated in the international university network, based o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ducation and scientific-research work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o help the economic, cultural and social development providing the scientific and technical suppor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pen for all regardless of orient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Tahoma"/>
              </a:rPr>
              <a:t>Vision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ahoma"/>
              </a:rPr>
              <a:t>(Where are we going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ity</a:t>
            </a:r>
            <a:r>
              <a:rPr b="0" lang="hr-B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BA" sz="2800" spc="-1" strike="noStrike">
                <a:solidFill>
                  <a:srgbClr val="ffffff"/>
                </a:solidFill>
                <a:latin typeface="Tahoma"/>
              </a:rPr>
              <a:t>Mostar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ill be one of the regions top 10 public universit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ill recruit outstanding students and provide exceptional educational experience grounding in engagemen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ill drive innovation, through research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ill serve public good by focusing on priorities (health, sustainable environment, creating new job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99ff99"/>
                </a:solidFill>
                <a:latin typeface="Tahoma"/>
              </a:rPr>
              <a:t>SWOT</a:t>
            </a:r>
            <a:r>
              <a:rPr b="0" lang="hr-HR" sz="4000" spc="-1" strike="noStrike">
                <a:solidFill>
                  <a:srgbClr val="99ff99"/>
                </a:solidFill>
                <a:latin typeface="Tahoma"/>
              </a:rPr>
              <a:t> </a:t>
            </a:r>
            <a:r>
              <a:rPr b="0" lang="en-GB" sz="4000" spc="-1" strike="noStrike">
                <a:solidFill>
                  <a:srgbClr val="99ff99"/>
                </a:solidFill>
                <a:latin typeface="Tahoma"/>
              </a:rPr>
              <a:t>analysis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8642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99ff99"/>
                </a:solidFill>
                <a:latin typeface="Tahoma"/>
              </a:rPr>
              <a:t>Strength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6760" y="1143000"/>
            <a:ext cx="8425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lear mission and vis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cognizable identit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xisting of strategic development plan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stablished international relation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tudent participation in all management bodi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mmitment of the University to change in accordance with changes in EU academic are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nsciousness about own responsibility for the own development and development of entire reg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99ff99"/>
                </a:solidFill>
                <a:latin typeface="Tahoma"/>
              </a:rPr>
              <a:t>Weakness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adequately funding, especially for research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sufficient home teaching staff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ad awarding of the staff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ack of quality administrative staff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mbalance between teaching and research activiti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niversity as semi-integrated institution obstructs realization of strategic project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ak follow-up of decision implementa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ssatisfactory internal communication between University and faculties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hr-HR" sz="4000" spc="-1" strike="noStrike">
                <a:solidFill>
                  <a:srgbClr val="99ff99"/>
                </a:solidFill>
                <a:latin typeface="Tahoma"/>
              </a:rPr>
              <a:t>O</a:t>
            </a:r>
            <a:r>
              <a:rPr b="0" lang="es-ES" sz="4000" spc="-1" strike="noStrike">
                <a:solidFill>
                  <a:srgbClr val="99ff99"/>
                </a:solidFill>
                <a:latin typeface="Tahoma"/>
              </a:rPr>
              <a:t>pportunities</a:t>
            </a:r>
            <a:r>
              <a:rPr b="0" lang="hr-HR" sz="4000" spc="-1" strike="noStrike">
                <a:solidFill>
                  <a:srgbClr val="99ff99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424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mmitment of entire BH academic community for implementation of Bologna proces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pening of the access of BH to European project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pening of possibilities for increasing mobility of students and teach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ttractiveness of University as partner in international projects and postgraduate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ming of young generation, with knowledge of information technology and foreign languages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laden Mimica</dc:creator>
  <dc:description/>
  <dc:language>en-US</dc:language>
  <cp:lastModifiedBy>Sonntag</cp:lastModifiedBy>
  <dcterms:modified xsi:type="dcterms:W3CDTF">2012-09-19T11:49:35Z</dcterms:modified>
  <cp:revision>171</cp:revision>
  <dc:subject/>
  <dc:title>PowerPoint Presentation</dc:title>
</cp:coreProperties>
</file>