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425-EBA5-4D6C-8EE0-5D9190FE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97A-F973-4D69-969F-C3DFD500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DAA-B3B1-4652-BC32-1637DA98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43F-F3B0-4808-B6D4-F2DC0A55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7CCE-B1CF-46FC-9A7B-7EE8DBE7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8304-58FF-4F9D-84FB-11442FD8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400E-BEBF-4A9B-89D3-FA9E9B55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E703-3012-46A3-A1D3-E24388D8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D616-5EAD-4DF0-AA2B-75CB1C4F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15B0-CD12-46EF-AB42-FB02D30A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3A7B-F9DC-432E-89BF-F38B0CD1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1BA-B2A8-40AC-BB5C-16E0E37E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63ED-D875-48FE-AAC4-DC222D92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5D40-B215-4876-ADF0-18BF3C30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BE71-D9E7-4E0C-9795-90485873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A321-9BD1-4910-B777-B5F28065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FFA3-CAF6-44E8-9AB1-B6A820B2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955-60AC-4EBC-BEAB-241EFA42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1C0-B44F-4E6C-B9B1-71CD5AE0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0C8-4166-4322-8DAE-AA519BA6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6CB-62C6-47DF-A069-170E3D9E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96F-5929-43CC-A59E-399AC39B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B75-B55D-4861-A2A1-D3EB09FA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503-B9FB-4D7C-91A6-3793ECD2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249D-AC17-4A26-88C6-A1E6003C42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" name=""/>
          <p:cNvSpPr/>
          <p:nvPr/>
        </p:nvSpPr>
        <p:spPr>
          <a:xfrm>
            <a:off x="3412080" y="6308640"/>
            <a:ext cx="24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opaonik, February 10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8533-3CE9-4841-B82A-C495F1088E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2080" y="6308640"/>
            <a:ext cx="24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opaonik, February 10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Labour Market Oriented Curriculu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versity of Kraguje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faculty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211640" y="404640"/>
            <a:ext cx="2930400" cy="573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TF Cacak"/>
          <p:cNvPicPr/>
          <p:nvPr/>
        </p:nvPicPr>
        <p:blipFill>
          <a:blip r:embed="rId2"/>
          <a:stretch/>
        </p:blipFill>
        <p:spPr>
          <a:xfrm>
            <a:off x="5940360" y="4292640"/>
            <a:ext cx="952560" cy="961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003640" y="4365720"/>
            <a:ext cx="693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an to reach goal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imeline for steps - activ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cation of tasks and human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continuous quality control and moni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ince University management on attractiveness of the new curricu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rization among the prospective students (media promotion – tv, web, social media, newspap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Expected 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mplementation in the curricul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combination of theoretical education and hands-on-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ness for adult lea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bour market linkage – agreement on colabo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ships in companies and/or organizations which use elearning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with companies where the students can work on a practical example of e-Mode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est lecturers from organizations which have gained experience in elearning and who can share practical experience with the students and point them to practical considerations on the implementation of e-Moderating in an orga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fined sustainability pl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umni 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stance learning study program </a:t>
            </a:r>
            <a:br>
              <a:rPr sz="3500"/>
            </a:br>
            <a:br>
              <a:rPr sz="3500"/>
            </a:br>
            <a:r>
              <a:rPr b="1" lang="en-US" sz="2700" spc="-1" strike="noStrike">
                <a:solidFill>
                  <a:srgbClr val="330066"/>
                </a:solidFill>
                <a:latin typeface="Arial"/>
              </a:rPr>
              <a:t>M.Sc. in eLearning – Moderating module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5192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im of e-Moderating module is to educate specialist for e-learning tutoring process with the particular knowledge on online communication skills, socialization, facilitating tasks, supporting use of learning materials, technical skills and content expert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bour market oriented curriculum desig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rket demands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utcomes/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lan to reach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xpected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Labour market oriented curriculum design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rket demands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mands for graduates of the proposed program and target modu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Market demands analy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ional regulatory documents and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rategy of development of Information society in Serbia, provided by the Ministry of education (2005-201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tegy for development of professional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tegy for development of adult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aw on higher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Market demands analysis</a:t>
            </a:r>
            <a:r>
              <a:rPr b="0" lang="sr-Latn-CS" sz="2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0066"/>
                </a:solidFill>
                <a:latin typeface="Arial"/>
              </a:rPr>
              <a:t>2/3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uments on trends and strategies in the area of distance education in Serbia and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UOV (Institute for the Advancement of Education), Regional center for professional development of the employees in educ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ts (professors from TU Graz, Austr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Market demands analysis</a:t>
            </a:r>
            <a:r>
              <a:rPr b="0" lang="sr-Latn-CS" sz="2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0066"/>
                </a:solidFill>
                <a:latin typeface="Arial"/>
              </a:rPr>
              <a:t>3/3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rete interviews with potential employers, focus group meetings (possible recor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employers in companies (Regional center for professional development of the employees in education, Elementary schools, Secondary schools,  faculties, colleges,…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nt graduates of Technical faculty in Čača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w interest of national stakehold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stable economical situ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sability of questionnair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erformed analysis quality (all needed competencies well recognize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adiness of faculty manag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How to deal with the risks, minimize them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marketing, social media, public atten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institutionalized partnership agreement, mutual benefit, offer new services to companie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consult professionals to validate questionnai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Ris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Goals/outcom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ed number of graduates with e-skills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cise definition of aims and goals of the new curriculum (modu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ability competencies - recognized knowledge and skills (generic and specifi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ed communication channels with stakehold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d framework for practical work placement, joint projects, inter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7:22:35Z</dcterms:created>
  <dc:creator>MIRA</dc:creator>
  <dc:description/>
  <dc:language>en-US</dc:language>
  <cp:lastModifiedBy>Leki</cp:lastModifiedBy>
  <dcterms:modified xsi:type="dcterms:W3CDTF">2011-02-10T09:50:26Z</dcterms:modified>
  <cp:revision>18</cp:revision>
  <dc:subject/>
  <dc:title>Labour Market Orientation</dc:title>
</cp:coreProperties>
</file>