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488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488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488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488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488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488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488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488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488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our Market Oriented Curricula –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Austrian Case Stu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95280" y="3273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igher Education and Labour Market – EU experi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ris Kiendl-Wend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ernadette Fre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H JOANNE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versity of Applied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Graz, Aust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Practical Example 1: Accreditation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. The IDEA – A BUTTOM UP appro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d69a7"/>
                </a:solidFill>
                <a:latin typeface="Arial"/>
              </a:rPr>
              <a:t>Course-providing bodies or applicant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ake the initiative to set up new FH degree program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Practical Example 1: Accreditation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. The DEVELOPMENT TEAM and its central role in labour market based curricula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4149720"/>
            <a:ext cx="3725640" cy="248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5400000">
            <a:off x="5148360" y="328608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d69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6732000" y="3285720"/>
            <a:ext cx="216000" cy="151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d69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3068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d69a7"/>
                </a:solidFill>
                <a:latin typeface="Arial"/>
              </a:rPr>
              <a:t>min. 2 professionals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 with work proof in the relevant vocational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303516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d69a7"/>
                </a:solidFill>
                <a:latin typeface="Arial"/>
              </a:rPr>
              <a:t>min. 2 academic team members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 with hab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Practical Example 1: Accreditation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Submission to the FH Counci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Obligatory internship of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Obligatory practical projects with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tudy abroa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pplied thesis in collaboration with companies or the respective occupational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Hands-on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616720" cy="4210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40000" y="1483920"/>
            <a:ext cx="32036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viation 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light simul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796000" y="2492280"/>
            <a:ext cx="1224000" cy="144144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ternships and Student Pro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42840"/>
            <a:ext cx="658008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hicle technology – Formula SAE Michig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63122" t="23242" r="22120" b="15711"/>
          <a:stretch/>
        </p:blipFill>
        <p:spPr>
          <a:xfrm>
            <a:off x="7342200" y="1268280"/>
            <a:ext cx="1801800" cy="5589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363760"/>
            <a:ext cx="4110120" cy="3081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76720" y="2997360"/>
            <a:ext cx="21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55640" y="2060640"/>
            <a:ext cx="647640" cy="172872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3645000"/>
            <a:ext cx="863640" cy="576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447800">
            <a:off x="3491640" y="3513600"/>
            <a:ext cx="42321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dustrial design – Federal design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Practical Example 1: Accreditation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Submission to the FH Counci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Obligatory internship of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Obligatory practical projects with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tudy abroa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pplied thesis in collaboration with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4. Independent decision by FH Counc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5. Re-accred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stitutio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gree programme e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5400000">
            <a:off x="3491280" y="460908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00"/>
                </a:solidFill>
                <a:latin typeface="Arial"/>
              </a:rPr>
              <a:t>Labour Market Oriented Curricul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Practical Example 1: Accreditation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Practical Example 2: Competence assessment and 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6680" cy="3887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3280" y="3357720"/>
            <a:ext cx="5832360" cy="934920"/>
          </a:xfrm>
          <a:prstGeom prst="rect">
            <a:avLst/>
          </a:prstGeom>
          <a:noFill/>
          <a:ln w="19080">
            <a:solidFill>
              <a:srgbClr val="0d69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278000"/>
            <a:ext cx="3889440" cy="1150920"/>
          </a:xfrm>
          <a:prstGeom prst="downArrowCallout">
            <a:avLst>
              <a:gd name="adj1" fmla="val 84493"/>
              <a:gd name="adj2" fmla="val 84485"/>
              <a:gd name="adj3" fmla="val 16667"/>
              <a:gd name="adj4" fmla="val 66667"/>
            </a:avLst>
          </a:prstGeom>
          <a:noFill/>
          <a:ln w="15840">
            <a:solidFill>
              <a:srgbClr val="0d69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7120" y="1268280"/>
            <a:ext cx="36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Dynamic and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demand of the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0560" y="1270080"/>
            <a:ext cx="3889080" cy="1150920"/>
          </a:xfrm>
          <a:prstGeom prst="downArrowCallout">
            <a:avLst>
              <a:gd name="adj1" fmla="val 84485"/>
              <a:gd name="adj2" fmla="val 84478"/>
              <a:gd name="adj3" fmla="val 16667"/>
              <a:gd name="adj4" fmla="val 66667"/>
            </a:avLst>
          </a:prstGeom>
          <a:noFill/>
          <a:ln w="15840">
            <a:solidFill>
              <a:srgbClr val="0d69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45000" y="126828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apid expansion of 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over the past two dec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9960" y="2478240"/>
            <a:ext cx="3527280" cy="4070520"/>
          </a:xfrm>
          <a:prstGeom prst="rect">
            <a:avLst/>
          </a:prstGeom>
          <a:noFill/>
          <a:ln w="15840">
            <a:solidFill>
              <a:srgbClr val="e9b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. universities are increasingly required to produce highly skilled graduates who are capable to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espond to changing de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. concerns an increasingly wid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‘gap’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tween the skills and capabilities of graduates, and the requirements and demands of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492280"/>
            <a:ext cx="3586320" cy="3924360"/>
          </a:xfrm>
          <a:prstGeom prst="rect">
            <a:avLst/>
          </a:prstGeom>
          <a:noFill/>
          <a:ln w="15840">
            <a:solidFill>
              <a:srgbClr val="e9b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. discussions about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quality of the graduate labour marke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nd the ability of graduates to meet the needs of 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. 1980: criticism against MBA: perceived insufficiently relevant and accountable for market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66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Practical Example 2: Competence Assessment and Moni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Practical Example 2: Competence Assessment and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16000" y="2133720"/>
            <a:ext cx="6048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U Research by FHJ (MISLEM study) suggests that transferable competences are more demanded by the labour market than specific compet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2987640" y="2924280"/>
          <a:ext cx="5905440" cy="35020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0800"/>
                <a:gridCol w="118116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u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iness Knowled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u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iness Competen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iness Knowled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 (valua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 (releva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 (capa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 (ga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69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Alumni satisfaction surveys </a:t>
            </a:r>
            <a:br>
              <a:rPr sz="32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1= very relevant / sufficiently acquired during studies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5 = not relevant at all / insufficiently acquired during stud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4608360" cy="2722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rot="16200000">
            <a:off x="647640" y="3826080"/>
            <a:ext cx="216000" cy="142560"/>
          </a:xfrm>
          <a:prstGeom prst="rightArrow">
            <a:avLst>
              <a:gd name="adj1" fmla="val 50000"/>
              <a:gd name="adj2" fmla="val 3787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103640" y="3753000"/>
            <a:ext cx="216000" cy="142560"/>
          </a:xfrm>
          <a:prstGeom prst="rightArrow">
            <a:avLst>
              <a:gd name="adj1" fmla="val 50000"/>
              <a:gd name="adj2" fmla="val 3787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51280" y="4076640"/>
          <a:ext cx="4537080" cy="255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076640"/>
                    <a:ext cx="453708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16200000">
            <a:off x="6335640" y="3825720"/>
            <a:ext cx="216000" cy="142920"/>
          </a:xfrm>
          <a:prstGeom prst="rightArrow">
            <a:avLst>
              <a:gd name="adj1" fmla="val 50000"/>
              <a:gd name="adj2" fmla="val 3778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Universities of Applied Sciences (UA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Established in 19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20 providers in Aust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270 degree program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34.000 student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(compared to 236.000 students in traditional universiti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80% in the field of business and engineering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Unemployment rate: 0,4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827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16360" y="1484280"/>
            <a:ext cx="56149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d69a7"/>
                </a:solidFill>
                <a:latin typeface="Arial"/>
              </a:rPr>
              <a:t>FOCUS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d69a7"/>
                </a:solidFill>
                <a:latin typeface="Arial"/>
              </a:rPr>
              <a:t>FOR 360 DEGREE FEED-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74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74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lum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74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74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Prof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74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Decision-making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282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Practical Example 2: Competence Assessment and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16000" y="2133720"/>
            <a:ext cx="6048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72360" y="2852640"/>
            <a:ext cx="2219040" cy="2254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932360" y="2852640"/>
            <a:ext cx="3527280" cy="360360"/>
          </a:xfrm>
          <a:prstGeom prst="line">
            <a:avLst/>
          </a:prstGeom>
          <a:ln w="25560">
            <a:solidFill>
              <a:srgbClr val="0d69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427640" y="3068640"/>
            <a:ext cx="3168720" cy="504720"/>
          </a:xfrm>
          <a:prstGeom prst="line">
            <a:avLst/>
          </a:prstGeom>
          <a:ln w="25560">
            <a:solidFill>
              <a:srgbClr val="0d69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14920" y="3212640"/>
            <a:ext cx="2736720" cy="1079640"/>
          </a:xfrm>
          <a:prstGeom prst="line">
            <a:avLst/>
          </a:prstGeom>
          <a:ln w="25560">
            <a:solidFill>
              <a:srgbClr val="0d69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005440" y="4076280"/>
            <a:ext cx="1582560" cy="865080"/>
          </a:xfrm>
          <a:prstGeom prst="line">
            <a:avLst/>
          </a:prstGeom>
          <a:ln w="25560">
            <a:solidFill>
              <a:srgbClr val="0d69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003640" y="4508640"/>
            <a:ext cx="3097440" cy="1008000"/>
          </a:xfrm>
          <a:prstGeom prst="line">
            <a:avLst/>
          </a:prstGeom>
          <a:ln w="25560">
            <a:solidFill>
              <a:srgbClr val="0d69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our Market Oriented Curricula –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Austrian Case Stu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95280" y="3273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igher Education and Labour Market – EU experi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ris Kiendl-Wend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ernadette Fre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H JOANNE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Applied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raz, Aust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00"/>
                </a:solidFill>
                <a:latin typeface="Arial"/>
              </a:rPr>
              <a:t>UAS as Agents of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Education policy (competitors to traditional universit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Regional policy (reduction of regional disparit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Social policy (flexible admission to higher edu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Economic policy (close collaboration with and contact to compan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5229360"/>
            <a:ext cx="5761080" cy="792000"/>
          </a:xfrm>
          <a:prstGeom prst="rect">
            <a:avLst/>
          </a:prstGeom>
          <a:noFill/>
          <a:ln w="19080">
            <a:solidFill>
              <a:srgbClr val="0d69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 Between Traditional Universities and U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 versu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ation versus spec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- versus output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freedom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reteness of occupational fields and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5229360"/>
            <a:ext cx="5761080" cy="792000"/>
          </a:xfrm>
          <a:prstGeom prst="rect">
            <a:avLst/>
          </a:prstGeom>
          <a:noFill/>
          <a:ln w="19080">
            <a:solidFill>
              <a:srgbClr val="0d69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00"/>
                </a:solidFill>
                <a:latin typeface="Arial"/>
              </a:rPr>
              <a:t>Main qu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can the academic staff bring into focus the „right“ vocational fie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e and many-sided collaboration between UAS and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factors influencing curricula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827440" cy="3959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14560" y="3875040"/>
            <a:ext cx="5761080" cy="706320"/>
          </a:xfrm>
          <a:prstGeom prst="rect">
            <a:avLst/>
          </a:prstGeom>
          <a:noFill/>
          <a:ln w="19080">
            <a:solidFill>
              <a:srgbClr val="0d69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6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00"/>
                </a:solidFill>
                <a:latin typeface="Arial"/>
              </a:rPr>
              <a:t>Factors Influencing Curricula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4160" y="2492280"/>
            <a:ext cx="3095640" cy="1224000"/>
          </a:xfrm>
          <a:prstGeom prst="ellipse">
            <a:avLst/>
          </a:prstGeom>
          <a:solidFill>
            <a:srgbClr val="e9b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Curric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060640"/>
            <a:ext cx="2521080" cy="1368360"/>
          </a:xfrm>
          <a:prstGeom prst="cloudCallout">
            <a:avLst>
              <a:gd name="adj1" fmla="val -73615"/>
              <a:gd name="adj2" fmla="val 5916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Europ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Qualificati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4005360"/>
            <a:ext cx="2233800" cy="1224000"/>
          </a:xfrm>
          <a:prstGeom prst="cloudCallout">
            <a:avLst>
              <a:gd name="adj1" fmla="val -75444"/>
              <a:gd name="adj2" fmla="val -93060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4581360"/>
            <a:ext cx="2664000" cy="1584360"/>
          </a:xfrm>
          <a:prstGeom prst="cloudCallout">
            <a:avLst>
              <a:gd name="adj1" fmla="val -12453"/>
              <a:gd name="adj2" fmla="val -101601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Nationa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regional l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and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573360"/>
            <a:ext cx="2664000" cy="1584360"/>
          </a:xfrm>
          <a:prstGeom prst="cloudCallout">
            <a:avLst>
              <a:gd name="adj1" fmla="val 54648"/>
              <a:gd name="adj2" fmla="val -80259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Institutional laws and regulations,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692280"/>
            <a:ext cx="2663640" cy="1584360"/>
          </a:xfrm>
          <a:prstGeom prst="cloudCallout">
            <a:avLst>
              <a:gd name="adj1" fmla="val -9592"/>
              <a:gd name="adj2" fmla="val 63425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Labour and society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5300640"/>
            <a:ext cx="2303280" cy="1152720"/>
          </a:xfrm>
          <a:prstGeom prst="cloudCallout">
            <a:avLst>
              <a:gd name="adj1" fmla="val 59578"/>
              <a:gd name="adj2" fmla="val -192837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Stud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54160" y="2492280"/>
            <a:ext cx="3095640" cy="1224000"/>
          </a:xfrm>
          <a:prstGeom prst="ellipse">
            <a:avLst/>
          </a:prstGeom>
          <a:solidFill>
            <a:srgbClr val="e9b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Curric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1557360"/>
            <a:ext cx="3564000" cy="1655640"/>
          </a:xfrm>
          <a:prstGeom prst="cloudCallout">
            <a:avLst>
              <a:gd name="adj1" fmla="val -78060"/>
              <a:gd name="adj2" fmla="val 6949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Europ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Qualificati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3141720"/>
            <a:ext cx="2521080" cy="1368360"/>
          </a:xfrm>
          <a:prstGeom prst="cloudCallout">
            <a:avLst>
              <a:gd name="adj1" fmla="val -67694"/>
              <a:gd name="adj2" fmla="val -80856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4292640"/>
            <a:ext cx="2663640" cy="1584360"/>
          </a:xfrm>
          <a:prstGeom prst="cloudCallout">
            <a:avLst>
              <a:gd name="adj1" fmla="val -117638"/>
              <a:gd name="adj2" fmla="val -84268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Nationa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regional l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and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292640"/>
            <a:ext cx="2664000" cy="1584360"/>
          </a:xfrm>
          <a:prstGeom prst="cloudCallout">
            <a:avLst>
              <a:gd name="adj1" fmla="val -23777"/>
              <a:gd name="adj2" fmla="val -116634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Institutional laws and regulations,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4653000"/>
            <a:ext cx="2663640" cy="2089080"/>
          </a:xfrm>
          <a:prstGeom prst="cloudCallout">
            <a:avLst>
              <a:gd name="adj1" fmla="val 10666"/>
              <a:gd name="adj2" fmla="val -105851"/>
            </a:avLst>
          </a:prstGeom>
          <a:solidFill>
            <a:srgbClr val="0d6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Labour and society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21010200">
            <a:off x="318960" y="1260000"/>
            <a:ext cx="2532240" cy="2594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00"/>
                </a:solidFill>
                <a:latin typeface="Arial"/>
              </a:rPr>
              <a:t>Factors Influencing Curricula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00"/>
                </a:solidFill>
                <a:latin typeface="Arial"/>
              </a:rPr>
              <a:t>Labour Market Oriented Curricul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Practical Example 1: Accreditation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Practical Example 2: Competence assessment and 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6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Practical Example 1: Accreditation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42920" y="2133720"/>
            <a:ext cx="5614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69a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w FH degree programme needs to b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d69a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red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FH Council, with the accreditation granted in each case for a maximum of five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d69a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is approval perio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-accredi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quired, which follows an evaluation and a formal follow-up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77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2:05:43Z</dcterms:created>
  <dc:creator>Klemens Franz</dc:creator>
  <dc:description/>
  <dc:language>en-US</dc:language>
  <cp:lastModifiedBy>ronald wendner</cp:lastModifiedBy>
  <dcterms:modified xsi:type="dcterms:W3CDTF">2011-01-31T19:57:49Z</dcterms:modified>
  <cp:revision>44</cp:revision>
  <dc:subject/>
  <dc:title>PowerPoint Presentation</dc:title>
</cp:coreProperties>
</file>