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CCF-E05A-4A51-A8DC-3BECD45A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169-D562-432E-A636-96D1C8E1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40A-C89B-4287-BC16-898B4634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E48-CD60-4CD7-B623-5EBF6DC9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FDD8-0DDE-47D3-9F81-28BD0270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2C3A-2403-4EC1-9723-7DDD3338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8AAF-6CEC-4534-AC8B-3CBC165A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8156-35DC-4036-AC67-4361110C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F856-321E-45DB-9D48-239FB04B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73EF-9C7D-4A81-A9A5-9F751D3A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80C2-2A45-4B36-87E7-9D09C700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635-6C56-4D62-BAAC-904B5AAD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D082-F0ED-4C26-9F24-783FC16D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2412-3F19-4CAA-BE6D-1AAC86FC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ECD9-6BAE-4108-97EF-F62E2C99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6956-1017-423D-A874-ED85071E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E66A-5070-43CE-86C1-075FCA6C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41CD-2825-4810-9CD4-07EA5C5E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C1212-EDE4-4F2E-990D-E4C12A52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F074-2F91-4258-9E73-0238AE5A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5D08-ABEC-4B39-9BD8-5290C294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BDD30-D6AA-4EE4-9B61-67455853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663-6BE0-4DB2-B47C-509F8373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DE3ED-95F3-4082-93DF-3F5041AB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64D4-558B-4CE6-ACC2-CB9C0786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00286-78E2-4947-84D7-F55493C4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8DEE9-4EEB-443D-99F3-09CF5115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4C383-62B3-46D2-AC05-1DD9D018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EBEF-6B95-4CD0-B52D-55E7653A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916AC-9F8C-4ECC-BD89-E7E527E9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9F346-AB8A-4E77-9628-8171C4B4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84D42-ECA7-4AA2-8F7D-329C6C70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2B424-E9E7-41BB-A3A9-22979C52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665-E27E-467C-8FD3-D0EB92A8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6850C-2756-4DDE-B719-9266F4A9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D91EC-A97B-479C-8C44-16F2352E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31CB-EA9A-49D1-B6F8-B72E22E6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F210C-B649-4CC5-AF4E-793352EB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F081B-B9F9-4DA4-AB3E-33A7AD30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08EA2-E00B-4D44-AD1B-2E973372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922B1-7491-4E5E-B00A-54EEBA05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F01EA-9974-4347-A770-623831C1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1EF5C-AEF2-4A3A-81CE-1966F91D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C3511-8A41-4B25-A867-F8A0DB0A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821-902F-4315-A5FA-52FA9D4C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3A37C-2E10-4882-AD13-1A9FAD92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09DAA-65A6-40A2-876B-E0E38078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8DA95-E2F6-49E1-A9E1-AD1BFEC3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69ECE-34DA-41E8-92D1-A2455390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6458B-1A1D-45D8-8661-D434A897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B72D4-5F3A-4238-BBDE-1E689D4F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E6A5C-B327-4F6A-9FB9-09E168BB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D9D14-23C6-43C8-B0AD-A41131FC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AD30E-B4C8-4981-AC7E-7126B737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8DBCD-B9B8-4810-91A7-C0764A72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5A9-1C65-434E-8C99-11FF8D2D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39840-F54C-4296-AED5-8B63A23A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1F920-6D16-4010-A87B-98DCBB06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E6F93-918A-4961-A1B4-470DE2BC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FA70A-96EF-4E78-BD53-C9CC6CA8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4C8C1-B4BD-465D-AA06-713D949A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70BB7-75AB-48E1-A6E4-54EEC7D6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1329C-C62A-465B-A3DB-00974090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B7640-A0FD-4D0C-9DD9-08F2E2B6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4E13D-7BD8-4C5D-95F0-3681D5C2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DA7F5-1019-42FD-86CA-3B3C6594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36E-91CB-4226-AFF9-FBC124E9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07A36-EBD7-48F5-8142-81F0B864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F5557-E63B-47C0-A317-427E209D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D7EED-88AC-4424-A944-2B4439E9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00C-E40A-4910-BCE3-FAFFD3D3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0C4-55FA-462A-B0DD-6F71EED8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6DE4-B0F8-4270-BAC6-A3C6C42D232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158A-05E2-4DD3-9737-58101536C60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2957-18A5-434B-BC96-A5CD2856CEC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A74D-64F8-4819-ADAA-8423E3EB674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1012-475D-4A91-AB67-A7FEFBB8E51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8BF3-EE86-4A20-B8B7-2FE81CD1AF9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8083440" cy="3591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</a:rPr>
              <a:t>Jadranka Dimo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</a:rPr>
              <a:t>Kopaonik, februar 2011.god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Characteristics of employers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vate companies (94%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mall companies with up to 50 employees (90%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secure LM make them eager to prefer short-term employment and “grey zone work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LABOUR MARKET DEMANDS ON YOUNG GRADUATED WORKER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UPDATED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KI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EXPERIENCE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OMPET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ITIVE ATTITU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OTIV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2574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RESULTS (EFFECTS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549720"/>
            <a:ext cx="8229600" cy="71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 Serbia, despite a shrinking youth population, young people experience a troubled transition from education to 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ne of trouble factors consists of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a lack of competences and skills developed during studies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nd demanded in the LM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traditional mode of knowledge production should be complemented by a mode in which research on LM identify problems and solve them in the context of curricular appl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**</a:t>
            </a: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Results of one research on needed competenc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team work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team managemen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inovati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creativity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al thin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critical att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roblem solving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taking risk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castomer orientati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managing the learning competenc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intercultural competenc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conflict handling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time management-organ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leading competenc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loyal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self-managed learn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uthonomy and responsibility-awaren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ntrepreneurshi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unication compet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personal compet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interpersonal effici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f-management compet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ganisational compet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 service compet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-operational compet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RM compet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dership compet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result orient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decision making p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quality awareness and orient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OUR GRADUATES  ARE GETTING DURING THEIR STUDIES?</a:t>
            </a:r>
            <a:r>
              <a:rPr b="1" lang="sr-Latn-CS" sz="2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KNOWLIDGE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Y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SKILLS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VERY LIMIT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COMPETENCES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VERY, VERY RARE (N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ATTITUDE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R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MOTIVATION</a:t>
            </a:r>
            <a:r>
              <a:rPr b="1" i="1" lang="sr-Latn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R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-407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versities should be familia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ith the LM situation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needed quality of employe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SOME REMARK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528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know the span of students` employ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rricul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uld be the result of the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ciences, development of technology and employers` nee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ons between education institutions and employers should have a mutual influ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SOME REMARK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990360"/>
            <a:ext cx="7467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iversities are a part of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 market of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eti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w roles and responsi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f56"/>
                </a:solidFill>
                <a:latin typeface="Franklin Gothic Book"/>
              </a:rPr>
              <a:t>NEW PARADIGMA </a:t>
            </a: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– UNIVERSITY`S AUTONOMY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is an University` autonomy tod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government, or independence (of whom?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of super-complexity ( reality-tes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s from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-like approaches to the development of 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-625680"/>
            <a:ext cx="7467480" cy="71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837720"/>
            <a:ext cx="81532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7df56"/>
                </a:solidFill>
                <a:latin typeface="Arial"/>
              </a:rPr>
              <a:t>There is a fear of transfer of the power from academic community to those with management respons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anagement is a sort of facilitation, support to the more important dee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EU POLICY IN EMPLOYMEN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uropean Strategy on Employment has four pilla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PLOY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AP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AL OPPORTUNITIES FOR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Franklin Gothic Book"/>
              </a:rPr>
              <a:t>NEW PARADIGMA – UNIVERSITY`S AUTONOMY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990360"/>
            <a:ext cx="81532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JECTIVE (EU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olicies within the fields of education, research and innovation should be mutually reinforcing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 to ensure the development of a fully functional knowledge triangle and to speed up the transition towards a true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knowledge-based economy and society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Franklin Gothic Book"/>
              </a:rPr>
              <a:t>NEW PARADIGMA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onclusions of the Council and of the Representatives of the Governments of the Member States, meeting within the Council, of 26 November 2009 on developing the role of education in a fully- functioning knowledge triangle 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veloping more coherence between policies in the fields of education, research and innov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celerating pedagogical re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artnership between universities and business and other relevant stakehol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asures to develop an innovation culture in univers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reating incentives for universities to develop transferable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approaches to quality assess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Franklin Gothic Book"/>
              </a:rPr>
              <a:t>NEW PARADIGMA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480" y="914040"/>
            <a:ext cx="78487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U post-2010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trategy for Growth and Job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es </a:t>
            </a:r>
            <a:r>
              <a:rPr b="1" i="1" lang="en-US" sz="2800" spc="-1" strike="noStrike">
                <a:solidFill>
                  <a:srgbClr val="f7df56"/>
                </a:solidFill>
                <a:latin typeface="Arial"/>
              </a:rPr>
              <a:t>education</a:t>
            </a:r>
            <a:r>
              <a:rPr b="1" lang="en-US" sz="2800" spc="-1" strike="noStrike">
                <a:solidFill>
                  <a:srgbClr val="f7df5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7df56"/>
                </a:solidFill>
                <a:latin typeface="Arial"/>
              </a:rPr>
              <a:t>as the basis of the knowledge triang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nd underlines the necessity for all three sides of the triangle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ducation-research-innov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to mutually support and feed into each ot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hole education and training system has a role to play in fostering the key competences necessary for a well functioning tria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-117936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NEW PARADIGM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re universities  a sort of the “servants” to L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No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7df56"/>
                </a:solidFill>
                <a:latin typeface="Arial"/>
              </a:rPr>
              <a:t>Universities influence and support the quality of economy drive and performances in LM and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Quality of knowledge, skills and competences of graduate students are recognised as crucial for development of economy and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SOME REMARK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ies have to take in a consideration the development of students` </a:t>
            </a:r>
            <a:r>
              <a:rPr b="1" lang="en-US" sz="2800" spc="-1" strike="noStrike">
                <a:solidFill>
                  <a:srgbClr val="f7df56"/>
                </a:solidFill>
                <a:latin typeface="Arial"/>
              </a:rPr>
              <a:t>skills and compe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ies should define programme and outcomes of </a:t>
            </a:r>
            <a:r>
              <a:rPr b="1" lang="en-US" sz="2800" spc="-1" strike="noStrike">
                <a:solidFill>
                  <a:srgbClr val="f7df56"/>
                </a:solidFill>
                <a:latin typeface="Arial"/>
              </a:rPr>
              <a:t>students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ies should develop </a:t>
            </a:r>
            <a:r>
              <a:rPr b="1" lang="en-US" sz="2800" spc="-1" strike="noStrike">
                <a:solidFill>
                  <a:srgbClr val="f7df56"/>
                </a:solidFill>
                <a:latin typeface="Arial"/>
              </a:rPr>
              <a:t>follow-up of graduat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and have insight in their employ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ver-production of graduated students is equally bad as under-productio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573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8360" y="8362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IVER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TO ADJUST CURRICUL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THE ECONOMY NEEDS AND PROSPECT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THE ANSWER IS SIMPLE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working with stakehol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gular revision of curriculum, and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sequent monitoring of curriculum – syllabuses, modu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DG Education and Culture supports cooperation as an inmortant part of EU polic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Who are stakeholders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468360" y="2362320"/>
            <a:ext cx="4390920" cy="34430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20800" y="1557360"/>
            <a:ext cx="3822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ciety = labour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s = ow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udents =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achers = trainers and consul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hool administrators = employ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ents, family =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07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837720"/>
            <a:ext cx="80010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NIVERSITIES – STAKEHOLDE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STITUTIONAL COOPERATIO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Option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nsfer LM – stakeholders` needs research to specialised age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own research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Global trend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w a days` economies are built on information, learning and adap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ong demand for technological innovations as generators of new job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eed to market requires immediately  marketable knowledge and compet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 day education institutions are forced to be in constant dialogue with their stak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etition in the Education LM is growing: universities, private providers, consultancy, E-learning, visiting programmes, distance learning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Book"/>
              </a:rPr>
              <a:t>Using own resourc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tablishment of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sr-Latn-CS" sz="3000" spc="-1" strike="noStrike">
                <a:solidFill>
                  <a:srgbClr val="ff0000"/>
                </a:solidFill>
                <a:latin typeface="Arial"/>
              </a:rPr>
              <a:t>urricul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sr-Latn-CS" sz="30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sr-Latn-CS" sz="3000" spc="-1" strike="noStrike">
                <a:solidFill>
                  <a:srgbClr val="ff0000"/>
                </a:solidFill>
                <a:latin typeface="Arial"/>
              </a:rPr>
              <a:t>dvisory</a:t>
            </a: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sr-Latn-CS" sz="3000" spc="-1" strike="noStrike">
                <a:solidFill>
                  <a:srgbClr val="ff0000"/>
                </a:solidFill>
                <a:latin typeface="Arial"/>
              </a:rPr>
              <a:t>oar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or Committee, on the level of University  - the most rational and sustainable; ownership is guarante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umni Serv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reer Guidance and Counseling Centr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Book"/>
              </a:rPr>
              <a:t>Using own resourc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ly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roject Cycle Management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pproach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 curriculum tuning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itoring and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otal Quality Management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Using own resources - </a:t>
            </a:r>
            <a:r>
              <a:rPr b="1" lang="en-US" sz="2800" spc="-1" strike="noStrike">
                <a:solidFill>
                  <a:srgbClr val="f7df56"/>
                </a:solidFill>
                <a:latin typeface="Franklin Gothic Book"/>
              </a:rPr>
              <a:t>Planning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8360" y="980640"/>
            <a:ext cx="822960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6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which of stakeholders are your </a:t>
            </a:r>
            <a:r>
              <a:rPr b="0" lang="en-US" sz="2400" spc="-1" strike="noStrike">
                <a:solidFill>
                  <a:srgbClr val="f7df56"/>
                </a:solidFill>
                <a:latin typeface="Arial"/>
              </a:rPr>
              <a:t>target group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US" sz="2400" spc="-1" strike="noStrike">
                <a:solidFill>
                  <a:srgbClr val="f7df56"/>
                </a:solidFill>
                <a:latin typeface="Arial"/>
              </a:rPr>
              <a:t>thematic area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utual inte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stakeholders </a:t>
            </a:r>
            <a:r>
              <a:rPr b="0" lang="en-US" sz="2400" spc="-1" strike="noStrike">
                <a:solidFill>
                  <a:srgbClr val="f7df56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and d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evelop </a:t>
            </a:r>
            <a:r>
              <a:rPr b="0" lang="sr-Latn-CS" sz="2400" spc="-1" strike="noStrike">
                <a:solidFill>
                  <a:srgbClr val="f7df56"/>
                </a:solidFill>
                <a:latin typeface="Arial"/>
              </a:rPr>
              <a:t>procedures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for university-enterprise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US" sz="2400" spc="-1" strike="noStrike">
                <a:solidFill>
                  <a:srgbClr val="f7df56"/>
                </a:solidFill>
                <a:latin typeface="Arial"/>
              </a:rPr>
              <a:t>gantogram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of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</a:t>
            </a:r>
            <a:r>
              <a:rPr b="0" lang="en-US" sz="2400" spc="-1" strike="noStrike">
                <a:solidFill>
                  <a:srgbClr val="f7df56"/>
                </a:solidFill>
                <a:latin typeface="Arial"/>
              </a:rPr>
              <a:t>questionnai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for compan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universi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mselves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for the c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entres experienced i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mpeten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ngagemen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specific </a:t>
            </a:r>
            <a:r>
              <a:rPr b="0" lang="en-US" sz="2400" spc="-1" strike="noStrike">
                <a:solidFill>
                  <a:srgbClr val="f7df56"/>
                </a:solidFill>
                <a:latin typeface="Arial"/>
              </a:rPr>
              <a:t>inventory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important </a:t>
            </a:r>
            <a:r>
              <a:rPr b="0" lang="en-US" sz="2400" spc="-1" strike="noStrike">
                <a:solidFill>
                  <a:srgbClr val="f7df56"/>
                </a:solidFill>
                <a:latin typeface="Arial"/>
              </a:rPr>
              <a:t>TQM basic qualifications for gradu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Using own resources - </a:t>
            </a:r>
            <a:r>
              <a:rPr b="1" lang="en-US" sz="2800" spc="-1" strike="noStrike">
                <a:solidFill>
                  <a:srgbClr val="f7df56"/>
                </a:solidFill>
                <a:latin typeface="Franklin Gothic Book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836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athering data and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quiry stakehold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questionnaires, meetings, study visits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umni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er Guidance and Counseling Centre information on stakeholders`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mber of Commerce information on the nee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Employment Service information on LM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on of Employer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26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eonardo da Vinc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-Ho Sint-Lieven Method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Questionna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w do you assess with regard to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kills and abiliti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inking compet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unication compet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personal compet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lf-management compet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ganisational compet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ent service compet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chnical-operational compet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RM compet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adership compet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w do you assess with regard to knowledg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hat kind of tests do you us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723920" y="1828440"/>
            <a:ext cx="397044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ethods of assessmen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view  - work sampl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mulations - written tes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essment centre -  experience, accomplishmen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ducational credentials - occupational certifi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o-data -  self-assessme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2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Using own resources – </a:t>
            </a:r>
            <a:r>
              <a:rPr b="1" lang="en-US" sz="2800" spc="-1" strike="noStrike">
                <a:solidFill>
                  <a:srgbClr val="f7df56"/>
                </a:solidFill>
                <a:latin typeface="Franklin Gothic Book"/>
              </a:rPr>
              <a:t>Management -2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alysis and assess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gathered findings on stakeholders` needs – knowledge, skills and compe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with actual curricul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syllabuses – their outputs and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Using own resources - </a:t>
            </a:r>
            <a:r>
              <a:rPr b="1" lang="en-US" sz="2800" spc="-1" strike="noStrike">
                <a:solidFill>
                  <a:srgbClr val="f7df56"/>
                </a:solidFill>
                <a:latin typeface="Franklin Gothic Book"/>
              </a:rPr>
              <a:t>Implement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ow to adjust curriculum to finding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eation of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uideli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revision of curricula and innovation of the educational concep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Tuning objectiv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studies` programm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M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reqi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Tuning the curriculum to the objectiv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ompeten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eneric compet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and s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bject specific competen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knowledge, skill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ust be transleted to curricul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n terms of learning activ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Using own resources </a:t>
            </a:r>
            <a:r>
              <a:rPr b="1" lang="en-US" sz="2400" spc="-1" strike="noStrike">
                <a:solidFill>
                  <a:srgbClr val="ffff00"/>
                </a:solidFill>
                <a:latin typeface="Franklin Gothic Book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Franklin Gothic Book"/>
              </a:rPr>
              <a:t>Implementation -2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4920"/>
            <a:ext cx="822960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Development/selection of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tudy 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ecessary, development and organisation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minars and the trainings for prof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rganisation of teaching/learning activ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7df56"/>
                </a:solidFill>
                <a:latin typeface="Arial"/>
              </a:rPr>
              <a:t>Counselling and learning support</a:t>
            </a:r>
            <a:r>
              <a:rPr b="0" lang="en-US" sz="2400" spc="-1" strike="noStrike">
                <a:solidFill>
                  <a:srgbClr val="f7df56"/>
                </a:solidFill>
                <a:latin typeface="Arial"/>
              </a:rPr>
              <a:t> to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Putting the revised Curriculum in the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Using own resources- </a:t>
            </a:r>
            <a:r>
              <a:rPr b="1" lang="en-US" sz="2800" spc="-1" strike="noStrike">
                <a:solidFill>
                  <a:srgbClr val="f7df56"/>
                </a:solidFill>
                <a:latin typeface="Franklin Gothic Book"/>
              </a:rPr>
              <a:t>Monitoring and Evaluatio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and develop </a:t>
            </a:r>
            <a:r>
              <a:rPr b="0" lang="en-US" sz="2400" spc="-1" strike="noStrike">
                <a:solidFill>
                  <a:srgbClr val="f7df56"/>
                </a:solidFill>
                <a:latin typeface="Arial"/>
              </a:rPr>
              <a:t>monitoring plan and 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US" sz="2400" spc="-1" strike="noStrike">
                <a:solidFill>
                  <a:srgbClr val="f7df56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US" sz="2400" spc="-1" strike="noStrike">
                <a:solidFill>
                  <a:srgbClr val="f7df56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US" sz="2400" spc="-1" strike="noStrike">
                <a:solidFill>
                  <a:srgbClr val="f7df56"/>
                </a:solidFill>
                <a:latin typeface="Arial"/>
              </a:rPr>
              <a:t>monitoring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urricu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dvisor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ar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should agree indicators with stakeholders (competences to be prioriti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Using own resources- </a:t>
            </a:r>
            <a:r>
              <a:rPr b="1" lang="en-US" sz="2800" spc="-1" strike="noStrike">
                <a:solidFill>
                  <a:srgbClr val="ffff00"/>
                </a:solidFill>
                <a:latin typeface="Franklin Gothic Book"/>
              </a:rPr>
              <a:t>Monitoring and Evaluation -2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of the q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ality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ing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erformace assess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ould b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urricu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dvisor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oar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 &amp; E should b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gular activities on annual b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lanned by C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rric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dvisor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a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uning of Curriculum should be done on annual base, to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IMPORTANTE NOTICE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se four pillars should be  fully applied in education system and poli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Franklin Gothic Book"/>
              </a:rPr>
              <a:t>C</a:t>
            </a:r>
            <a:r>
              <a:rPr b="1" lang="sr-Latn-CS" sz="3600" spc="-1" strike="noStrike">
                <a:solidFill>
                  <a:srgbClr val="ffc000"/>
                </a:solidFill>
                <a:latin typeface="Franklin Gothic Book"/>
              </a:rPr>
              <a:t>urricul</a:t>
            </a:r>
            <a:r>
              <a:rPr b="1" lang="en-US" sz="3600" spc="-1" strike="noStrike">
                <a:solidFill>
                  <a:srgbClr val="ffc000"/>
                </a:solidFill>
                <a:latin typeface="Franklin Gothic Book"/>
              </a:rPr>
              <a:t>u</a:t>
            </a:r>
            <a:r>
              <a:rPr b="1" lang="sr-Latn-CS" sz="3600" spc="-1" strike="noStrike">
                <a:solidFill>
                  <a:srgbClr val="ffc000"/>
                </a:solidFill>
                <a:latin typeface="Franklin Gothic Book"/>
              </a:rPr>
              <a:t>m </a:t>
            </a:r>
            <a:r>
              <a:rPr b="1" lang="en-US" sz="3600" spc="-1" strike="noStrike">
                <a:solidFill>
                  <a:srgbClr val="ffc000"/>
                </a:solidFill>
                <a:latin typeface="Franklin Gothic Book"/>
              </a:rPr>
              <a:t>A</a:t>
            </a:r>
            <a:r>
              <a:rPr b="1" lang="sr-Latn-CS" sz="3600" spc="-1" strike="noStrike">
                <a:solidFill>
                  <a:srgbClr val="ffc000"/>
                </a:solidFill>
                <a:latin typeface="Franklin Gothic Book"/>
              </a:rPr>
              <a:t>dvisory </a:t>
            </a:r>
            <a:r>
              <a:rPr b="1" lang="en-US" sz="3600" spc="-1" strike="noStrike">
                <a:solidFill>
                  <a:srgbClr val="ffc000"/>
                </a:solidFill>
                <a:latin typeface="Franklin Gothic Book"/>
              </a:rPr>
              <a:t>B</a:t>
            </a:r>
            <a:r>
              <a:rPr b="1" lang="sr-Latn-CS" sz="3600" spc="-1" strike="noStrike">
                <a:solidFill>
                  <a:srgbClr val="ffc000"/>
                </a:solidFill>
                <a:latin typeface="Franklin Gothic Book"/>
              </a:rPr>
              <a:t>oard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ember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iefs of the cathedr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resentatives of main stakehol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resentatives of Chamber of Commerce – Education Divi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resentatives of the Union of Employe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Franklin Gothic Book"/>
              </a:rPr>
              <a:t>Facilitation of tuning proces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eating an </a:t>
            </a: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interuniversity pilot advanced training centr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stimulate the introduction of market oriented approach in education process and creation of more competence based curricul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-549720"/>
            <a:ext cx="7467480" cy="71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EUROPEAN VALUE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ffffff"/>
                </a:solidFill>
                <a:latin typeface="Arial"/>
              </a:rPr>
              <a:t>EU –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LEARNING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NG LIFE LEAR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CONOMICAL DEVELOPMENT BASED ON COUNTINUOUS IMPLEMENTATION OF INOVATIVE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KNOWLEDGE AS AN INCENTIVE FOR CREATION OF NEW JOBS AND WORKING PLA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LABOUR MARKET AMBIT IN SERBIA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cial and economic transitions are in process, sti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ined indus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ong lack of direct and green-field invest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ducation system do not support economic trends and employers` demands (unfinished reform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LABOUR MARKET AMBIT IN SERBIA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number of state adopted strategies support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grading of human resources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rning human resources into human capital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initial level of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manent education and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novative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SOME REMARKS ON THE LABOUR  MARKET CONTEXT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IN SERBIA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STABLE ECONOMIC SITU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RONG STATE REGULATIVE ROLE AND IMPACT, J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VERY HIGH RATE OF TAX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FINISHED </a:t>
            </a:r>
            <a:r>
              <a:rPr b="1" lang="sl-SI" sz="2600" spc="-1" strike="noStrike">
                <a:solidFill>
                  <a:srgbClr val="ffffff"/>
                </a:solidFill>
                <a:latin typeface="Arial"/>
              </a:rPr>
              <a:t>TRANSS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sl-SI" sz="2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AL</a:t>
            </a:r>
            <a:r>
              <a:rPr b="1" lang="sl-SI" sz="26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sl-SI" sz="2600" spc="-1" strike="noStrike">
                <a:solidFill>
                  <a:srgbClr val="ffffff"/>
                </a:solidFill>
                <a:latin typeface="Arial"/>
              </a:rPr>
              <a:t>ONOM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C TRANS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BLEMS WITH PRIVATIS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SOME REMARKS ON THE LABOUR  MARKET CONTEXT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IN SERBIA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W RATE OF EMPLOY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VERY HIGH RATE OF REDUNDANT WORK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VERY HIGH RATE OF UNEMPLOY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HIGHEST RATE OF YOUTH UNEMPLOYMENT IN EURO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VELOPED “GREY LABOUR MARKET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9:19:38Z</dcterms:created>
  <dc:creator>Jadranka</dc:creator>
  <dc:description/>
  <dc:language>en-US</dc:language>
  <cp:lastModifiedBy>Goran Ostojic</cp:lastModifiedBy>
  <dcterms:modified xsi:type="dcterms:W3CDTF">2011-02-08T10:39:56Z</dcterms:modified>
  <cp:revision>357</cp:revision>
  <dc:subject/>
  <dc:title>WUS AUSTRIA - MASTER STUDIES DEVELOPMENT PROGRAM        </dc:title>
</cp:coreProperties>
</file>