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D26D-B389-4CB6-B526-B39B5BDCEC6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90C6-F183-4C08-9CBD-8B982AB45666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31D3-3968-4CF9-858D-49C05BE76AB4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81E0-99B6-4ED6-A054-51FB06FFF796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39B5-A083-4850-8D67-94C9C1F4925C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2D56-71DA-4B91-A435-2C8C30D7691C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66D8-CBEF-4DD9-AA1B-4D22B2491F01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B0EA-63E6-4FFB-B45A-19DA5454FF5C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5E90-68F9-4158-B475-5A7A5AEFFB6A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0864-5C4C-422E-ACE3-746FC25AF366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F0DF-D2FF-4DD2-AD1A-1A29A7B77546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ACAA-B048-45FD-BF8C-2A1410832B4D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9442-99EB-4AEE-A8C8-6DF35C19D760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0CD1-A44A-4E3F-B6F6-B68EDF22194D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BE8C-A5CB-45C4-87EC-D55E7DDF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4B88-041F-415D-850C-03452521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88CA-5921-4E0F-A653-3508B370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F8C9-B9D8-4DA4-A571-99B5C219F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699E-20E3-4CAC-A356-2CECCE08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DB08-7669-488B-86FF-3B6D9A45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6505-C0F4-4A64-936E-EF6FBB19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FE1E-0590-4285-B7A7-8ADB860E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F97C-AAF8-4687-9660-67E24CF4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1AFC-8B71-4A54-99F7-AE294FFC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CB55-4033-474C-B1B4-660DD238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8695-C357-485F-B64E-ED5ABF53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64B3-6FF9-41D3-AB32-199B1EC53B30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Employability – Policies and Practices at the European Level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US Semina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astian Bauman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981080" y="5943600"/>
            <a:ext cx="541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Kopaonik, 8 February 20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Different Approache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vory Tower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bordinate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nowledgeable and Reflective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-Active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Expectation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rom soc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rom employ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rom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Areas for Action and Cooperation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urriculum Design (long-term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reer Services / Guidance (83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umni Structures / Graduate Tracking (37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rnsh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o are the right partn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Possible Implication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ange in governan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ange in funding patter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ange of mentalit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mployability is a set of achievements – skills, understandings and personal attributes – that make graduates more likely to gain employment and be successful in their chosen occupations, which benefits themselves, the workforce, the community and the econom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Usefulness of competen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How to Assess Employability?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Having a job at 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mployment su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Field of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Link between study and work assig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Situation prior to Bologna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ong degr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igh drop-out r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aduate unemploy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erging European labour mar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Situation with Bologna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mployability became a cornerstone of the deb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war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ologna seminars (BLED, Swansea, Luxembour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rve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t on the grou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Acceptance of New Degree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degree awarded after the first cycle shall also be relevant to the European labour market as an appropriate level of qualificatio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t just transitory stage towards a real deg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they really been reform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Curriculum Design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kills and compet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bject speci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ene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nowing your needs / Professional relev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actice oriented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ich programm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Instrument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ploma Supp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alifications Frame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earning 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ality Assu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cog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ifelong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Starting Base – Purposes of Higher Education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paration for the labour mar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paration for life as active, constructive and critical citizens in a democratic soc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ersonal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intenance of an advanced knowledge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6:10:17Z</dcterms:created>
  <dc:creator>Office 2004 Test Drive-Benutzer</dc:creator>
  <dc:description/>
  <dc:language>en-US</dc:language>
  <cp:lastModifiedBy>Bastian</cp:lastModifiedBy>
  <dcterms:modified xsi:type="dcterms:W3CDTF">2011-02-08T07:37:33Z</dcterms:modified>
  <cp:revision>38</cp:revision>
  <dc:subject/>
  <dc:title>The Magna Charta Observatory</dc:title>
</cp:coreProperties>
</file>