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yosin2"/>
          <p:cNvPicPr/>
          <p:nvPr/>
        </p:nvPicPr>
        <p:blipFill>
          <a:blip r:embed="rId2"/>
          <a:srcRect l="0" t="0" r="16784" b="28926"/>
          <a:stretch/>
        </p:blipFill>
        <p:spPr>
          <a:xfrm>
            <a:off x="1214280" y="5041800"/>
            <a:ext cx="8037720" cy="191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219640" y="6200640"/>
            <a:ext cx="73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333399"/>
                </a:solidFill>
                <a:latin typeface="Book Antiqua"/>
              </a:rPr>
              <a:t>Health, Environment,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7020000" y="836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kuy_english_pp"/>
          <p:cNvPicPr/>
          <p:nvPr/>
        </p:nvPicPr>
        <p:blipFill>
          <a:blip r:embed="rId3"/>
          <a:stretch/>
        </p:blipFill>
        <p:spPr>
          <a:xfrm>
            <a:off x="468360" y="5808600"/>
            <a:ext cx="201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inheec.fi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90"/>
                </a:solidFill>
                <a:latin typeface="Arial"/>
              </a:rPr>
              <a:t>Self-Assessment and QA of H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33399"/>
                </a:solidFill>
                <a:latin typeface="Trebuchet MS"/>
              </a:rPr>
              <a:t>Belgrade,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33399"/>
                </a:solidFill>
                <a:latin typeface="Trebuchet MS"/>
              </a:rPr>
              <a:t>8-9 July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Self-Assessment as a Tool for Q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f. Ossi V. Lindqv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University of Eastern Finland,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iruutu 1"/>
          <p:cNvSpPr/>
          <p:nvPr/>
        </p:nvSpPr>
        <p:spPr>
          <a:xfrm>
            <a:off x="914400" y="812880"/>
            <a:ext cx="792468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2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. European standards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xternal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Use of internal quality assurance proced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velopment of external QA proces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riteria for decis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cesses fit-for-purp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por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ollow-up proced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eriodic revie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ystem-wide analy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kstiruutu 1"/>
          <p:cNvSpPr/>
          <p:nvPr/>
        </p:nvSpPr>
        <p:spPr>
          <a:xfrm>
            <a:off x="874080" y="1033560"/>
            <a:ext cx="742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3. European standards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xternal QA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ficial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ctivities, on a regular ba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ission 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depend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xternal QA criteria and proces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ccountability proced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kstiruutu 1"/>
          <p:cNvSpPr/>
          <p:nvPr/>
        </p:nvSpPr>
        <p:spPr>
          <a:xfrm>
            <a:off x="802800" y="1033560"/>
            <a:ext cx="872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In Finland, FINHEEC has adopted a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quality 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ype of procedure, starting in 200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Yet the HEI can decide itself which type of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system it is following (ISO, EFQM, etc.), if a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nd some HEIs have developed their own that fits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heir strategy and tas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he Finnish HEIs will be through the FINHE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udit  by 2011, but the HEIs are free to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national or international quality accreditation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or organisations (e.g. EQUIS) as we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07880" y="457200"/>
            <a:ext cx="8472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evaluation of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 Assuranc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a HEI is based on the principle of developing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mproving its qua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main target of the evaluation is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roces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put --&gt; Process --&gt;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f the ’Input’ (financing, student quality, faciliti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s sufficient, and the ’Process’ is of high quality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’Output’ should be at least satisfacto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 special European concern has been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of teach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!  (But: teaching </a:t>
            </a:r>
            <a:r>
              <a:rPr b="1" lang="fi-FI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learn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kstiruutu 1"/>
          <p:cNvSpPr/>
          <p:nvPr/>
        </p:nvSpPr>
        <p:spPr>
          <a:xfrm>
            <a:off x="1295280" y="304920"/>
            <a:ext cx="7155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FINHEEC</a:t>
            </a:r>
            <a:r>
              <a:rPr b="0" lang="fi-FI" sz="2400" spc="-1" strike="noStrike">
                <a:solidFill>
                  <a:srgbClr val="003366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-  more detailed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criteria 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re set in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consultation 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with the HEIs, and they are publ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he audit process involves partly a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peer review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, but includes also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student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and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labour market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representati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-  the audit report is published, and it is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public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FINHEEC gives an </a:t>
            </a:r>
            <a:r>
              <a:rPr b="1" i="1" lang="fi-FI" sz="2400" spc="-1" strike="noStrike">
                <a:solidFill>
                  <a:srgbClr val="000090"/>
                </a:solidFill>
                <a:latin typeface="Trebuchet MS"/>
              </a:rPr>
              <a:t>Audit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</a:t>
            </a:r>
            <a:r>
              <a:rPr b="1" i="1" lang="fi-FI" sz="2400" spc="-1" strike="noStrike">
                <a:solidFill>
                  <a:srgbClr val="000090"/>
                </a:solidFill>
                <a:latin typeface="Trebuchet MS"/>
              </a:rPr>
              <a:t>Certificate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to the H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which has passed the criteria.  Otherwise, a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re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-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audit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must be taken after two years.  The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is valid for six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iruutu 1"/>
          <p:cNvSpPr/>
          <p:nvPr/>
        </p:nvSpPr>
        <p:spPr>
          <a:xfrm>
            <a:off x="685800" y="685800"/>
            <a:ext cx="7988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0"/>
                </a:solidFill>
                <a:latin typeface="Trebuchet MS"/>
              </a:rPr>
              <a:t>What is being evaluated in FINHEEC aud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Comprehensiven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ffectivenes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ransparency of the Q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0"/>
                </a:solidFill>
                <a:latin typeface="Trebuchet MS"/>
              </a:rPr>
              <a:t>The Institutional QA should c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ducation,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Research (R&amp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Societal interactions (regional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Support and servic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Staf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iruutu 1"/>
          <p:cNvSpPr/>
          <p:nvPr/>
        </p:nvSpPr>
        <p:spPr>
          <a:xfrm>
            <a:off x="685800" y="457200"/>
            <a:ext cx="80773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European standards for </a:t>
            </a:r>
            <a:r>
              <a:rPr b="1" i="1" lang="fi-FI" sz="2800" spc="-1" strike="noStrike" u="sng">
                <a:solidFill>
                  <a:srgbClr val="333399"/>
                </a:solidFill>
                <a:uFillTx/>
                <a:latin typeface="Trebuchet MS"/>
              </a:rPr>
              <a:t>internal</a:t>
            </a: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starting point: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stitutional strateg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1. The </a:t>
            </a: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olicy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 and procedures for Q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the institutional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rateg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for Q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organis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 QA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ponsibiliti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faculties, departmen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ther internal organis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involvement of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udent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n Q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mplement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monitoring and revision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iruutu 1"/>
          <p:cNvSpPr/>
          <p:nvPr/>
        </p:nvSpPr>
        <p:spPr>
          <a:xfrm>
            <a:off x="1100160" y="1447920"/>
            <a:ext cx="75866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2. Approval, </a:t>
            </a: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onitoring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 and periodic review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    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progr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ormal mechanisms exist!  Describe th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iruutu 1"/>
          <p:cNvSpPr/>
          <p:nvPr/>
        </p:nvSpPr>
        <p:spPr>
          <a:xfrm>
            <a:off x="1252440" y="762120"/>
            <a:ext cx="7591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3. Assessment of </a:t>
            </a: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udents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: a key issue in 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measur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achievement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 intend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utcomes and program objecti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e appropriate for thei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urpose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lear and open criteria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ark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ssessments not relying on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judge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ingle examiners on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clea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gulation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for student absence, illnes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ther mitigating circumsta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ubject to administrativ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verific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check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nsure accuracy of the proced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olicy consequences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kstiruutu 1"/>
          <p:cNvSpPr/>
          <p:nvPr/>
        </p:nvSpPr>
        <p:spPr>
          <a:xfrm>
            <a:off x="1236600" y="1219320"/>
            <a:ext cx="7145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4. Quality assurance of the </a:t>
            </a: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eaching sta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qualified and competent staf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taff recruitment and appointmen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xi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upport for continuous staff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long-term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rategy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or staff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-275040" y="304920"/>
            <a:ext cx="9180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Global trends and developments in 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*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’Massification’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of HE, increased student numb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*  Globally,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demand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for HE generally far exc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the supp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*  New 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marke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situation, internationalis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and competi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*  The old concept of academic trust replac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accountabi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, towards society, the stude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the citizens at larg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*  A move from supply-side policies to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more demand 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marke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-driven ac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*  New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professional requirement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set by the mark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for learning outcomes, general skill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competenci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kstiruutu 1"/>
          <p:cNvSpPr/>
          <p:nvPr/>
        </p:nvSpPr>
        <p:spPr>
          <a:xfrm>
            <a:off x="1036080" y="1185840"/>
            <a:ext cx="734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5. </a:t>
            </a: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Learning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 resources and student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dequat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ourc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for student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learn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adily accessi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echanisms and feedback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mprovemene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development of the serv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Note: general shift in emphasis from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to lea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kstiruutu 1"/>
          <p:cNvSpPr/>
          <p:nvPr/>
        </p:nvSpPr>
        <p:spPr>
          <a:xfrm>
            <a:off x="1473120" y="533520"/>
            <a:ext cx="675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6. Information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HEI is collecting, analysing an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levant inform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for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anagement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cover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tudent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rogress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student satisfa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mployabi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gradua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ffectivenes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each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file of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udent popul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sources available with their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institution’s own ke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dicator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kstiruutu 1"/>
          <p:cNvSpPr/>
          <p:nvPr/>
        </p:nvSpPr>
        <p:spPr>
          <a:xfrm>
            <a:off x="762120" y="838080"/>
            <a:ext cx="79246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7. Public information and relation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    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stakehol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fulfilment of their public role, HEIs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gularly provid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form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about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unctions and overall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information should be up-to-d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mpartial, and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objective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and also serv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liais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with the HEIs’ various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akeholder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kstiruutu 1"/>
          <p:cNvSpPr/>
          <p:nvPr/>
        </p:nvSpPr>
        <p:spPr>
          <a:xfrm>
            <a:off x="762120" y="609480"/>
            <a:ext cx="7924680" cy="53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At the end, among 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leadership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s committed to Q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description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processes exist, with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sponsibilities defin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each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has a clear follow-up &amp; feedback syste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upportive functions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(for library, R&amp;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have their own QA syste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staff &amp; HR development are mor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ystematic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entire staff and students inolved in Q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The HEI has a realistic view of its QA system and how to develop/improve it furth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kstiruutu 1"/>
          <p:cNvSpPr/>
          <p:nvPr/>
        </p:nvSpPr>
        <p:spPr>
          <a:xfrm>
            <a:off x="932040" y="685800"/>
            <a:ext cx="76784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But 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void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overload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n Q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velop further criteria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learning outcom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velop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rategic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management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etter involvement/engagement of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akeholder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velop strategy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aff recruit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QA as a tool for overall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anage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 H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etter use of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good pra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he self-assessment process/report as a ke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for development/improvement of the HEI itsel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5800" y="1447920"/>
            <a:ext cx="74674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At the end, the </a:t>
            </a:r>
            <a:r>
              <a:rPr b="1" i="1" lang="fi-FI" sz="2800" spc="-1" strike="noStrike" u="sng">
                <a:solidFill>
                  <a:srgbClr val="333399"/>
                </a:solidFill>
                <a:uFillTx/>
                <a:latin typeface="Trebuchet MS"/>
              </a:rPr>
              <a:t>responsibility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 u="sng">
                <a:solidFill>
                  <a:srgbClr val="333399"/>
                </a:solidFill>
                <a:uFillTx/>
                <a:latin typeface="Trebuchet MS"/>
              </a:rPr>
              <a:t>lies with the HEIs themselves</a:t>
            </a: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specially important in the Bologna 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s also the engagement of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tudent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quality assurance process itself.  - 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obi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s a way of expanding study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ternationa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0560" y="457200"/>
            <a:ext cx="833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challeng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 how to create a real cooperativ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otivat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the staff to self-evaluate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ctivities in an open and transparent mann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 experienced and committed external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eam (Agency)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aking useful and relevant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commendation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utiliz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 report --&gt; cons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easures and follow-u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Important: can the system create </a:t>
            </a:r>
            <a:r>
              <a:rPr b="1" i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nough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for and between all the participants and play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kstiruutu 1"/>
          <p:cNvSpPr/>
          <p:nvPr/>
        </p:nvSpPr>
        <p:spPr>
          <a:xfrm>
            <a:off x="762120" y="685800"/>
            <a:ext cx="814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Finally, the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leadership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and governance of each H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plays an important  role in the implementation of its QA system.  (But still every university already has ’quality’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 system that is based on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a quality culture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mbraces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everybody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in the i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he leadership has to be the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initiator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of the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strategic quality improvement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in the institution, and its role is further enhanced in the dissemination of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good practices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through national and internation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13640" y="0"/>
            <a:ext cx="7566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The Bologna Process is 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uropean enterprise, but it is applicable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lsewh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It also shows the importance and benefi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regional cooperation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at all levels of H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specially in Postgraduate Educ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neighbouring countries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could pool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resources; (In the past, H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used to be strictly national policie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It is further enhanced by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transparency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 of the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systems, through open information by Intern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etc., so that anyone can make his/he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ssessment of education opportunitie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find proper study support syste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236960" y="657360"/>
            <a:ext cx="68238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Do we need a </a:t>
            </a:r>
            <a:r>
              <a:rPr b="1" i="1" lang="fi-FI" sz="28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knowledge-based</a:t>
            </a: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 socie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          </a:t>
            </a: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a </a:t>
            </a:r>
            <a:r>
              <a:rPr b="1" i="1" lang="fi-FI" sz="28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civic</a:t>
            </a: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 soci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  <a:ea typeface="MS Gothic"/>
              </a:rPr>
              <a:t>(or maybe both of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iruutu 1"/>
          <p:cNvSpPr/>
          <p:nvPr/>
        </p:nvSpPr>
        <p:spPr>
          <a:xfrm>
            <a:off x="1422360" y="685800"/>
            <a:ext cx="6327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Estimated numbers of univers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in 1875 / 1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North America                 360 /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Latin America                    30 /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urope                             110 /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sia                                      5 /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frica                                   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ustralasia                           2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99"/>
                </a:solidFill>
                <a:latin typeface="Trebuchet MS"/>
              </a:rPr>
              <a:t>                                 </a:t>
            </a:r>
            <a:r>
              <a:rPr b="1" lang="fi-FI" sz="1600" spc="-1" strike="noStrike">
                <a:solidFill>
                  <a:srgbClr val="333399"/>
                </a:solidFill>
                <a:latin typeface="Trebuchet MS"/>
              </a:rPr>
              <a:t>(Hobsbawn)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Current total number of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Institutions (HEIs) in the world is &gt;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9480" y="1905120"/>
            <a:ext cx="795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90"/>
                </a:solidFill>
                <a:latin typeface="Trebuchet MS"/>
                <a:ea typeface="MS Gothic"/>
              </a:rPr>
              <a:t>In short, </a:t>
            </a:r>
            <a:r>
              <a:rPr b="1" i="1" lang="fi-FI" sz="2800" spc="-1" strike="noStrike" u="sng">
                <a:solidFill>
                  <a:srgbClr val="000090"/>
                </a:solidFill>
                <a:uFillTx/>
                <a:latin typeface="Trebuchet MS"/>
                <a:ea typeface="MS Gothic"/>
              </a:rPr>
              <a:t>education</a:t>
            </a:r>
            <a:r>
              <a:rPr b="1" i="1" lang="fi-FI" sz="2800" spc="-1" strike="noStrike">
                <a:solidFill>
                  <a:srgbClr val="000090"/>
                </a:solidFill>
                <a:latin typeface="Trebuchet MS"/>
                <a:ea typeface="MS Gothic"/>
              </a:rPr>
              <a:t> seems to become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90"/>
                </a:solidFill>
                <a:latin typeface="Trebuchet MS"/>
                <a:ea typeface="MS Gothic"/>
              </a:rPr>
              <a:t>factor in regulating the rel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90"/>
                </a:solidFill>
                <a:latin typeface="Trebuchet MS"/>
                <a:ea typeface="MS Gothic"/>
              </a:rPr>
              <a:t>an individual and the state/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kstiruutu 1"/>
          <p:cNvSpPr/>
          <p:nvPr/>
        </p:nvSpPr>
        <p:spPr>
          <a:xfrm>
            <a:off x="1405080" y="1287360"/>
            <a:ext cx="690084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For fur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finheec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333399"/>
                </a:solidFill>
                <a:latin typeface="Trebuchet MS"/>
              </a:rPr>
              <a:t>Audit Manual for 2008-2011</a:t>
            </a:r>
            <a:r>
              <a:rPr b="1" lang="fi-FI" sz="2000" spc="-1" strike="noStrike">
                <a:solidFill>
                  <a:srgbClr val="333399"/>
                </a:solidFill>
                <a:latin typeface="Trebuchet MS"/>
              </a:rPr>
              <a:t>.  Publication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333399"/>
                </a:solidFill>
                <a:latin typeface="Trebuchet MS"/>
              </a:rPr>
              <a:t>FINHEEC, 10: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274560" y="2666880"/>
            <a:ext cx="201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ff0000"/>
                </a:solidFill>
                <a:latin typeface="Trebuchet MS"/>
                <a:ea typeface="MS Gothic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ff0000"/>
                </a:solidFill>
                <a:latin typeface="Trebuchet MS"/>
                <a:ea typeface="MS Gothic"/>
              </a:rPr>
              <a:t>but,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kstiruutu 1"/>
          <p:cNvSpPr/>
          <p:nvPr/>
        </p:nvSpPr>
        <p:spPr>
          <a:xfrm>
            <a:off x="910800" y="947880"/>
            <a:ext cx="79941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0"/>
                </a:solidFill>
                <a:latin typeface="Trebuchet MS"/>
              </a:rPr>
              <a:t>Quality relative to Higher Education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Quality meaning the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exceptional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, where qualit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related to the conception of excell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Quality meaning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perfection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, where quality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consistent and error-free attribu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Quality meaning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fit for purpose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, wher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fulfills the perceived requirements of stakehold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kstiruutu 1"/>
          <p:cNvSpPr/>
          <p:nvPr/>
        </p:nvSpPr>
        <p:spPr>
          <a:xfrm>
            <a:off x="1045800" y="1135080"/>
            <a:ext cx="742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0"/>
                </a:solidFill>
                <a:latin typeface="Trebuchet MS"/>
              </a:rPr>
              <a:t>Quality relative to Higher Education (I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Quality meaning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value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, where a govern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gency, subsidizing employer, or agency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optimum benefits relative to c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Quality meaning </a:t>
            </a:r>
            <a:r>
              <a:rPr b="1" lang="fi-FI" sz="2400" spc="-1" strike="noStrike" u="sng">
                <a:solidFill>
                  <a:srgbClr val="000090"/>
                </a:solidFill>
                <a:uFillTx/>
                <a:latin typeface="Trebuchet MS"/>
              </a:rPr>
              <a:t>transformation</a:t>
            </a: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, wher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necessarily involves a change from a curr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90"/>
                </a:solidFill>
                <a:latin typeface="Trebuchet MS"/>
              </a:rPr>
              <a:t>an ideal e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90"/>
                </a:solidFill>
                <a:latin typeface="Trebuchet MS"/>
              </a:rPr>
              <a:t>Lee Harvey 1997.  In: </a:t>
            </a:r>
            <a:r>
              <a:rPr b="1" i="1" lang="fi-FI" sz="2000" spc="-1" strike="noStrike">
                <a:solidFill>
                  <a:srgbClr val="000090"/>
                </a:solidFill>
                <a:latin typeface="Trebuchet MS"/>
              </a:rPr>
              <a:t>Tertiary Educat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90"/>
                </a:solidFill>
                <a:latin typeface="Trebuchet MS"/>
              </a:rPr>
              <a:t>Management </a:t>
            </a:r>
            <a:r>
              <a:rPr b="1" lang="fi-FI" sz="2000" spc="-1" strike="noStrike">
                <a:solidFill>
                  <a:srgbClr val="000090"/>
                </a:solidFill>
                <a:latin typeface="Trebuchet MS"/>
              </a:rPr>
              <a:t>3(1):25-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36640" y="606600"/>
            <a:ext cx="84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Historically, Europe has had a very divers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HE system, e.g., with a multitude of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structures;  still 15 years ago, some 600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kinds of ’Master degrees’ existed in Euro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n the US, by contrast, the degree structure i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was gradually harmonized, and the credit system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gradually introduced already starting in the 1860’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Thus also student and staff mobility with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US higher education was greatly enhanc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n the 1990’s, it was realized that Europe ha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harmonize its HE  system; partly as a result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’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massification’ of its higher edu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34080" y="762120"/>
            <a:ext cx="9076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The European response was the creation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so-called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Bologna Proces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, starting in 1999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t is an agreement between the European Mini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of Education, and it currently includes 4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ts aim is the production of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European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Education Area (EHEA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) by the year 2010 and beyo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t is supported by the European Commiss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The functions of the EHEA have been develop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several ministerial meetings during the past dec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Serbia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has been a signatory country in Bologna since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4600" y="609480"/>
            <a:ext cx="823500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overall aims of the Bologna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mproving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competitivenes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of Europ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universities and Europe at large, enhancing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obi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 both students and labour at large, and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HE being of utmost import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 Bologna is not an ’exclusive club’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 has been modified and locally adopted in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arts of the world; also Africa is developing it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’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frican Bologna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3200" y="838080"/>
            <a:ext cx="702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ools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owards the EH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1. Quality Assurance (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2. Harmonised degre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3. Promotion of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4. Establishment of a system of credits (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5. Recognition of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6. Role of students (especially in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7. European dimens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8. Life-long learning (L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78120" y="380880"/>
            <a:ext cx="9727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ne of the basic elements of EHEA is th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HE, and the development of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 Assurance (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ystem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for Higher Education Institutions (HE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ENQA Standards and Guidelines for QA was ado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y European ministers in Bergen in 2005, and the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 implementation was reviewed in London in 200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he Standards involve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ternal quality assurance (and self-assess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xternal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eer review of quality assurance agencies (for EQ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kstiruutu 1"/>
          <p:cNvSpPr/>
          <p:nvPr/>
        </p:nvSpPr>
        <p:spPr>
          <a:xfrm>
            <a:off x="914400" y="1066680"/>
            <a:ext cx="80010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uropean standards fo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ternal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olicy and procedures for Q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pproval, monitoring and periodic review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gram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ssessment of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QA of teaching staf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Learning resources and student sup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formation syste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ublic in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(A self-assessment report for external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6:42:32Z</dcterms:created>
  <dc:creator>pehynyne</dc:creator>
  <dc:description/>
  <dc:language>en-US</dc:language>
  <cp:lastModifiedBy>O L</cp:lastModifiedBy>
  <cp:lastPrinted>2010-07-03T20:23:02Z</cp:lastPrinted>
  <dcterms:modified xsi:type="dcterms:W3CDTF">2010-07-12T00:31:51Z</dcterms:modified>
  <cp:revision>37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85111104</vt:r8>
  </property>
  <property fmtid="{D5CDD505-2E9C-101B-9397-08002B2CF9AE}" pid="3" name="_AuthorEmail">
    <vt:lpwstr>Petri.Hynynen@uku.fi</vt:lpwstr>
  </property>
  <property fmtid="{D5CDD505-2E9C-101B-9397-08002B2CF9AE}" pid="4" name="_AuthorEmailDisplayName">
    <vt:lpwstr>Petri Hynynen</vt:lpwstr>
  </property>
  <property fmtid="{D5CDD505-2E9C-101B-9397-08002B2CF9AE}" pid="5" name="_EmailSubject">
    <vt:lpwstr>kuvia?</vt:lpwstr>
  </property>
</Properties>
</file>