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B3FB-6626-4CD2-B99D-88003E533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3986-097E-4E32-8E54-461492AF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6F95-91A9-4DE9-9976-0C6FF3055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10DF-1774-471B-A0AF-9E7EE20FB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9BE9-988A-48CA-BCAC-D1D281E1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BC39-A838-4471-B311-60A1470B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8071-9838-42A6-903E-8D7EC167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00F3-2D89-4D89-9CBF-9A99674E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50D7-4645-4C86-95F0-38E996BD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CBF1-3B08-4E71-AB3F-CB2738BE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A33E-8481-4722-A9F0-2366B9C6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AD84-3E45-4559-BEDA-4D718529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1646-1032-4040-8BDE-1A48CF58D8F7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Self assessment and QA - local experience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 external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81080" y="5943600"/>
            <a:ext cx="54104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Bastian Bauman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Belgrade, 9 July 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Process UNFM II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mmediate feed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ritten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ways recommendations that are not sha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port “owned” by UNF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ollow-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UNFM Specific Impressions I - Proces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Very eager, good first draft - but far from perf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alised opportunity (expert help, financed, no strings attach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ignificant effort put into improving the self evaluation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lf-evaluation team, but time constra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ather top-d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semination within UNF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UNFM Specific Impressions II - Structur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engthy (30 pages max., some annex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troduction: basic inform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pecific sections (followed the standards), each with SWOT analysis, each linked to institutional m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issing institutional mission as red thr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lation between UNFM and UN mis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UNFM Specific Impressions III - SWO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rected at 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eed to be evidence / fact b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ind-opening exerc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ll weakness should be addressed by action or remedy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tems referred to sometimes out of the b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gulations might be a weak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UNFM Specific Impressions IV - Content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dgetary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fferent sets of data not coll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rop-out 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verage time to grad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Items Addressed In The External repor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ocus on Bologna, strategy, quality assu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nagement and decision making bo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in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uman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udent conce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Some General Recommendations UNFM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commendations on each 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rategic action plan with priorit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se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ole of the Quality Cent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entral usage of some data coll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t more detailed information will be presented now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uncil of Europe Project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“Strengthening Higher Education reform in Serbia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 main streams (Qualification Frameworks, Recognition, Quality Assura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fferent ph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Quality assurance stream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eneral aim: Promoting a culture of internal quality assu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everal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oluntary participation by HE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arting point: self-evaluation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General impressions - Self Evaluation Reports I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ports for the purpose of accredi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fference of purposes accreditation / 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ssing threshold / impr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ype of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ddressing weaknesses rather in evaluation than accreditation (market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ittle analytical, self critical, reflective, improvement orien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General impressions - Self Evaluation Reports II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atements without supporting evi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pliance ment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pliance with stand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ards themselves sometimes not really triggering quality enhanc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pliance with laws and reg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 red th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General impressions - Self Evaluation Reports III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t all relevant issues address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stitutional mission and vision entirely disregar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Quality assurance perceived as control, inspection, police (languag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dentifying shortcomings considered as weakness, not as opport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What A Self Evaluation Report Should Address 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is the institution trying to d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ission and v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ow is the institution trying to do 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ow does the institution know it work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valuation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ow does the institution plan to change in order to improv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rategic pla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Rationales for Self Evaluation Report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in material for evalua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adability, comprehensive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y do not know the HE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question might they hav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ke strengths and weaknesses visible to leadership and academic 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eading to discussions and impr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Process UNFM I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irst self evaluation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econd version of the self evaluation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ternal visit (talks with 70 peop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13:48:21Z</dcterms:created>
  <dc:creator>Office 2004 Test Drive-Benutzer</dc:creator>
  <dc:description/>
  <dc:language>en-US</dc:language>
  <cp:lastModifiedBy>Bastian Baumann</cp:lastModifiedBy>
  <dcterms:modified xsi:type="dcterms:W3CDTF">2010-07-08T16:15:47Z</dcterms:modified>
  <cp:revision>38</cp:revision>
  <dc:subject/>
  <dc:title>The Magna Charta Observatory</dc:title>
</cp:coreProperties>
</file>