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32F-524F-475E-A97A-C992C104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4AF-6C2B-423B-B80C-5B28BAF5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648-8769-4871-8E67-9C4277C0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9B8-326D-441A-A4CA-6D10F440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29A0-8CC6-46DC-88CD-B19FA65F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6D50-053F-4A95-AF8C-576A302D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7FD6-5D08-453B-9254-C2B64EA5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420E-4E25-41AC-A4F5-F9809795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1B87-BD7C-419B-965D-3983F888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7157-BEC2-4275-A415-D571C522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EE99-B826-4BD7-BA66-D89BBEF7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55E-3526-424D-B3E6-E6023CA5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C49D-E5EA-4630-AD06-ABEC1FB0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0EB1-D821-4715-B704-5E554B1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F123-EC78-46A9-988B-497CE3BD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10B3-876F-4794-BD07-7A606F49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F223-62BA-4279-982A-8F2AD525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BE5-75F2-41E3-B44E-E99E96B5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39F-9196-4B7A-AC25-3A11CD65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57B-6025-4E2C-901A-2A043F06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A1A-C45F-4885-BDE1-0DB9F9E2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6D3-926F-4E29-8DE3-0F3C67BB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035-6EAE-44C8-A560-B38D49E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5F4-C488-4129-B970-601C19D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8CE2-D3C3-401B-8A8B-B228E21D98C1}" type="datetime3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CCAC-DD6C-4967-8A1F-B6BB944389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4B19-0D44-4187-8496-56ADBE806EF7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8277-EAD6-47A7-9CE5-6775F850C3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etting through accreditation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xperiences from an Austrian univers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s 2: self-evaluation rep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ction of chap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duction by middle-managers, OK by vice-de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vision and OK by project te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cussion with accreditation bo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king one report out of 10 chap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iting, discussion etc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ior consultancy –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alis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of-reading, layout, printing, etc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226-C3AC-4B2F-9909-0CC0262774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D5C32-A3D3-421E-99AB-AC388F121DB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s 3: peer review vis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tion: 3 mont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ion of schedule, selection of representa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iefing of representa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cess, expectations, tasks,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nior consultancy – brief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iefings by dean and vice-de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: hotel, catering, establishment of a room for peer reviewers, etc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5CA-0FBF-4EAB-B326-33FA2AF26E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B0AD0-95B3-40C2-9639-50BDFF083A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analysis vs. 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a positive t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buzzwords like “world class”, “state of the art”, … only when can be prove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t major problem areas and give explanations and solu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cise descriptions for external rea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ish vs. loc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3AB-E8B6-4CB7-9C7D-C3DB68CED9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BD356-B8F5-411A-AE4C-9BBA66C35D3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Accredi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-use / update texts of earlier accredi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reference to major changes and recommend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ep up the momentum among team members and employ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D9F-6AC3-45AA-8836-ED16C1D8DF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0BE4F-1E4A-47DB-AA8F-ECB98C329AB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and HUM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gister in International Business Administration from W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.A. in Balkan Studies from the University of Vien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 yr work experience at W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+ yr work experience as consultant for univers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UQB: Irish Universities Quality Board: member of the IRIU Register of Review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public of Bulgaria Council of Ministers / National Evaluation and Accreditation Agency: member of expert pool for accredit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659640" y="306360"/>
            <a:ext cx="2190600" cy="96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783-D106-491B-82EE-E8EFAB28FE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E261D-50B3-43F0-B32D-74AF781BE0A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produc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 pp self-evaluation re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ing graphs, tables, pic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0 pp append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s, fig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er review vis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 peers meet approx. 100 internal and external stakehol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A3C-0F55-4B60-ACDF-85034579F7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5048D-213A-4F04-8EAA-6EF63EC81AE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organ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26920" y="2368440"/>
            <a:ext cx="8137440" cy="3709440"/>
            <a:chOff x="826920" y="2368440"/>
            <a:chExt cx="8137440" cy="3709440"/>
          </a:xfrm>
        </p:grpSpPr>
        <p:cxnSp>
          <p:nvCxnSpPr>
            <p:cNvPr id="104" name="_s5149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3081600" y="4390560"/>
              <a:ext cx="464400" cy="1055520"/>
            </a:xfrm>
            <a:prstGeom prst="bentConnector3">
              <a:avLst>
                <a:gd name="adj1" fmla="val 24592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7" name="_s5146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5718240" y="4917240"/>
              <a:ext cx="464400" cy="2520"/>
            </a:xfrm>
            <a:prstGeom prst="bentConnector3">
              <a:avLst>
                <a:gd name="adj1" fmla="val 24592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0" name="_s5142"/>
            <p:cNvCxnSpPr>
              <a:stCxn id="111" idx="0"/>
              <a:endCxn id="106" idx="2"/>
            </p:cNvCxnSpPr>
            <p:nvPr/>
          </p:nvCxnSpPr>
          <p:spPr>
            <a:xfrm flipH="1" flipV="1" rot="5400000">
              <a:off x="2026440" y="4390560"/>
              <a:ext cx="464400" cy="1055880"/>
            </a:xfrm>
            <a:prstGeom prst="bentConnector3">
              <a:avLst>
                <a:gd name="adj1" fmla="val 24592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2" name="_s5139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6509880" y="2207160"/>
              <a:ext cx="464400" cy="2640240"/>
            </a:xfrm>
            <a:prstGeom prst="bentConnector3">
              <a:avLst>
                <a:gd name="adj1" fmla="val 24592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5" name="_s5132"/>
            <p:cNvCxnSpPr>
              <a:stCxn id="109" idx="0"/>
              <a:endCxn id="114" idx="2"/>
            </p:cNvCxnSpPr>
            <p:nvPr/>
          </p:nvCxnSpPr>
          <p:spPr>
            <a:xfrm flipV="1" rot="16200000">
              <a:off x="5453640" y="3263400"/>
              <a:ext cx="464400" cy="528120"/>
            </a:xfrm>
            <a:prstGeom prst="bentConnector3">
              <a:avLst>
                <a:gd name="adj1" fmla="val 24592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6" name="_s5131"/>
            <p:cNvCxnSpPr>
              <a:stCxn id="106" idx="0"/>
              <a:endCxn id="114" idx="2"/>
            </p:cNvCxnSpPr>
            <p:nvPr/>
          </p:nvCxnSpPr>
          <p:spPr>
            <a:xfrm flipH="1" flipV="1" rot="5400000">
              <a:off x="3871800" y="2209320"/>
              <a:ext cx="464400" cy="2636280"/>
            </a:xfrm>
            <a:prstGeom prst="bentConnector3">
              <a:avLst>
                <a:gd name="adj1" fmla="val 24592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14" name="_s5127"/>
            <p:cNvSpPr/>
            <p:nvPr/>
          </p:nvSpPr>
          <p:spPr>
            <a:xfrm>
              <a:off x="4518000" y="2368440"/>
              <a:ext cx="1808640" cy="927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an</a:t>
              </a: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: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Chapter Strategy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Final decision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5128"/>
            <p:cNvSpPr/>
            <p:nvPr/>
          </p:nvSpPr>
          <p:spPr>
            <a:xfrm>
              <a:off x="1882080" y="3759480"/>
              <a:ext cx="1808640" cy="927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Vice-Dean 1</a:t>
              </a: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: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Project owner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5129"/>
            <p:cNvSpPr/>
            <p:nvPr/>
          </p:nvSpPr>
          <p:spPr>
            <a:xfrm>
              <a:off x="5045400" y="3759480"/>
              <a:ext cx="1808640" cy="927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Other Vice-Dean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_s5138"/>
            <p:cNvSpPr/>
            <p:nvPr/>
          </p:nvSpPr>
          <p:spPr>
            <a:xfrm>
              <a:off x="7155720" y="3759480"/>
              <a:ext cx="1808640" cy="927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rofessors</a:t>
              </a: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Information held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locally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eedback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_s5141"/>
            <p:cNvSpPr/>
            <p:nvPr/>
          </p:nvSpPr>
          <p:spPr>
            <a:xfrm>
              <a:off x="826920" y="5150520"/>
              <a:ext cx="1808640" cy="927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Project manager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+ assistant: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Coordination,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realisatio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5145"/>
            <p:cNvSpPr/>
            <p:nvPr/>
          </p:nvSpPr>
          <p:spPr>
            <a:xfrm>
              <a:off x="5047200" y="5150520"/>
              <a:ext cx="1806840" cy="927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Middle manager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/ experts: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Write chapters,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prepare dat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5148"/>
            <p:cNvSpPr/>
            <p:nvPr/>
          </p:nvSpPr>
          <p:spPr>
            <a:xfrm>
              <a:off x="2936880" y="5150520"/>
              <a:ext cx="1808640" cy="927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Middle manager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/ experts: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Write chapters,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prepare dat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F3A-EE93-4CF2-8C38-0E403DAEA1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1633A-3E35-4EF7-BCC3-39AC88EE1F8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sta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project manager: 1 yr part-time, 1 yr full-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project assistant: 1 yr part-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-contractors: senior consulting, proof-reading, layout, cat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+ considerable time of Dean, Vice-Dean and many employ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81A-1212-49D4-A5E0-2FA97996CE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11E1C-F6DF-4778-9F3B-6F8A9610C0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at the institu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-groups and management board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reditation board with approx. 20 representatives, approx. 8 mee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ement bo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gular oral repor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ticles in university newspap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internal info s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ranet webs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0A3-5657-4381-A036-D1DCDBC415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CA3C5-9CF6-4F24-9DE9-301931C0FD7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s 1: prepa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y accreditation sche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ct projects, data and documents neede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nd agree on an index for the self-evaluation repo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 from others’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d self-evaluation repor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change with comparable institu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m buil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tas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responsibil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888-0336-4E50-93D0-BADFF3787E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40384-655C-4A27-B890-BB2F98EA25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s 1: prepa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peration with accreditation ag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sit to clarify expected results / problem are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tant exchange, ques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al commun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s aims and proces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t employees involved, get support of all decision-mak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tion: 1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CD5-9FD8-4BB2-8CB6-BC8C2F98D4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A2F0D-F589-440B-9566-67614F22271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s 2: self-evaluation rep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ation: 9 mon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an and vice-deans write chapter on strate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oad internal discu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ior consultancy –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ideline / example for other chap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HU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6FA-0D41-4FA3-B480-778B5E90CB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C4BA4-7413-4715-B0A7-9C971F4E4A8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05:16:13Z</dcterms:created>
  <dc:creator>Roland Humer</dc:creator>
  <dc:description/>
  <dc:language>en-US</dc:language>
  <cp:lastModifiedBy>Roland Humer</cp:lastModifiedBy>
  <dcterms:modified xsi:type="dcterms:W3CDTF">2010-07-06T08:28:24Z</dcterms:modified>
  <cp:revision>18</cp:revision>
  <dc:subject/>
  <dc:title>Institutional Accreditation</dc:title>
</cp:coreProperties>
</file>