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D24B-EF1F-4F3E-91D2-F215B079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06CE-4123-4B46-B957-E6E77819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B45-8C1C-48F5-93B9-CC6164F3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989A-8BE1-4BB0-9814-A87B988D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BF21-6293-4F55-AB41-8E22845B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221E-E2C1-4D56-8373-065A8E29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2520-CED1-435C-9D21-89910E11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617B-7752-427E-8872-DAA92F52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FC90-63C4-464D-8D05-97413CD1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B2CC-1247-4CCB-ABBA-DCB49D77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8769-4CD0-405C-9215-2CEAB5DB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F200-A2F5-4A34-9784-CE48BAFF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3FF7-BF82-4BAE-ACA8-76446536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A50D-6A34-4C00-8839-731BD9D6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5224-2D1D-4676-A4A6-57FCDBB4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D12F-E090-4054-AF79-1251B349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3EA2-C51F-4362-B2DC-6AA3FF457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6C1-A88D-4283-9F5E-A7C32167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7CB6-F9B4-4494-AE6E-6A64478C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71AD-85AE-4E4A-A80E-D2161F71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0B1-29DA-4C68-B113-DD4E8EA5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2249-1BCC-45C8-B02C-C2EAE368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7A6F-AB71-41CD-B6B7-CDB45CB1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0DB1-9ED6-49BA-842B-CA177C44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238D-B31C-47E8-9D3B-8037E6414C3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1944-7767-4C28-BDBA-712842AD463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QUALITY ASSURANCE </a:t>
            </a: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at  </a:t>
            </a: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the </a:t>
            </a: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University of Belgrade</a:t>
            </a:r>
            <a:br>
              <a:rPr sz="5400"/>
            </a:b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                       </a:t>
            </a:r>
            <a:r>
              <a:rPr b="1" lang="en-US" sz="3200" spc="-1" strike="noStrike">
                <a:solidFill>
                  <a:srgbClr val="f6fcac"/>
                </a:solidFill>
                <a:latin typeface="Garamond"/>
              </a:rPr>
              <a:t>prof. Neda Bokan</a:t>
            </a:r>
            <a:br>
              <a:rPr sz="3200"/>
            </a:br>
            <a:r>
              <a:rPr b="1" lang="en-US" sz="3200" spc="-1" strike="noStrike">
                <a:solidFill>
                  <a:srgbClr val="f6fcac"/>
                </a:solidFill>
                <a:latin typeface="Garamond"/>
              </a:rPr>
              <a:t>                          </a:t>
            </a:r>
            <a:r>
              <a:rPr b="1" lang="en-US" sz="2400" spc="-1" strike="noStrike">
                <a:solidFill>
                  <a:srgbClr val="f6fcac"/>
                </a:solidFill>
                <a:latin typeface="Garamond"/>
              </a:rPr>
              <a:t>vice - rector at the University of Belgrade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elf - evalu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erent analysis of study programs on faculties of BU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. of subject passed by stud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. of students that have enrolled to study programs…et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3505320"/>
          <a:ext cx="8229600" cy="2895120"/>
        </p:xfrm>
        <a:graphic>
          <a:graphicData uri="http://schemas.openxmlformats.org/drawingml/2006/table">
            <a:tbl>
              <a:tblPr/>
              <a:tblGrid>
                <a:gridCol w="1646280"/>
                <a:gridCol w="1325520"/>
                <a:gridCol w="1295280"/>
                <a:gridCol w="2514600"/>
                <a:gridCol w="1447920"/>
              </a:tblGrid>
              <a:tr h="5205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aculty: Study pro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. of subject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-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-50%  51-7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1-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otal No of study progra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9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8          3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,2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,04% 18,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4,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elf - evalu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In accordance with the Law on Higher Educ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 faculties accredited in I accreditation cyc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aculty of Law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chool of Electrical Engineer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aculty of mechanical engineer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aculty of Chemistr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aculty of physical chemistr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aculty of dental medicin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QA quot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“ 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This is the beginning not the end of the job; quality assurance is a journey, not a destination”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able of conten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Quality of teaching stuff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Quality of scientific research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Quality of study program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Self-evalu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tudent evaluation of professor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By-law adopted by the Senate of BU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Improving of the quality of teaching stuff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Final grade is important for the promotion of professor to the next leve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tudent evaluation of professor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stioner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Quality of lectur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Quality of teaching material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munication between professor and student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Grading system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838080" y="0"/>
          <a:ext cx="7772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0"/>
                    <a:ext cx="7772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he evaluation of scientific research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ype of publications of scientific research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nograp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moi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cientific paper …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lnSpc>
                <a:spcPct val="9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Significance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rnation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ion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Quality of study program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dopted by the Sena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parison of study programs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 and partner Universities in projects for student mobil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jects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Erasmus Mundus External Cooperation Window - EM ECW "JoinEU-SEE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and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Erasmus Mundus External Cooperation Window - EM ECW "BASILEUS"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Quality of study program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verage number of clas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verage number of courses per semest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vel of stud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itution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in the EU countr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in regional countri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08:12:29Z</dcterms:created>
  <dc:creator>anaj</dc:creator>
  <dc:description/>
  <dc:language>en-US</dc:language>
  <cp:lastModifiedBy>anaj</cp:lastModifiedBy>
  <dcterms:modified xsi:type="dcterms:W3CDTF">2010-07-05T13:38:25Z</dcterms:modified>
  <cp:revision>22</cp:revision>
  <dc:subject/>
  <dc:title>QULITY ASSURANCE  at   the  UNIVERSITY OF BELGRADE</dc:title>
</cp:coreProperties>
</file>