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36520" y="0"/>
            <a:ext cx="2946600" cy="495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72720" y="777960"/>
            <a:ext cx="4907160" cy="367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90280" y="4739760"/>
            <a:ext cx="5002200" cy="44564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940896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marL="216000"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36520" y="9408960"/>
            <a:ext cx="2946600" cy="495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DCA1535F-D9E3-4CB4-B05D-DC53D02C4C45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73080" y="777960"/>
            <a:ext cx="4907160" cy="3679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0280" y="4739760"/>
            <a:ext cx="5002200" cy="44564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43EE-1260-462C-92F8-40C43FF6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3735000"/>
            <a:ext cx="87854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92D6-2090-4AD8-A74A-EB18B84F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1A57-DE2E-45D4-B048-B924AD1E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98856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98856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373500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373500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373500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9B40-4415-478D-AF02-CB6E0767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CCF5B-4F31-4522-9515-311B1F0AC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1324C-4F89-4C34-B911-80EAF5C14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81D1-490E-4DB4-99E7-F9A389966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F8303-A1FA-47AF-A681-3FF084502C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674A-CE0F-45A9-80F9-609EC3BF0F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8920" y="150840"/>
            <a:ext cx="71658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9BA0D-0332-478A-8CCB-6EDC6E5C7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5E6AF-E6FD-487D-8CA7-8A7E47ED5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4995-30A8-490C-A590-E9A89EE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4E9E5-48B3-4787-95D1-318AFA79AB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3735000"/>
            <a:ext cx="87854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BA4D-62DD-4883-98DE-582BEB4B8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9280" y="3735000"/>
            <a:ext cx="87854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2AAF-CD61-464F-98C4-DFAB9EB21D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928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E8976-7A74-4D29-B777-FD92C43D1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9640" y="98856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0000" y="98856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9280" y="373500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9640" y="373500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0000" y="3735000"/>
            <a:ext cx="282852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D298D-2CF6-4BB7-AC7B-C697FBC4F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1268-3C99-4FC4-8969-F7E2F30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4881-80A3-454B-9E20-71DF1AB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E7ED-AA6A-4DE3-8A02-D54A7EBB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18920" y="150840"/>
            <a:ext cx="71658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B352-80DF-41B1-AE49-CB139CF3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E041-CD45-434C-9812-62537FE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373500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C3A6-B2CA-4688-8B39-7F19953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988560"/>
            <a:ext cx="42872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735000"/>
            <a:ext cx="8785440" cy="2507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1BB5-0BAC-4124-8331-45329CD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5920"/>
            <a:ext cx="9144000" cy="54000"/>
          </a:xfrm>
          <a:prstGeom prst="rect">
            <a:avLst/>
          </a:prstGeom>
          <a:solidFill>
            <a:srgbClr val="7c9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gradFill rotWithShape="0">
            <a:gsLst>
              <a:gs pos="0">
                <a:srgbClr val="9fb4be"/>
              </a:gs>
              <a:gs pos="100000">
                <a:srgbClr val="cad5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54000"/>
            <a:ext cx="1062000" cy="528480"/>
          </a:xfrm>
          <a:prstGeom prst="roundRect">
            <a:avLst>
              <a:gd name="adj" fmla="val 10278"/>
            </a:avLst>
          </a:prstGeom>
          <a:solidFill>
            <a:srgbClr val="ffffff"/>
          </a:solidFill>
          <a:ln w="12600">
            <a:solidFill>
              <a:srgbClr val="7c9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38120" y="92160"/>
            <a:ext cx="928800" cy="46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000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570560" y="6494400"/>
            <a:ext cx="630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139E-A994-4EA9-ADB2-A3B77920C3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79280" y="6494400"/>
            <a:ext cx="39355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566640"/>
          </a:xfrm>
          <a:prstGeom prst="rect">
            <a:avLst/>
          </a:prstGeom>
          <a:gradFill rotWithShape="0">
            <a:gsLst>
              <a:gs pos="0">
                <a:srgbClr val="9fb4be"/>
              </a:gs>
              <a:gs pos="100000">
                <a:srgbClr val="cad5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0840"/>
            <a:ext cx="9144000" cy="90360"/>
          </a:xfrm>
          <a:prstGeom prst="rect">
            <a:avLst/>
          </a:prstGeom>
          <a:solidFill>
            <a:srgbClr val="7c9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71280"/>
            <a:ext cx="1697040" cy="846360"/>
          </a:xfrm>
          <a:prstGeom prst="roundRect">
            <a:avLst>
              <a:gd name="adj" fmla="val 10278"/>
            </a:avLst>
          </a:prstGeom>
          <a:solidFill>
            <a:srgbClr val="ffffff"/>
          </a:solidFill>
          <a:ln w="12600">
            <a:solidFill>
              <a:srgbClr val="7c9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38120" y="108000"/>
            <a:ext cx="1550880" cy="77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057040"/>
            <a:ext cx="87091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4570560" y="6494400"/>
            <a:ext cx="630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EC7-3724-4F73-BDC2-D460AEFA6E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78920" y="6494400"/>
            <a:ext cx="43182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5000c"/>
                </a:solidFill>
                <a:latin typeface="Verdana"/>
              </a:rPr>
              <a:t>Click to edit the outline text format</a:t>
            </a:r>
            <a:endParaRPr b="0" lang="en-US" sz="2300" spc="-1" strike="noStrike">
              <a:solidFill>
                <a:srgbClr val="85000c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85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000c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5000c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5000c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5000c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5000c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5000c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hr.ac.at/" TargetMode="External"/><Relationship Id="rId2" Type="http://schemas.openxmlformats.org/officeDocument/2006/relationships/hyperlink" Target="http://www.fhr.ac.at/fhr_inhalt_en/01_about_us/legal_basis.htm" TargetMode="External"/><Relationship Id="rId3" Type="http://schemas.openxmlformats.org/officeDocument/2006/relationships/hyperlink" Target="http://www.fhr.ac.at/fhr_inhalt_en/02_quality_assurance/qual_assurance.htm" TargetMode="External"/><Relationship Id="rId4" Type="http://schemas.openxmlformats.org/officeDocument/2006/relationships/hyperlink" Target="http://www.fhr.ac.at/fhr_dyn/studienangebote/studienangebot.aspx" TargetMode="External"/><Relationship Id="rId5" Type="http://schemas.openxmlformats.org/officeDocument/2006/relationships/hyperlink" Target="mailto:maria.weber@fhr.ac.at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2320" y="631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057400"/>
            <a:ext cx="87091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Self assessment and QA of HE institution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657600"/>
            <a:ext cx="8709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31680" bIns="3168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ustrian FH Secto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versities of Applied Scienc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ternal Q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– Institutional Evalu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§ 2 Evaluation methods and principles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) (a) self-evaluation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b) to (f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3) The introduction of the self-evaluation report shall contain a description of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elf-evaluation procedure as well as the names of the persons involved.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elf-evaluation report shall b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ructured in accordance with the evaluation topic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fined in this Regulation (cf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tion 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. Within the given topics, the following aspects shall be highlighted: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5000c"/>
                </a:solidFill>
                <a:latin typeface="Verdana"/>
              </a:rPr>
              <a:t>a) description and assessment of the current situation including a strengths/weaknesses analysis;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5000c"/>
                </a:solidFill>
                <a:latin typeface="Verdana"/>
              </a:rPr>
              <a:t>b) proposals for improvements and planned measures.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4) The course-providing body shall submit the self-evaluation report to the FH Council by 28 February of the same year in which the external evaluation takes place.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2BEF-379D-4DE3-ABE4-72B4361490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– Institutional Evalu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stitutional evaluation : main topics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§ 5 Topics institutional evaluation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] Strategy and organisation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2] Quality assurance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3] Study programmes and teaching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4] Applied research &amp; development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5] Teaching and research staff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6] Internationalisation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7] Infrastructure and funds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0400-0D9E-4360-846D-770677DB0D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§ 5 Topics of the evaluation - Detailed</a:t>
            </a: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lvl="2" marL="1219320" indent="-304920"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1) Strategy and organisation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institution pursues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 clearly defined goal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a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ppropriate strategy to achieve them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goals and strategy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municated internally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are logically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linked to the publicly available mission statemen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ll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gree programm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cluding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rogrammes for further educ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re clearly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 in line with the strategic orientation of the institu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tasks, competences and responsibilities as well as the communication and decision-making processes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 have been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defined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,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communicated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implemented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. This also applies to the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interfaces 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between the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course-providing body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 and the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academic sector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organisational structur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procedure ensures that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eaching and research staff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tegrate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in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cision-making process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related to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udy and research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that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udent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tegrate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in decision-making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rocesses related to educ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utonomy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of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eaching and research staff is ensur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 a way that is appropriate for a higher-education institution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22A7-3BFC-4787-9029-713359B930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§ 5 Topics of the evaluation - Detailed</a:t>
            </a: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lvl="2" marL="1219320" indent="-304920"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2) Quality assurance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quality assurance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 strategi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rocedure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dequate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o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afeguard the quality of the core functions of </a:t>
            </a:r>
            <a:r>
              <a:rPr b="1" i="1" lang="en-GB" sz="1400" spc="-1" strike="noStrike">
                <a:solidFill>
                  <a:srgbClr val="85000c"/>
                </a:solidFill>
                <a:latin typeface="Verdana"/>
              </a:rPr>
              <a:t>Fachhochschule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institution is committe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o continuous quality enhancemen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1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quality assuranc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system has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fin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documented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municated internally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;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ssigne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in a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ransparent manner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udents’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ntribu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o quality assurance has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fin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It also takes place in the form of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urse evalu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by students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sult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of which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nsequently incorpora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o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mprove the quality of study programmes and teaching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1; 1.4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institution shall make sure that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formation relevant for operating high-quality degree programmes be collec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nalys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corporate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into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quality enhancement measur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It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ublish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objectiv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form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on the degree programmes and their qualifications on a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gular basi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6; 1.7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DFF0-C524-4692-9027-88A1114CF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§ 5 Topics of the evaluation - Detailed</a:t>
            </a:r>
            <a:br>
              <a:rPr sz="2100"/>
            </a:b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3) Study programmes and teaching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 procedure for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veloping and/or advancing the degree programm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has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mplemen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is procedure include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eriodic review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of the degree programmes with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gar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o their r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elevance an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up-to-datenes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nd involves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tegration of external expertis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reby, the connection between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vocational activiti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qualification profil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urriculum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eaching concept is taken into consider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2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educational objectiv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of the degree programmes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learly defin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everybody involved is familiar with them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knowledg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kill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petence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o be acquired in the degree programmes in line with the professional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higher-education requirement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ocumen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ublish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2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dmission and acknowledgement procedur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learly defin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ransparen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munica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o everybody involved.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examination requirement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modaliti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have bee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learly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gula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munica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ssessment method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have been designed in way that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llows verifying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whether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fined educational goals are reach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udent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ssess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using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ransparen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prehensibl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riteria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rocedur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3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stitu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shall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ensur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hat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sourc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mad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vailabl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o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udent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egree programm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s well as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cademic, administrativ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e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other support and assistanc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dequat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ppropriat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5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F5EC-1016-4389-A22C-B99EB1FE8E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§ 5 Topics of the evaluation - Detailed</a:t>
            </a:r>
            <a:br>
              <a:rPr sz="2100"/>
            </a:b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4) Applied research &amp; development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&amp;D concep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learly in lin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with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rategic orientation of the institu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source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tructure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ufficient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suitable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o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chieve the goal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of the R&amp;D concept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pplie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&amp;D activiti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ensu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know-how and technology transfer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fields of industry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,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business and society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It i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ensure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at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methods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sults of applied R&amp;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tegra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to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eaching programm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&amp;D result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become manifes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 publications, patents, conference contributions, etc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5) Teaching and research staff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recruiting procedur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for members of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eaching and research staff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dequate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for higher-education institutions and regulated 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documen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n a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 transparen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manner.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Job profiles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 for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 teaching and research positions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 in the individual fields of activity have been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specified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. The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proportions 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of teaching and research activities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have been defined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 and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ensure 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that the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core functions of </a:t>
            </a:r>
            <a:r>
              <a:rPr b="1" i="1" lang="en-GB" sz="1200" spc="-1" strike="noStrike">
                <a:solidFill>
                  <a:srgbClr val="85000c"/>
                </a:solidFill>
                <a:latin typeface="Verdana"/>
              </a:rPr>
              <a:t>Fachhochschulen </a:t>
            </a:r>
            <a:r>
              <a:rPr b="1" lang="en-GB" sz="1200" spc="-1" strike="noStrike">
                <a:solidFill>
                  <a:srgbClr val="85000c"/>
                </a:solidFill>
                <a:latin typeface="Verdana"/>
              </a:rPr>
              <a:t>are fulfilled</a:t>
            </a:r>
            <a:r>
              <a:rPr b="0" lang="en-GB" sz="12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[ESG 1.4]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stitution ensure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hat 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teaching and research staff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i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qualified 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and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ompetent to perform the tasks specified in the job profil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A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human resources development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pla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and further education options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 plac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[ESG 1.4]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A7F4-B1E0-46BB-A7BA-75DE46818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§ 5 Topics of the evaluation - Detailed</a:t>
            </a:r>
            <a:br>
              <a:rPr sz="2100"/>
            </a:b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lvl="2" marL="1219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6) Internationalisation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institution ha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laid down its strategic goal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with regard to internationalisation and participates in international partnerships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organisational and operational measures are suitable for the implement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of the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 strategic goals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5000c"/>
                </a:solidFill>
                <a:latin typeface="Verdana"/>
              </a:rPr>
              <a:t>(7) Infrastructure and funds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institution has an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approved multiannual pla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detailing how its tasks will be financed. The expenses budgeted and actually spent by the degree programmes and the institution are periodically edited and documented.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budgeting process and the implementation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of the budget ar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clearly defined and documented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infrastructure and technical facilities help achieve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 the institution’s </a:t>
            </a:r>
            <a:r>
              <a:rPr b="1" lang="en-GB" sz="1400" spc="-1" strike="noStrike">
                <a:solidFill>
                  <a:srgbClr val="85000c"/>
                </a:solidFill>
                <a:latin typeface="Verdana"/>
              </a:rPr>
              <a:t>goals in an appropriate manner</a:t>
            </a:r>
            <a:r>
              <a:rPr b="0" lang="en-GB" sz="1400" spc="-1" strike="noStrike">
                <a:solidFill>
                  <a:srgbClr val="85000c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5B74-8286-4D1D-ACC1-EFA8C198A1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16616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Institutional Evaluation: Managing the SE-Process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-Proces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rategic objective for the whole organization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articipative, collective bottom-up process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nyfold perspectives – vertical and horizontal - should be ensured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ntaining a culture of critical, reflective dialogue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-Proces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rganized as a project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ordination Team (e.g. QM)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re-Team (Steering-Team) (e.g. QM, e.g. representatives of the managing body; representatives of the acadamic board; students representatives; representatives of administrative services)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tended-Team (e.g. representatives from different departments and positions)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65ED-464E-425A-B4A2-AE61308213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Institutional Evaluation: Managing the SE-Process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524016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D3B0-863C-4641-995F-2F70E8C7A4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Institutional Evaluation: Managing the SE-Process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7086600" cy="553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C697-A0A6-44B3-BF80-ECC7BDE29E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773360"/>
            <a:ext cx="8785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36000" bIns="36000" anchor="ctr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ustrian FH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cedures of External QA in FH-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rogramme accredi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im of accred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ain stages – methods and princi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stitutional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im of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main objectives and purpo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ain stages - methods and princi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ain top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naging the SE-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100000"/>
              </a:lnSpc>
              <a:spcBef>
                <a:spcPts val="349"/>
              </a:spcBef>
              <a:buClr>
                <a:srgbClr val="850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189000"/>
            <a:ext cx="7165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DF82-7EEC-459D-B33C-91830483BC7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Institutional Evaluation: Managing the SE-Process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41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C668-80F3-41E8-A074-79DF321CB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16616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Institutional Evaluation: Managing the SE-Process</a:t>
            </a:r>
            <a:endParaRPr b="1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re-Team: 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haring meetings with involved groups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stitutional related interpretation of Evaluation Regulation and (ESG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dentification of evidence related documents to every topic as attempted (cf § 5 Topics institutional evaluation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sponsibility for drafting chapters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-Team: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rafting the descriptive parts of the SE-report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Observance of time schedule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vising the draft report after the meetings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paring the workshops and meetings with the SE-Teams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onsultation with Agency, which is organizing on-site-review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inal wording of descriptive parts, strengths/weaknesses, areas for improvement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xtended-SE-Team: 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suring a broad involvment of groups – especially in terms of discussing the strengths/weaknesses analysis and areas for improvment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35A1-E37F-4842-B46A-E374CA9577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Verdana"/>
              </a:rPr>
              <a:t>FHR Further Information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urther Information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fhr.ac.at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fhr.ac.at/fhr_inhalt_en/01_about_us/legal_basis.htm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H-Studies Act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ccreditation Guidlines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valuation Regulation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fhr.ac.at/fhr_inhalt_en/02_quality_assurance/qual_assurance.htm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Quality assurance in the FH sector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fhr.ac.at/fhr_dyn/studienangebote/studienangebot.aspx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grees and Programmes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maria.weber@fhr.ac.a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8FAF-006F-4777-94BB-29F0CF1478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ffff"/>
                </a:solidFill>
                <a:latin typeface="Verdana"/>
              </a:rPr>
              <a:t>Austrian educational system / FH-Sector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56720" cy="61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5187-56FB-432D-8A62-D67AC5E0E4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ffff"/>
                </a:solidFill>
                <a:latin typeface="Verdana"/>
              </a:rPr>
              <a:t>Key features programmes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67240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E505-69BC-4F02-908F-7DEE2D917A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- Programme Accredit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e accreditation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: aim of accreditation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aranteeing students, sponsors, the business community and society that the programmes offered have been through a positive QA procedure prior to their approval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ication for accreditation has to describe the connection between 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vocational fields of activity for which it is aimed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related qualification profile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ich the future graduates will have to achieve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order to be able to satisfy the tasks of the professional field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a way which is adequate for higher education level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the curriculum &gt; the required qualifications must be reflected in the courses of the curriculum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se connections have to be demonstrated in the teaching concept as well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54ED-FE04-41B8-A6FE-24980414BE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- Programme Accredit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e accreditation: main stages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mes are designed on behalf of the HEI by expert teams with the required academic and professional qualifications (involve persons extrinsic to the institution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pplication is submitted to the FH Council for scrutiny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amined by the members and the office of the FH Council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ck of expertise in the FH Council &gt; written expert opinions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cision on accreditation is carried out by the members of the FH Council themselves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 on-site visi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accreditition is substantially based on a carefully conducted process of curriculum development)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cedure ends with a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ositive or negative decis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including a likely request to take certain measures to improve quality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gal prerequisites have been me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quired quality measures take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a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gramm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will b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pprov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for a maximum of five years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EC79-839C-4DBF-8BC6-3B6AB45A8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– Institutional Evalu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stitutional evaluation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p to 2009 the FH sector two different kinds of evaluation procedures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gramme evaluation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stitutional evaluation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ince 2010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stitutional evaluation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nhancement-driven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take place in 6-year intervals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lose connection between initial accreditation, evaluation and re-accreditation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ach re-accreditation requires a new application and the submission of an evaluation report (prior evaluation is mandatory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30BA-D074-49E1-B2E9-B0628AD81A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– Institutional Evalu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stitutional evaluation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: main objectives and purpose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§ 1 Objective and purpose of the evaluation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1] promote quality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mproveme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and demonstrate to the public how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stitution meets the responsibility for assuring and enhanc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quality.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2] focused on the strategies and procedures for quality assurance and quality enhancement of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re function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achhochschule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 […]  topics (cf. section 5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3] based on the quality concept “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itness for purpos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”. The requirements stipulated in section 5, taking into account the European Standards and Guidelines (ESG, Part 1].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4] the self-evaluation report and the on-site visit are assessing whether the requirements of section 5 have been met in a coherent, appropriate and transparent way.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mprovement potential shall be point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out.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5] the evaluation report (on the institutional evaluation) will be considered evidence for meeting the statutory prerequisites pursuant to section 13 sub-section 2 FHStG (re-accreditation of programmes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6] evaluations take place in 6-year intervals.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C739-01F5-4E4E-A8FE-255507D7F6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50840"/>
            <a:ext cx="71658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ff"/>
                </a:solidFill>
                <a:latin typeface="Verdana"/>
              </a:rPr>
              <a:t>Procedures of EQS – Institutional Evaluation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988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36000" bIns="360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stitutional evaluation : main stages, methods and principles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§ 2 Evaluation methods and principle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] The evaluation consists of the following elements 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a) self-evaluation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b) external evaluation by a review-team (on-site-visit)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(§ 3 [4]) The course-providing body shall inform the FH Council of the constitution of the review team by 15 January of the same year in which the evaluation takes place.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(§ 3 [5]) The FH Council can reject the constitution of the review team if it does not comply with the provisions set out in section 3 sub-sections 1, 2 or 3. In such a case, the course-providing body shall immediately suggest to the FH Council one (or more) new member(s) for the review team. In this case, sentences 1 and 2 shall be applied accordingly. </a:t>
            </a:r>
            <a:endParaRPr b="0" lang="en-US" sz="1200" spc="-1" strike="noStrike">
              <a:solidFill>
                <a:srgbClr val="85000c"/>
              </a:solidFill>
              <a:latin typeface="Verdana"/>
            </a:endParaRPr>
          </a:p>
          <a:p>
            <a:pPr lvl="3" marL="1638360" indent="-266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) comment on the review team’s evaluation report </a:t>
            </a:r>
            <a:endParaRPr b="0" lang="en-US" sz="14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) acceptance of the evaluation report by the FH-Council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) follow-up procedure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f) publication of the evaluation results </a:t>
            </a:r>
            <a:endParaRPr b="0" lang="en-US" sz="1600" spc="-1" strike="noStrike">
              <a:solidFill>
                <a:srgbClr val="85000c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2] … [10]</a:t>
            </a:r>
            <a:endParaRPr b="0" lang="en-US" sz="1800" spc="-1" strike="noStrike">
              <a:solidFill>
                <a:srgbClr val="85000c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5000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Austrian FH Se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42BB-8DC6-4407-979B-2AA079765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8:34:27Z</dcterms:created>
  <dc:creator>Maria Weber</dc:creator>
  <dc:description/>
  <dc:language>en-US</dc:language>
  <cp:lastModifiedBy>Maria Weber</cp:lastModifiedBy>
  <dcterms:modified xsi:type="dcterms:W3CDTF">2010-07-12T10:19:53Z</dcterms:modified>
  <cp:revision>15</cp:revision>
  <dc:subject/>
  <dc:title>Folie 1</dc:title>
</cp:coreProperties>
</file>