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282-F39C-4201-966B-D6FD53421B26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A198-F6EE-49CB-8EC2-26D467F4C3B7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5CC-BCE1-4D56-B648-1927A89A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D63-5106-46F3-9275-CD8A917D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753-C97E-4B8D-BE76-92BBA02E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C83-596F-43DA-B22F-E91C2147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B46-5C72-4178-BC97-6A6C17AA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4AB-AAF1-4A60-AC95-BBFEDE8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EDA-BB91-4A9E-AD3A-6EEBF85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B45-80DA-4D3F-9D0E-A828ECA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028-8553-4546-A980-FE8EF79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C96-4ECC-4FB1-BA2C-1298EB1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DDB-BC7B-4053-8577-FF3E45E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CC2-22F5-4AC0-B763-AC801DB1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EBFD-2678-4620-AB4C-AD5F6738F889}" type="slidenum">
              <a:rPr b="0" lang="hr-B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KAPK- Komisija za akreditaciju i proveru kvalitet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AQA- Commission for Accreditation and Quality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50288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lf Assessment and Quality Assurance of HE Institution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ay 8-9, 2010 ,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3886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a Vu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ić, CAQA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I cycle: 6 faculties/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 stud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acts of 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lf-evaluation report of CA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ternal quality assessment of accredited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pproaching EN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lf Assessment of 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rategy of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ndards and procedures for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ystem of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Quality of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Quality of teach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Quality of scientific research / artist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Quality of teachers and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Quality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Quality of textbooks, literature, library and I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Managerial quality of the institution and quality of non-teach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Quality of premises an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Role of students in self assessment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Systematic monitoring and periodic qual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057400" y="1295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activity, every thre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rnal Quality Assessment of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ance on the results of self-control of 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hod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reas of external quality control (accreditation standards for institutions and progr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Results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Organization and participants in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ocedure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Periodic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mprovement of the procedure for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62120" y="1600200"/>
            <a:ext cx="321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371600" y="12952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activity, initiated by CAQA, NC, ME,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: European standards and guidelines for internal quality assurance within higher education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      Policy and procedures for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     Approval, monitoring and periodic review of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     Assessment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      Quality assurance of teaching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      Learning resources and stud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     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      Publ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ompatible with  CAQA standards for Self Assessment of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2: European standards and guidelines for the external quality assurance of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      Use of internal quality assuranc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      Development of external quality assuranc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      Criteria fo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      Processes fit f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     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      Follow-up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7      Periodic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8      System-wide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erbia external quality assurance is performed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accredi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periodic external quality assessment of institution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G Standards, Part 2, are compatible both with  CAQA standards for Self Assessment of Institutions and CAQA Standards for Accreditation of Institutions and Study Progr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: European standards and guidelines for external quality assurance agencies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      Use of external quality assurance procedures for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      Offici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    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     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     Missio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    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     External quality assurance criteria and processes used by the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.8      Accountability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G Standards, Part 3, are compatible with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andards and Procedures of CAQ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ndards of CAQ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: Mission and objectiv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its mandated mission in compli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higher edu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2: Status of the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is a national accreditation bod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Commission i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edin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tution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able institutions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4: Decision making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cisions taken by the Commission must be rigorous, fai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qu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credible associates and financial source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6: Internal quality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established methods of quality assurance and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ts enhance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External quality evalu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proceedings shall be periodically evalu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ndards of CAQ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9. Improvement of quality assuranc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assurance process is being monitored, analyzed and impro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the state of art in higher education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: International cooperation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perat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network of agencies and organization in the field of accreditat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1: Procedures and tim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the procedures and determined tim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edi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2: Accreditation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accredits study programs and higher education institu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3: Accreditation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defines the scope and format of the documents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edi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4: Expert t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 forms expert teams and appoints its memb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5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: Compatibility with the Europea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takes care of compliance of the procedures ad stand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the European standa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Plans for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QA is ENQA Associate si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next step is the Application for full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Higher education in SER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68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accredited schools for higher professional education with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285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for about 20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.00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85= 190 I level (180 ESPB) + 95 II level (60 ESP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12 accredited universities (7 state, 5 priv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04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accredited faculties with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03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for about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60.00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30 = 485 I level (180/240 ESPB) + 360 II level (120/60 ESPB) + 185 III level (180 ESP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In the accreditation process: 6 universities (1 state, 5 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2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faculties and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22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are under the “Act of w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914400" y="719640"/>
            <a:ext cx="67816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he Law on Higher Education (200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04920" y="17564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19520" y="4343400"/>
            <a:ext cx="5486400" cy="100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COMMISSION FOR ACCREDITATION AND QUALITY ASSURANCE (CAQ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2006.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15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04920" y="4347000"/>
            <a:ext cx="21333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RY OF EDUCATION (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33520" y="2638800"/>
            <a:ext cx="327636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IONAL COUNCIL OF HIGHER EDUCATION (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6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5 (21)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828800" y="6095880"/>
            <a:ext cx="71629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Institutions of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15000" y="1523880"/>
            <a:ext cx="3200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Serbian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76920" y="2895480"/>
            <a:ext cx="38862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professional schools 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304920" y="2133720"/>
            <a:ext cx="0" cy="2286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286000" y="21337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8686800" y="3657600"/>
            <a:ext cx="0" cy="243828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8991720" y="2362320"/>
            <a:ext cx="0" cy="373356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3962520" y="1752480"/>
            <a:ext cx="17524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1981080" y="12193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4343400" y="22860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5410080" y="5410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2057400" y="52578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0" descr="Srbija mali grb za word"/>
          <p:cNvPicPr/>
          <p:nvPr/>
        </p:nvPicPr>
        <p:blipFill>
          <a:blip r:embed="rId1"/>
          <a:stretch/>
        </p:blipFill>
        <p:spPr>
          <a:xfrm>
            <a:off x="0" y="0"/>
            <a:ext cx="723960" cy="1019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1"/>
          <p:cNvSpPr/>
          <p:nvPr/>
        </p:nvSpPr>
        <p:spPr>
          <a:xfrm>
            <a:off x="609480" y="59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7696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>
            <a:off x="723888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4"/>
          <p:cNvSpPr/>
          <p:nvPr/>
        </p:nvSpPr>
        <p:spPr>
          <a:xfrm>
            <a:off x="3809880" y="33526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4343400" y="228600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342900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 flipH="1">
            <a:off x="2437920" y="48006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765000"/>
            <a:ext cx="762012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ccording to the Law, the first activity of CAQ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as to define three sets of standard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lf-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external quality 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accreditation of the hig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ducation institutions and study progr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Approved by National Council of higher education in October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00320" y="101520"/>
            <a:ext cx="67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85800" y="3733920"/>
            <a:ext cx="771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aw, all higher education institutions in the Repub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rbia and their study programs had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o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ccreditation 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Jun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adline has been extended until June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creditation is a periodic activity (5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lf-assessment and external quality assessment -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9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6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7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7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572000" y="159840"/>
            <a:ext cx="4419720" cy="3064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REDITATION STANDARDS FOR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THE FIRST AND SECOND LEVEL OF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. Study program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. Study program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3. Objectives of the stud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4. Competences of the graduated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5.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. Quality, modernity and internation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7. Admission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8. Grading and advancement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9. Teach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 Organization and materi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1. Quality contro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2. Distance learning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-24840"/>
            <a:ext cx="4267080" cy="694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REDITATION STANDARDS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IGHER EDUCATION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. Basic goals and objectives of higher education 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2. Plann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3. Organization and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4.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5. Science research and artistic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6. Teaching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7. Non-teaching staf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8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9. Premises and equipme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0. Library, textbooks and I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1. Sources o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2. Internal mechanisms for 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3.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0" y="3421800"/>
            <a:ext cx="4191120" cy="3435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REDITATION STANDARDS FOR STUDY PROGRAM OF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DOCTOR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tandard - Competence of the higher education institution to carry out the doctor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. Study program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. Study program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3. Study program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4. Competence of graduated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5.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. Quality, modernity and international compliance of stud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7. Admission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8. Grading and advancement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9. Teach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 Organizational and  materi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1.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1828800" y="3117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6095880" y="235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3520" y="762120"/>
            <a:ext cx="7543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6858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 submits the accreditation request supported by the data and docu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676520"/>
            <a:ext cx="2895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505320" y="1523880"/>
            <a:ext cx="47242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368080" y="12168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 Accreditation 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52280" y="16329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forms sub-commission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505320" y="15235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, at the proposal by sub-commission, designates two reviewers for the institution and each study program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00 refer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876920" y="2588400"/>
            <a:ext cx="33526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viewers submit reports to 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762120" y="3421800"/>
            <a:ext cx="72388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makes a draft report and presents it to CA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533520" y="2590920"/>
            <a:ext cx="3124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the institution-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056760" y="4036320"/>
            <a:ext cx="2881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 deci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971800" y="4957200"/>
            <a:ext cx="3048120" cy="119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s the  accreditation reques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s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781680" y="4722120"/>
            <a:ext cx="1981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616680" y="4917960"/>
            <a:ext cx="177948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s 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1371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2895480" y="1974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1600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6095880" y="327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419720" y="38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6019920" y="433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H="1">
            <a:off x="1447560" y="433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 flipH="1">
            <a:off x="228600" y="570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228600" y="37270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228600" y="3727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1447920" y="433692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7315200" y="433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6705720" y="5936760"/>
            <a:ext cx="22096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to the National Council of Higher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7696080" y="5403960"/>
            <a:ext cx="0" cy="5331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6659640" y="56307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5"/>
          <p:cNvSpPr/>
          <p:nvPr/>
        </p:nvSpPr>
        <p:spPr>
          <a:xfrm flipH="1">
            <a:off x="228600" y="3657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6"/>
          <p:cNvSpPr/>
          <p:nvPr/>
        </p:nvSpPr>
        <p:spPr>
          <a:xfrm flipH="1">
            <a:off x="7238880" y="4343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3128040" y="6399720"/>
            <a:ext cx="3381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licenses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8"/>
          <p:cNvSpPr/>
          <p:nvPr/>
        </p:nvSpPr>
        <p:spPr>
          <a:xfrm>
            <a:off x="43434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1909800"/>
            <a:ext cx="4038480" cy="180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68 high sch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32 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52280" y="4874760"/>
            <a:ext cx="54435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lic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724280" y="1828080"/>
            <a:ext cx="4191120" cy="2226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ed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high sch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12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5 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19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38280" y="0"/>
            <a:ext cx="4572000" cy="1068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78 high school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87 stud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5400000">
            <a:off x="2361960" y="1066680"/>
            <a:ext cx="60948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5400000">
            <a:off x="6476400" y="990360"/>
            <a:ext cx="60984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 rot="5400000">
            <a:off x="1638000" y="3771720"/>
            <a:ext cx="68580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8600" y="152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80880" y="2519640"/>
            <a:ext cx="4038840" cy="3141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stit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4 (I)+7 (II)+25 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56 (I)+114(II)+166(I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48320" y="2530800"/>
            <a:ext cx="4190760" cy="3080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of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s: 5 (II)+22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(I) + 40 (II)+171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057400" y="228600"/>
            <a:ext cx="5791320" cy="2226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4 (I)+12 (II)+47(III) faculties/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72 (I) + 154 (II) + 337(I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04920" y="228600"/>
            <a:ext cx="198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, II, III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4920" y="57913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corrections, rejection rate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0880" y="2519640"/>
            <a:ext cx="4038840" cy="3141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stit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5 (IV)+0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14 (IV)+39(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495680" y="2530800"/>
            <a:ext cx="4343400" cy="3080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of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s: 24 (IV)+9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2 (IV) + 148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057400" y="228600"/>
            <a:ext cx="5791320" cy="2226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49 (IV)+27(V) faculties/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96 (IV) + 200 (V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4920" y="228600"/>
            <a:ext cx="1600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, V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04920" y="57913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rrections, rejection rate: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4:26:06Z</dcterms:created>
  <dc:creator>ajam</dc:creator>
  <dc:description/>
  <dc:language>en-US</dc:language>
  <cp:lastModifiedBy>Milica Žujko</cp:lastModifiedBy>
  <dcterms:modified xsi:type="dcterms:W3CDTF">2010-07-14T14:00:5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