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yosin2"/>
          <p:cNvPicPr/>
          <p:nvPr/>
        </p:nvPicPr>
        <p:blipFill>
          <a:blip r:embed="rId2"/>
          <a:srcRect l="0" t="0" r="16784" b="28926"/>
          <a:stretch/>
        </p:blipFill>
        <p:spPr>
          <a:xfrm>
            <a:off x="1214280" y="5041800"/>
            <a:ext cx="8037720" cy="1916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5219640" y="6200640"/>
            <a:ext cx="73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333399"/>
                </a:solidFill>
                <a:latin typeface="Book Antiqua"/>
              </a:rPr>
              <a:t>Health, Environment, Well-being</a:t>
            </a:r>
            <a:endParaRPr b="1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7020000" y="8366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5" name="Picture 13" descr="kuy_english_pp"/>
          <p:cNvPicPr/>
          <p:nvPr/>
        </p:nvPicPr>
        <p:blipFill>
          <a:blip r:embed="rId3"/>
          <a:stretch/>
        </p:blipFill>
        <p:spPr>
          <a:xfrm>
            <a:off x="468360" y="5808600"/>
            <a:ext cx="201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ka.fi/" TargetMode="External"/><Relationship Id="rId2" Type="http://schemas.openxmlformats.org/officeDocument/2006/relationships/hyperlink" Target="http://www.research.f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2032920" y="990720"/>
            <a:ext cx="55785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rebuchet MS"/>
              </a:rPr>
              <a:t>Evaluation and </a:t>
            </a: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rebuchet MS"/>
              </a:rPr>
              <a:t>Quality Assurance of Research</a:t>
            </a: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rebuchet MS"/>
              </a:rPr>
              <a:t>December 2008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rebuchet MS"/>
              </a:rPr>
              <a:t>Prof. Ossi V. Lindqvist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rebuchet MS"/>
              </a:rPr>
              <a:t>University of Kuopio, Finland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48760" y="255600"/>
            <a:ext cx="82152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333399"/>
                </a:solidFill>
                <a:latin typeface="Trebuchet MS"/>
              </a:rPr>
              <a:t>2. Quality of Research Outcome</a:t>
            </a: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What is a good paper?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- interesting, relevant, a good story!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Note:  Scientists do not work in a vacuum, but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ey also make numerous social networks,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sometimes called ’invisible colleges’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- publishing a paper is a necessary step, but not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lways sufficient; you also have to ’sell’ your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paper, by attending and speaking in conferences,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etc.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-  popularisation of research results, also advisable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- 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general educational and cultural value of research!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535680" y="0"/>
            <a:ext cx="801396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333399"/>
                </a:solidFill>
                <a:latin typeface="Trebuchet MS"/>
              </a:rPr>
              <a:t>3. Quality and Volume of Research</a:t>
            </a: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e research (R&amp;D) performance of a Higher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Education Institution (HEI) or of a nation can be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measured by the volume only (numbers of papers,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patents, etc.), but it is not deemed sufficient; 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e impact or ’importance’ of a research paper or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program often is indicated by the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Citation Index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,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originally produced by </a:t>
            </a:r>
            <a:r>
              <a:rPr b="1" i="1" lang="fi-FI" sz="2400" spc="-1" strike="noStrike">
                <a:solidFill>
                  <a:srgbClr val="333399"/>
                </a:solidFill>
                <a:latin typeface="Trebuchet MS"/>
              </a:rPr>
              <a:t>The Institute for Scientific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333399"/>
                </a:solidFill>
                <a:latin typeface="Trebuchet MS"/>
              </a:rPr>
              <a:t>Information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(ISI) in the 1960’s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t is an index of citations between publications,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ndicating which later documents cite which earlier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documents.  (There exist now several systems that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provide citation indexes for various purposes.)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731520" y="1219320"/>
            <a:ext cx="785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e methodology and measures of citation impact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have grown complicated, serving also specific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purposes; 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lso the relative impact ’weight’ of scientific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journals can be measured by the frequency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e articles they publish are cited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ll journals included in ISI are peer-reviewed.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857880" y="255600"/>
            <a:ext cx="77760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33399"/>
                </a:solidFill>
                <a:latin typeface="Trebuchet MS"/>
              </a:rPr>
              <a:t>But numerous </a:t>
            </a:r>
            <a:r>
              <a:rPr b="1" lang="fi-FI" sz="2800" spc="-1" strike="noStrike" u="sng">
                <a:solidFill>
                  <a:srgbClr val="333399"/>
                </a:solidFill>
                <a:uFillTx/>
                <a:latin typeface="Trebuchet MS"/>
              </a:rPr>
              <a:t>biases</a:t>
            </a:r>
            <a:r>
              <a:rPr b="1" lang="fi-FI" sz="2800" spc="-1" strike="noStrike">
                <a:solidFill>
                  <a:srgbClr val="333399"/>
                </a:solidFill>
                <a:latin typeface="Trebuchet MS"/>
              </a:rPr>
              <a:t> may also exist:</a:t>
            </a: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e numbers of scientists in different fields vary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greatly, therefore also the numbers of citations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national sciences (history, etc.) tend to suffer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when published in local languages, in a book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form, or in journals not included in ISI, etc.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e ’invisible colleges’ may be relatively ’closed’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us the developing countries and their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scientists may face an uphill battle to become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more ’visible’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e role of national and international team work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s gaining strength; then who gets the credit?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very bad papers also get citations!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e Matthew effect!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7240" y="473040"/>
            <a:ext cx="8164800" cy="60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33399"/>
                </a:solidFill>
                <a:latin typeface="Trebuchet MS"/>
              </a:rPr>
              <a:t>Bibliometrics, the newest tool:</a:t>
            </a: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Bibliometric analyses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are instruments that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document the publication performance of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uthors and institutions, in terms of numbers of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citations they receive, e.g. the following ways: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- national and international comparisons with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other comparable institutions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op journal articles with the most citations, etc.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determination of citation rates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research ’maps’ and scientific rankings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current ’hot topics’ in science and research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- assessment of performance of individual scientists.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763920" y="488880"/>
            <a:ext cx="8270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The Citation Index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is only one of the many means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of assessing/monitoring the research effort by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ndividual scientists or institutions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n Europe, the universities themselves are commonly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engaged in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external evaluations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of their research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outcome and research policies; these are usually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based on and performed by an international peer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review system, for the purpose of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improvement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But, problems remain: availability of quantitative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nd comparable indicators is often limited, but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t should not be too insurmountable.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975960" y="522360"/>
            <a:ext cx="822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Quality Assurance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systems in HEIs should also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nclude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research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as a process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University’s own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research strategy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is an important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management tool, also for the sake of its own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resource management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e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internal evaluation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of research activities often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starts with data compilation, trend-analyses,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self-assessment, followed by an external evaluation,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often by an international expert team, and finally,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followed by possible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realignment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of the research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strategy.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5320" y="304920"/>
            <a:ext cx="88704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333399"/>
                </a:solidFill>
                <a:latin typeface="Trebuchet MS"/>
              </a:rPr>
              <a:t>4. Evaluation of the External Impact of </a:t>
            </a: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333399"/>
                </a:solidFill>
                <a:latin typeface="Trebuchet MS"/>
              </a:rPr>
              <a:t>    </a:t>
            </a:r>
            <a:r>
              <a:rPr b="1" i="1" lang="fi-FI" sz="2800" spc="-1" strike="noStrike">
                <a:solidFill>
                  <a:srgbClr val="333399"/>
                </a:solidFill>
                <a:latin typeface="Trebuchet MS"/>
              </a:rPr>
              <a:t>Research</a:t>
            </a: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is is often an issue deeply in the national interest,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e.g., in relation to the existing innovation/science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policies, but also the HEIs have obligations towards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e ’third task’, or ’service to the society’.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Methodologically it is not an easy task.  How to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measure it?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n principle,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both general education and research tend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to have very long-term impacts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, which often can be seen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best by default only!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81960" y="914400"/>
            <a:ext cx="862164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But certain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indicators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are useful: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is education meeting the true needs of labour market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,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nd what is the true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employability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of the graduates?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number of patents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HEI’s participation in technology transfer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new employment; spin-off companies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cooperation with partners and stakeholders,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business companies and organisations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scientific prizes and recognitions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nd,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is teaching always up-to-date?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907200" y="228600"/>
            <a:ext cx="7221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Finally,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research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is not just ’doing’ it!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ts has to be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managed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, especially by providing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proper and sufficient tools and infrastructure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for it; but also by peoples’ management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 trend towards larger teams, often involving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expensive instrumentation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lso teaming with other HEIs or research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organisations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And renewing the brain pool through young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and talented scientists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!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767880" y="609480"/>
            <a:ext cx="7262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e basic reasons for research monitoring and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quality assessment are: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Performance &amp; Accountability!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e practice started in the 1930’s (in the US),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nd also in Europe soon after WW2.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t was a consequence of increased public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nvestment in (national) research and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development (R&amp;D) activities.  It became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even more pressing with the creation of inter-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national research funding (e.g., EU, UN, etc.)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700200" y="1447920"/>
            <a:ext cx="780084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33399"/>
                </a:solidFill>
                <a:latin typeface="Trebuchet MS"/>
              </a:rPr>
              <a:t>Finally, good research always has a strong </a:t>
            </a: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33399"/>
                </a:solidFill>
                <a:latin typeface="Trebuchet MS"/>
              </a:rPr>
              <a:t>educational value, both inside and outside </a:t>
            </a: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33399"/>
                </a:solidFill>
                <a:latin typeface="Trebuchet MS"/>
              </a:rPr>
              <a:t>the university!</a:t>
            </a: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333399"/>
                </a:solidFill>
                <a:latin typeface="Trebuchet MS"/>
              </a:rPr>
              <a:t>But, in the long run, it is also a national </a:t>
            </a: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333399"/>
                </a:solidFill>
                <a:latin typeface="Trebuchet MS"/>
              </a:rPr>
              <a:t>lifeline!</a:t>
            </a: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332000" y="1268280"/>
            <a:ext cx="6759720" cy="34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33399"/>
                </a:solidFill>
                <a:latin typeface="Trebuchet MS"/>
              </a:rPr>
              <a:t>For further information: case Finland</a:t>
            </a: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www.aka.fi</a:t>
            </a: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www.research.fi</a:t>
            </a: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24800" y="228600"/>
            <a:ext cx="8075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ere is a global trend towards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research-based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nstitutions, in contrast to the ’old’ universities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whose traditional and principal task was teaching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n a number of countries the universities constitute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 major part of the national (public)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research effort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e external assessment of universities is more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nd more based on their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research performance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Many national and international ranking lists of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universities are based predominantly on research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(e.g. Shanghai Jiao Tong University’s).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Universities as partners in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regional engagement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!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017000" y="573120"/>
            <a:ext cx="741204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But the practice of research and teaching has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lso changed: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Teaching based on research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but it is also value-based, depending  on the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creation of a critical and free enquiring culture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n the institutions...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nd good research is based on good teaching...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(all great scientists have had great teachers...)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58320" y="0"/>
            <a:ext cx="872100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lso, there has been a shift in the ’mode’ of knowledge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production: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from single-discipline into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transdisciplinary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teamwork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from a specialised mode into temporary collaborations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nd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multiple linkages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, nationally, regionally, and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nternationally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from purely institutional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funding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into a range of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public and private sources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he main task is not just to practice science, but to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solve problems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!  Be they in the field of basic research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or of applied research!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570600" y="285840"/>
            <a:ext cx="6986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But there should also be a national research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nd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innovation strategy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;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t could be either,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a top-down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, or,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a bottom-up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strategy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n Finland, for instance, it has been mostly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top-down strategy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, but still leaving a lot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of leeway to individual initiatives and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nnovations.  Also, with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multiple sources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of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research funding!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-275040" y="304920"/>
            <a:ext cx="9224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Quality assessment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of research may concern four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different phases of the research process: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1. Evaluation of research grant proposals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2. Evaluation of a research paper (or a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  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programme) = quality of research outcome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3. Evaluation of the quality/volume of research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 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conducted by a HEI or a research institute/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 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organisation, or nationwide;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4. Evaluation of the external (societal) impact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    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of research, both short-term and long-term.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Commonly assessment is based on a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peer judgement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system of evaluation.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97000" y="1523880"/>
            <a:ext cx="3538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Internal criteria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Significance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Connectivity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Promise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Validity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Strength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868560" y="1523880"/>
            <a:ext cx="4704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External criteria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Educational value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Communication value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Relevance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pplicability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Technology assessment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Sustainability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Default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Side benefits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Means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Costs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665000" y="60804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333399"/>
                </a:solidFill>
                <a:latin typeface="Trebuchet MS"/>
              </a:rPr>
              <a:t>1. Criteria for Selection of Projects</a:t>
            </a: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933120" y="684360"/>
            <a:ext cx="827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How to write a grant application: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333399"/>
                </a:solidFill>
                <a:latin typeface="Trebuchet MS"/>
              </a:rPr>
              <a:t>www.niaid.nih.gov/ncn/grants/write/index.htm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dvice given by the National Institutes of Health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(NIH), but many other funding organisations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also offer similar support to potential applicants.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</a:rPr>
              <a:t>PhD training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 in universities is also a big challenge: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it should also involve such generic skills, as scientific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</a:rPr>
              <a:t>writing, IPR issues, etc., etc.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7:06:45Z</dcterms:created>
  <dc:creator>pehynyne</dc:creator>
  <dc:description/>
  <dc:language>en-US</dc:language>
  <cp:lastModifiedBy>O L</cp:lastModifiedBy>
  <cp:lastPrinted>2008-12-09T21:01:23Z</cp:lastPrinted>
  <dcterms:modified xsi:type="dcterms:W3CDTF">2009-12-07T18:44:06Z</dcterms:modified>
  <cp:revision>2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85111104</vt:r8>
  </property>
  <property fmtid="{D5CDD505-2E9C-101B-9397-08002B2CF9AE}" pid="3" name="_AuthorEmail">
    <vt:lpwstr>Petri.Hynynen@uku.fi</vt:lpwstr>
  </property>
  <property fmtid="{D5CDD505-2E9C-101B-9397-08002B2CF9AE}" pid="4" name="_AuthorEmailDisplayName">
    <vt:lpwstr>Petri Hynynen</vt:lpwstr>
  </property>
  <property fmtid="{D5CDD505-2E9C-101B-9397-08002B2CF9AE}" pid="5" name="_EmailSubject">
    <vt:lpwstr>kuvia?</vt:lpwstr>
  </property>
</Properties>
</file>