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25C4-059C-4451-8A94-B3FC8C9AB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16FF-6E84-4582-8CCA-F8FADAA81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C97-333F-4238-B47E-4D495E0D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4CF-D14D-4C94-B3E2-29575F94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F65-D0D3-4ABB-ADE4-AC5BDA20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139-6805-4581-B96A-8BECCF36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7A7A-3D6B-408F-9139-E29588AC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BEA3-E157-4277-BEAF-49DE006B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0026-7729-4FB7-A37C-17FBF017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752C-B7E7-487B-9C22-097AFA10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C17B-F480-4832-8046-CB6E67EC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1244-BF9F-4B6E-8E8F-C52E2AE3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642E-B681-417A-A12B-5B6F5FC1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CFD-59D1-4FF8-AEED-9AE7C5B6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140B-96F0-4118-B6D3-09BF341F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7A41-1A89-4871-B57F-6FA0BAA0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E339-CFD1-4316-9083-EFDEE0A2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0275-622A-4034-A0DE-E1F3F337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F1E-F613-4954-B6B6-7B516DD3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A3E7-AECD-4D45-9BF5-ED4A47D7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8EC32-619D-4F2B-8A0A-95EF7622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0BA5-C3F7-46A1-BACA-98DB9A72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9BA9-B5E4-47D8-B47A-C74054E5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838C-F71C-408A-9F32-8EF8B0FD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DFF-0EA5-4C0B-9FCE-690D39B0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0B41-B9B0-4B57-8F8F-B2CC29E9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FE81-10C9-4F3C-BB9C-37EDBA8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1BF5-E1FF-4362-A2AE-60E2CFF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82898-3117-4D30-B65E-2E05FC60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5900A-BA3F-4EDF-B436-27808028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2B16D-0B5A-463D-93BA-9091CF58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251A-18D7-4396-8508-10C8A797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114C1-4916-4F54-B24F-14EF0F73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2A7B9-DF38-4EE7-B3C9-78B477CD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DA5B2-58A6-490C-B0F8-2AE2AEFE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64A-715C-4789-8084-214B9BD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2344-A437-475C-9620-B0112376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A165-0F27-4996-8AE1-A3E33B04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0529-6EEF-4D64-B7B6-95FB2B6B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2882B-746A-47BF-9E4E-FBD4C900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EDEB-26DA-44D6-AA48-C3BBA20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6284-31E5-4C98-8A9C-CE701883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5A05-2B52-4B98-A69A-EDC1DEDA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4DB2-CBB7-4059-B047-DADD5F68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6B9F-B78B-42FB-A42F-412B32F5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806B0-5C66-4D43-BD2B-4D2CBB7F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4F1-EA18-4E67-8293-3A313679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AA207-37DC-4975-AD4E-A886F609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893E-8F71-4086-B238-2EAFF803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477CD-8690-4F75-AB09-82A68358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43B43-0AE4-46DF-A638-0BD53DFD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B2408-1E6D-42C0-A46A-A32D419A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FEDC4-99FF-4098-A272-61014F1D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D75A4-D127-4289-88B7-FBBC8B6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F430-EF91-4B3F-AB12-31740699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89B6-7F77-4C0F-AC23-11D62E34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0D88C-7BBF-44E2-9B11-5D65D396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CD9-1E81-40AE-A252-098D2625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5579-AAA2-4728-B019-F06581E7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BA7-D653-4E0C-B593-95F2D88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8A8-5A92-4394-8835-E1F4A95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274-2B3A-4FBA-8D6E-9B7B461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46CA-7574-4EF2-A083-D1514CCE408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CF0F-EB28-45E5-90D6-1D74F314520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290-DB37-460D-8F6A-8D3D1D80D65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63FB-D546-451D-8C30-32186B1E269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E48E-886B-479A-BDB8-793D6DC79A1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665280" y="682560"/>
            <a:ext cx="8186760" cy="1914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иљана Мијатовић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ија за акредитацију и проверу квалитет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28600" y="148068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ладавањем студијског програма студент стиче следеће опште способности: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е, синтезе и предвиђања решења и последиц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авања методама, поступцима и процесима истраживањ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 критичког и самокритичког мишљења и приступ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 знања у пракс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 комуникационих способности и спретности, као и сарадње са ужим социјалним и међународним окружењем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е ети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28600" y="148068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урикулума обухвата распоред предмета и модула по семестрима, триместрима, односно блоковима, фонд часова активне наставе и ЕСПБ бодове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 предмета садржи назив, тип предмета, годину и семестар студија, број ЕСПБ бодова, име наставника, циљ курса са очекиваним исходима, знањима и компетенцијама, предуслове за похађање предмета, садржај предмета, препоручену литературу, методе извођења наставе, начин провере знања и оцењивања и друге подат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уктури студијског програма на основним академским студијама, осим за поље уметнос-ти, заступљене су следеће групе предмета у односу на укупан број ЕСПБ бодова, и то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ско-општеобразовне - око 15 %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ско-методолошке - око 20 %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, односно уметничко-стручне - око 35 % 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о-апликативне - око 30 %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2" descr=""/>
          <p:cNvPicPr/>
          <p:nvPr/>
        </p:nvPicPr>
        <p:blipFill>
          <a:blip r:embed="rId1"/>
          <a:stretch/>
        </p:blipFill>
        <p:spPr>
          <a:xfrm>
            <a:off x="12600" y="-517680"/>
            <a:ext cx="8985240" cy="2737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5228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и програм нуди студентима најновија научна, уметничка, односно стручна сазнања из одговарајуће обла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и програм је целовит и свеобухватан и усаглашен је са другим програмима високошколске установ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и програм је усклађен са најмање три акредитована програма иностране високошколске установе, од којих су најмање два из високошколских установа европског образовног простор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2" descr=""/>
          <p:cNvPicPr/>
          <p:nvPr/>
        </p:nvPicPr>
        <p:blipFill>
          <a:blip r:embed="rId1"/>
          <a:stretch/>
        </p:blipFill>
        <p:spPr>
          <a:xfrm>
            <a:off x="12600" y="-457200"/>
            <a:ext cx="8912160" cy="2219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2860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и програм је формално и структурно усклађен са утврђеним предметно специфичним стандардима за акредитацију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и програм је усаглашен са европским стандардима у погледу услова уписа, трајања студија, услова преласка у наредну годину, стицања дипломе и начина студирањ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91600" cy="1182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студената који се уписују на одговарајући студијски програм утврђује се на основу расположивих просторних и кадровских могућности високошколске установе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а знања, склоности и способности које се проверавају при упису одговарају природи студијског програма и начин те провере одговара карактеру студијског програма и објављује се у конкурс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2" descr=""/>
          <p:cNvPicPr/>
          <p:nvPr/>
        </p:nvPicPr>
        <p:blipFill>
          <a:blip r:embed="rId1"/>
          <a:stretch/>
        </p:blipFill>
        <p:spPr>
          <a:xfrm>
            <a:off x="12600" y="60480"/>
            <a:ext cx="8912160" cy="1701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савлађује студијски програм полагањем испита, чиме стиче одређени број ЕСПБ бодова, у складу са студијским програмо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појединачни предмет у програму има одређени број ЕСПБ бодова који студент остварује када са успехом положи испит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ЕСПБ бодова утврђује се на основу радног оптерећења студента у савлађивању одређе-ног предмета и применом јединствене методологије високошколске установе за св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е програме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2" descr=""/>
          <p:cNvPicPr/>
          <p:nvPr/>
        </p:nvPicPr>
        <p:blipFill>
          <a:blip r:embed="rId1"/>
          <a:stretch/>
        </p:blipFill>
        <p:spPr>
          <a:xfrm>
            <a:off x="12600" y="-274680"/>
            <a:ext cx="8832960" cy="1701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304920" y="1218960"/>
            <a:ext cx="861048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ст студената у савлађивању одређеног предмета континуирано се прати током наставе и изражава се поенима. Максимални број поена које студент може да остварина предмет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100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стиче поене на предмету кроз рад у настави и испуњавањем предиспитних обавеза и полагањем испита. Минимални број поена које студент може да стекне испуњавањем предиспитних обавеза током наставе је 30, а максимални 70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228600" y="1481040"/>
            <a:ext cx="86868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предмет из студијског програма има јасан и објављен начин стицања поена. Начин стицања поена током извођења наставе укључује број поена које студент стиче по основу сваке појединачне врсте активности током наставе или извршавањем предиспитне обавезе и полагањем испита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ан успех студента на предмету изражава се оценом од 5 (није положио) до 10 (одличан). Оцена студента је заснована на укупном броју поена које је студент стекао испуњавањем предиспитних обавеза и полагањем испита, а према квалитету стечених знања и вешти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2" descr=""/>
          <p:cNvPicPr/>
          <p:nvPr/>
        </p:nvPicPr>
        <p:blipFill>
          <a:blip r:embed="rId1"/>
          <a:stretch/>
        </p:blipFill>
        <p:spPr>
          <a:xfrm>
            <a:off x="304920" y="285840"/>
            <a:ext cx="7662600" cy="1182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1.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тудијског програма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2.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ог програма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3.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еви студијског програма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4: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је дипломираних студената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5: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кулум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6: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, савременост и међународна усаглашеност студијског програма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2" descr=""/>
          <p:cNvPicPr/>
          <p:nvPr/>
        </p:nvPicPr>
        <p:blipFill>
          <a:blip r:embed="rId1"/>
          <a:stretch/>
        </p:blipFill>
        <p:spPr>
          <a:xfrm>
            <a:off x="244440" y="-30240"/>
            <a:ext cx="8448840" cy="11826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151920" y="8377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ставника одговара потребама студијског програма и зависи од броја предмета и бро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а на тим предметима. Укупан број наставника мора бити довољан да покрије укупа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часова наставе на студијском програму, тако да наставник остварује просечно 180 часова активне наставе (предавања, консултације, вежбе, практичан рад, и теренски рад) годишње, односно 6 часова недељно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укупног броја потребних наставника најмање 70 % мор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 у сталном радном односу са пуним радним временом, а за студијске програме у пољ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ности тај број не може бити мањи од 50 %. З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их програма струковних студија, изузев у пољу уметности, потребно је најмање 50 % наставника са звањем доктора нау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сарадника одговара потребама студијског програма и зависи од броја предмета и бро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сова на тим предметима. Укупан број сарадника на студијском програму мора да буд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љан да покрије укупан број часова наставе на том програму, тако да сарадници остварују просечно 300 часова активне наставе годишње, односно 10 часова недељно, осим у пољу уметности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е, уметничке и стручне квалификације наставног особља одговарају образовнонаучном и образовно-уметничком пољу и нивоу њихових задужења. Наставник мора да има најмање пет референци из уже научне, уметничке, односно стручне области из које изводи наставу на студијском програму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о наставницима и сарадницима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бори у звања, референце) морају бити доступн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ности</a:t>
            </a:r>
            <a:r>
              <a:rPr b="0" lang="sr-C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2" descr=""/>
          <p:cNvPicPr/>
          <p:nvPr/>
        </p:nvPicPr>
        <p:blipFill>
          <a:blip r:embed="rId1"/>
          <a:stretch/>
        </p:blipFill>
        <p:spPr>
          <a:xfrm>
            <a:off x="285840" y="-19080"/>
            <a:ext cx="7419960" cy="14875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вођење студијског програма високошколска установа обезбеђује одговарајући простор за извођење наставе, односно објекте са најмање 4 м2 бруто простора по студенту, односно 2 м2 за извођење наставе по сменама, осим за поље уметност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школска установа има амфитеатре, учионице, лабораторије или сличне просторије за извођење наставе, библиотечки простор и читаоницу, у складу са потребама студијског програма, примерене одређеним образовно-научним, односно образовно-уметничким пољима. Високошколска установа обезбеђује место у амфитеатру, учионици и лабораторији за сваког студента на студијском програм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2" descr=""/>
          <p:cNvPicPr/>
          <p:nvPr/>
        </p:nvPicPr>
        <p:blipFill>
          <a:blip r:embed="rId1"/>
          <a:stretch/>
        </p:blipFill>
        <p:spPr>
          <a:xfrm>
            <a:off x="244440" y="42840"/>
            <a:ext cx="8448840" cy="1182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22824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школска установа обезбеђује сву потребну техничку опрему за савремено извођење настав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располаже са најмање 100 библиотечких јединица релевантних за извођење студијског програма високошколске установ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школска установа обезбеђује покривеност свих предмета одговарајућом уџбеничком литературом, училима и помоћним средствима која су расположива на време и у довољном броју за нормално одвијање наставног процеса тог студијског програм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вођење студијског програма обезбеђена је потребна информациона технологиј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244440" y="-231840"/>
            <a:ext cx="7461360" cy="1700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-36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 квалитета студијског програма подразумева редовно и систематично праћење његове реализације и предузимање мера за унапређење квалитета у погледу курикулума, наставе, наставног особља, оцењивања студената, уџбеника и литератур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 квалитета студијског програма се обавља у унапред одређеним временским пери-одима који за самовредновање износи највише три године, а за спољашњу проверу квалитета највише пет годин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нтроли квалитета студијског програма обезбеђена је активна улога студената и њихова оцена квалитета програм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2" descr=""/>
          <p:cNvPicPr/>
          <p:nvPr/>
        </p:nvPicPr>
        <p:blipFill>
          <a:blip r:embed="rId1"/>
          <a:stretch/>
        </p:blipFill>
        <p:spPr>
          <a:xfrm>
            <a:off x="244440" y="-231840"/>
            <a:ext cx="7461360" cy="1700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и програм заснован на методама и технологијама образовања на даљину подржан је ресурсима који обезбеђују квалитетно извођење студијског програм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школска установа може организовати студијски програм на даљину за сваку област и свако образовно-научно и образовно-уметничко поље ако наставни садржај, подржан расположивим ресурсима, може квалитетно усвојити кроз студије на даљину и ако се обезбеђује исти ниво знања дипломираних студената, иста ефикасност студирања и исти ранг (квалитет) дипломе као и у случају уобичајеног начина реализације студијског програм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244440" y="27468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</a:rPr>
              <a:t>Садржај предмета студијског програма је савремено конципиран и прилагођен учењу на даљину са назначеним потребним временом за консултациј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</a:rPr>
              <a:t>Наставни материјал у погледу квалитета, садржаја и обима у потпуности одговара циљевима образовања, наставном плану и програмима предмета и прилагођен је за самостално успешно овладавање потребним знањ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</a:rPr>
              <a:t>Упутства за учење која обезбеђује високошколска установа садрже конкретне предлоге и сугестије у вези стратегије учења студената и самосталне провере знањ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</a:rPr>
              <a:t>Подсистем за проверу знања студената је интегрисан у систем за управљање процесом учења на даљину и подржава различите облике учења и провере знања (консултације, самопровера, предиспитне провере, извештаји, испит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</a:rPr>
              <a:t>Испит се полаже у седишту високошколске установе, односно у објектима наведеним у дозволи за рад високошколске установ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rebuchet MS"/>
              </a:rPr>
              <a:t>Високошколска установа има квалификовано и компетентно наставно особље за извођење студијског програма који се реализује студијама на даљину. Наставници су одговорни за писање наставног материјала, тестова за предиспитне провере и за завршни испит, као и за усклађивање свих активности на савлађивању потребног знањ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rebuchet MS"/>
              </a:rPr>
              <a:t>Један наставник покрива највише три предмета у семестру. Консултације са студентима обављају наставници или сарадници. Један наставник, односно сарадник може да обавља консултације са највише 80 студената у једном семестр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rebuchet MS"/>
              </a:rPr>
              <a:t>Потребан број наставника и сарадника у сталном радном односу је 70 % од минималног броја наставника и сарадника који су потребни за извођење студијског програма. У случају када се исти студијски програм истовремено остварује на уобичајен начин и учењем на даљину, укупан потребан број наставника и сарадника одређује се као код уобичајеног начина извођења студија, при чему један наставник може да обавља консултације са нај-више 80 студената из обе студијске групе, просечно по семестр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656480" cy="1182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9807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7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ис студенат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8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њивање и напредовање студенат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9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о особљ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10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а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11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 квалитет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12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ин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228600" y="1480680"/>
            <a:ext cx="876312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студијски програм мора да има следеће елементе: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и циљеве студијског програма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у студија и исход процеса учења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и, академски, односно научни назив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е за упис на студијски програм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у обавезних и изборних студијских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учја, односно предмета, са оквирним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ем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.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звођења студија и потребно време з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ђење појединих врста студија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2" descr=""/>
          <p:cNvPicPr/>
          <p:nvPr/>
        </p:nvPicPr>
        <p:blipFill>
          <a:blip r:embed="rId1"/>
          <a:stretch/>
        </p:blipFill>
        <p:spPr>
          <a:xfrm>
            <a:off x="244440" y="42840"/>
            <a:ext cx="8448840" cy="1182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52280" y="1480680"/>
            <a:ext cx="876312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</a:rPr>
              <a:t>е.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овну вредност сваког предмета исказану у складу са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ским системом пренос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ова (ЕСПБ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овну вредност завршног рада на основним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јалистичким и дипломским академским студијама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 докторске дисертације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зану у ЕСПБ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овим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лове за упис појединих предмета или групе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збора предмета из других студијских програм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е за прелазак са других студијских програма у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виру истих или сродних области студиј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питања од значаја за извођење студијског програм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-360" y="1480680"/>
            <a:ext cx="89154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студија се изражава бројем ЕСПБ бодова.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струковне студије имају 180 ЕСПБ бодова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јалистичке струковне студије имају најмање 60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ПБ бодова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академске студије имају од 180 до 240 ЕСПБ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ова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ске академске студије имају најмање 60 ЕСПБ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ова када је претходно на основним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ским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ама остварен обим од 240 ЕСПБ бодова и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 120 ЕСПБ бодова када је претходно на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м академским студијама остварен обим од 180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ПБ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ова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sr-C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2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7461360" cy="1182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04920" y="1480680"/>
            <a:ext cx="86104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јалистичке академске студије имају најмање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ЕСПБ бодова када су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о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ене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ске академске студиј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.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ске студије имају најмање 180 ЕСПБ бодова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претходно на основним академским и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ским академским студијама остварен обим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а од најмање 300 ЕСПБ бодо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ски студијски програми из медицинских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могу се организовати интегрисано</a:t>
            </a:r>
            <a:br>
              <a:rPr sz="2600"/>
            </a:b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квиру основних академских и дипломских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ских студија, са укупним обимом од</a:t>
            </a:r>
            <a:br>
              <a:rPr sz="2600"/>
            </a:b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360 ЕСПБ бодо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2" descr=""/>
          <p:cNvPicPr/>
          <p:nvPr/>
        </p:nvPicPr>
        <p:blipFill>
          <a:blip r:embed="rId1"/>
          <a:stretch/>
        </p:blipFill>
        <p:spPr>
          <a:xfrm>
            <a:off x="-60480" y="-274680"/>
            <a:ext cx="9058320" cy="1701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а студијског програма је образовање студената за препознатљиве и јасне професије и занимања. Студијски програм обезбеђује стицање компетенција које су друштвено оправдане и корисне.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а студијског програма мора бити у складу са основним задацима и циљевима високошколске установе на којој се програм изводи.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а реализације студијског програма мора бити јасно и недвосмислено формулиса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2" descr=""/>
          <p:cNvPicPr/>
          <p:nvPr/>
        </p:nvPicPr>
        <p:blipFill>
          <a:blip r:embed="rId1"/>
          <a:stretch/>
        </p:blipFill>
        <p:spPr>
          <a:xfrm>
            <a:off x="12600" y="-274680"/>
            <a:ext cx="8985240" cy="170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2860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еви студијског програма укључују постизање компетенција и академских вештина, као и методе за њихово стицање. Циљеви такође могу да укључе развој креативних способности и овладавање специфичним практичним вештинама потребним за обављање професије.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еви студијског програма су у складу са основним задацима и циљевима високошколске установе на којој се програм изводи.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еви реализације студијског програма морају да буду јасно и недвосмислено формулиса-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04:49:24Z</dcterms:created>
  <dc:creator>korisnik</dc:creator>
  <dc:description/>
  <dc:language>en-US</dc:language>
  <cp:lastModifiedBy>korisnik</cp:lastModifiedBy>
  <dcterms:modified xsi:type="dcterms:W3CDTF">2010-10-26T07:16:20Z</dcterms:modified>
  <cp:revision>45</cp:revision>
  <dc:subject/>
  <dc:title>СТАНДАРДИ ЗА АКРЕДИТАЦИЈУ СТУДИЈСКИХ ПРОГРАМА</dc:title>
</cp:coreProperties>
</file>