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5.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24A6B-9576-43E4-B4EB-25638A6B5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4FCBC-C3C1-4405-8738-E94CC6B11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D2530-ECD8-4AB2-A42C-873B04C83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F76F9-CE29-4A04-96FB-54C20A64A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33302-7453-4C18-BCCF-6937B99B0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C4000-F5BA-4B11-BDC9-CFA6E216F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61603-32E8-4CB8-B23F-7814B0202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1A7EF-9B0D-4FA8-A890-04DAD49B1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5D572-4C4E-494A-8A82-31A78FAEA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8F2DB-4B68-4BB4-A449-C22DC93B7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0EE00-0E4D-4CA2-A845-422895D67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F116F-1C4C-4A0B-AF32-5B6DD26CB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3907F-9919-4824-9154-352DD51F2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44660-9B11-42EB-8AAB-93F9B8ADF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7B864-F95A-4929-8055-F0FDF9997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2BD482-2C9D-4846-BBF1-4E1D61A6A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DCE86-629B-48FC-8749-A6C53026D3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193AA2-748D-4EE3-90D6-AAC36366E2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70895F-6919-4539-822F-40A437DAC0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2E7076-C011-483C-B902-0E0D958E6C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825989-B721-46C0-9A53-131F2C7E48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D0A6D7-021B-4C44-80B7-1C712DB6B2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DC8CC-2243-43A0-A3E1-0DE1CCCEF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65545C-4B28-4229-8186-BA7275ED4F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C63DF2-D160-4142-8049-56243B9CF7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516B8F-FEA4-4F6F-B2F7-9905AAF36B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9102A-51A8-4ADF-9D7B-FE7E7C1D3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7718C1-390C-4807-B3A9-925F0A3C2D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E08F2F-F92A-421C-BC55-6841D8B281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AA53F6-CF12-47EC-A464-3CB79957DA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E41553-9850-4EB9-B518-3669B1F2F9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E58DB9-052A-4921-B2FF-C94B08C9C6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C929D1-6E69-4064-90ED-94456646A0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581F1-FD90-4ED4-8AF1-07C405AB8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F3459A-FF55-48B6-BCAC-C3359ABC7F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BA685F-B282-40B3-A0BC-7ED00D83CA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3295E2-2FE2-459A-8457-2C8A8E023F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81B911-234C-4EE8-9572-37BB3B0527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F949EC-2D53-402E-8CAC-8AE278C459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54459F-FBCC-4B2F-A811-5947639F78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4B1697-FC59-4C24-812C-4284D78576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A54D7D-2CAD-4E33-9D01-1EF89EFACF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1D935F-BFE8-403E-9DF8-320344D9EA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BF6322-7A7D-46FC-9F7A-570AF17653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971B4-663B-47B1-817D-673711E20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E6DD02-E79A-45CE-9EE4-8D3ADE421B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F86A7C-DFD9-4474-B22E-3F14F0B9FE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759C76-2FE6-4C08-88B6-D69A6E58E8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AE34BD-2FD4-49B3-B7E9-97CB6D5A2D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667865-BE40-40FF-A131-AE052B2995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D87105-4741-4F64-B659-5C3ED38B4E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C0401E-7D90-40CC-97AA-BA50B7C4F6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8B87D3-47C1-4B4C-9C02-5C6EB3148A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0E6375-82C5-477D-B874-0F42C0525A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EDE8B5-3A2A-4917-8780-C42B1FB048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6D219-7776-4163-9A6B-356D59F89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AB0FAC-6DB4-4520-A1F0-46C97D237D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E2783-DAAC-4C6B-A0F7-64C009A9D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97645-D1A0-43F3-9813-A2E592025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14DC1-55E5-4E73-8984-234F670CD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077F8-512A-4A60-8923-FE567B2DB078}"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6C5BE-C982-42A7-B3A8-EFB7631588AA}"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F90B-5FFF-47C0-AFD4-6CF1DBB9CF52}"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ECA31-7509-434E-AA11-C3075F9E77C6}"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38C45-B9DF-4F5C-8393-9A17A4383B10}"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3359160" y="365040"/>
            <a:ext cx="5516640" cy="3043440"/>
          </a:xfrm>
          <a:prstGeom prst="rect">
            <a:avLst/>
          </a:prstGeom>
          <a:ln w="0">
            <a:noFill/>
          </a:ln>
        </p:spPr>
      </p:pic>
      <p:sp>
        <p:nvSpPr>
          <p:cNvPr id="221" name="PlaceHolder 1"/>
          <p:cNvSpPr>
            <a:spLocks noGrp="1"/>
          </p:cNvSpPr>
          <p:nvPr>
            <p:ph type="subTitle"/>
          </p:nvPr>
        </p:nvSpPr>
        <p:spPr>
          <a:xfrm>
            <a:off x="3504960" y="3539880"/>
            <a:ext cx="5257800" cy="171756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Душан Теодоровић</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КОМИСИЈА ЗА АКРЕДИТАЦИЈУ И ПРОВЕРУ КВАЛИТЕТА</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212760" y="317520"/>
            <a:ext cx="7493040" cy="115092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Квалификације које означавају завршетак основних струковних студија стичу студенти:</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који су показали знање у области студирања које се заснива на претходном образовању и које оспособљава за коришћење стручне литературе;</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који су у стању да примене знање и разумевање у професији;</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који су у стању да пренесу знања на друге;</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који поседују способност да наставе студије;</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који поседују способност за тимски рад.</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212760" y="274680"/>
            <a:ext cx="7493040" cy="725400"/>
          </a:xfrm>
          <a:prstGeom prst="rect">
            <a:avLst/>
          </a:prstGeom>
          <a:ln w="0">
            <a:noFill/>
          </a:ln>
        </p:spPr>
      </p:pic>
      <p:sp>
        <p:nvSpPr>
          <p:cNvPr id="242" name=""/>
          <p:cNvSpPr txBox="1"/>
          <p:nvPr/>
        </p:nvSpPr>
        <p:spPr>
          <a:xfrm>
            <a:off x="228600" y="1066320"/>
            <a:ext cx="7772400" cy="53895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sr-CS" sz="2400" spc="-1" strike="noStrike">
                <a:solidFill>
                  <a:srgbClr val="000000"/>
                </a:solidFill>
                <a:latin typeface="Trebuchet MS"/>
              </a:rPr>
              <a:t>Квалификације које означавају завршетак основних академских студија стичу студенти:</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који су показали знање у области студирања које се заснива на претходном образовању и које је на нивоу који омогућава коришћење стручне литературе, али истовремено обу-хвата неке аспекте који се ослањају на кључна знања њиховог поља студирања;</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који су у стању да примене своје знање и разумевање на начин који указује на професи-онални приступ послу или звању и који имају способности које се најчешће исказују смишљањем и одбраном аргумената и решавањем проблема унутар поља студирања;</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212760" y="317520"/>
            <a:ext cx="7493040" cy="1150920"/>
          </a:xfrm>
          <a:prstGeom prst="rect">
            <a:avLst/>
          </a:prstGeom>
          <a:ln w="0">
            <a:noFill/>
          </a:ln>
        </p:spPr>
      </p:pic>
      <p:sp>
        <p:nvSpPr>
          <p:cNvPr id="24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који имају способност да прикупљају и тумаче потребне податке;</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који имају способност размишљања о релевантним друштвеним, научним или етичким питањима;</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који су у стању да о свом раду и резултатима рада обавештавају стручну и ширу јавност;</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који су развили способности које су неопходне за наставак студи</a:t>
            </a:r>
            <a:r>
              <a:rPr b="0" lang="en-US" sz="2600" spc="-1" strike="noStrike">
                <a:solidFill>
                  <a:srgbClr val="000000"/>
                </a:solidFill>
                <a:latin typeface="Trebuchet MS"/>
              </a:rPr>
              <a:t>ja</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12760" y="317520"/>
            <a:ext cx="7493040" cy="115092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sr-CS" sz="2400" spc="-1" strike="noStrike">
                <a:solidFill>
                  <a:srgbClr val="000000"/>
                </a:solidFill>
                <a:latin typeface="Trebuchet MS"/>
              </a:rPr>
              <a:t>Квалификације које означавају завршетак дипломских академских студија стичу студенти:</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који су показали знање и разумевање у области студирања, које допуњује знање стечено на основним академским студијама и представља основу за развијање критичког мишљења и примену знања;</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који су у стању да примене знање у решавању проблема у новом или непознатом окружењу у ширим или мултидисциплинарним областима унутар образовно-научног односно образовно-уметничког поља студија;</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212760" y="317520"/>
            <a:ext cx="7493040" cy="1150920"/>
          </a:xfrm>
          <a:prstGeom prst="rect">
            <a:avLst/>
          </a:prstGeom>
          <a:ln w="0">
            <a:noFill/>
          </a:ln>
        </p:spPr>
      </p:pic>
      <p:sp>
        <p:nvSpPr>
          <p:cNvPr id="248" name=""/>
          <p:cNvSpPr txBox="1"/>
          <p:nvPr/>
        </p:nvSpPr>
        <p:spPr>
          <a:xfrm>
            <a:off x="457200" y="1609200"/>
            <a:ext cx="7238880" cy="4846680"/>
          </a:xfrm>
          <a:prstGeom prst="rect">
            <a:avLst/>
          </a:prstGeom>
          <a:noFill/>
          <a:ln w="0">
            <a:noFill/>
          </a:ln>
        </p:spPr>
        <p:txBody>
          <a:bodyPr anchor="t">
            <a:normAutofit fontScale="96000"/>
          </a:bodyPr>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који имају способност да интегришу знање, решавају сложене проблеме и да расуђују на основу доступних информација које садрже промишљања о друштвеним и етичким одговорностима повезаним са применом њиховог знања и судова;</a:t>
            </a:r>
            <a:br>
              <a:rPr sz="2600"/>
            </a:br>
            <a:r>
              <a:rPr b="0" lang="sr-CS" sz="2600" spc="-1" strike="noStrike">
                <a:solidFill>
                  <a:srgbClr val="000000"/>
                </a:solidFill>
                <a:latin typeface="Trebuchet MS"/>
              </a:rPr>
              <a:t>који су у стању да на јасан и недвосмислен начин пренесу знање и начин закључивања стручној и широј јавности;</a:t>
            </a:r>
            <a:endParaRPr b="0" lang="en-US" sz="2600" spc="-1" strike="noStrike">
              <a:solidFill>
                <a:srgbClr val="000000"/>
              </a:solidFill>
              <a:latin typeface="Trebuchet MS"/>
            </a:endParaRPr>
          </a:p>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који поседују способност да наставе студије на начин који ће самостално изабрати.</a:t>
            </a:r>
            <a:endParaRPr b="0" lang="en-US" sz="2600" spc="-1" strike="noStrike">
              <a:solidFill>
                <a:srgbClr val="000000"/>
              </a:solidFill>
              <a:latin typeface="Trebuchet MS"/>
            </a:endParaRPr>
          </a:p>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212760" y="317520"/>
            <a:ext cx="7493040" cy="115092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fontScale="95000"/>
          </a:bodyPr>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	</a:t>
            </a:r>
            <a:r>
              <a:rPr b="0" lang="sr-CS" sz="2600" spc="-1" strike="noStrike">
                <a:solidFill>
                  <a:srgbClr val="000000"/>
                </a:solidFill>
                <a:latin typeface="Trebuchet MS"/>
              </a:rPr>
              <a:t>Квалификације које означавају завршетак докторских студија стичу студенти:</a:t>
            </a:r>
            <a:endParaRPr b="0" lang="en-US" sz="2600" spc="-1" strike="noStrike">
              <a:solidFill>
                <a:srgbClr val="000000"/>
              </a:solidFill>
              <a:latin typeface="Trebuchet MS"/>
            </a:endParaRPr>
          </a:p>
          <a:p>
            <a:pPr marL="259200" indent="-2592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који су показали систематско разумевање одређеног поља студија;</a:t>
            </a:r>
            <a:endParaRPr b="0" lang="en-US" sz="2600" spc="-1" strike="noStrike">
              <a:solidFill>
                <a:srgbClr val="000000"/>
              </a:solidFill>
              <a:latin typeface="Trebuchet MS"/>
            </a:endParaRPr>
          </a:p>
          <a:p>
            <a:pPr marL="259200" indent="-2592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који су савладали вештине и методе истраживања на том пољу;</a:t>
            </a:r>
            <a:endParaRPr b="0" lang="en-US" sz="2600" spc="-1" strike="noStrike">
              <a:solidFill>
                <a:srgbClr val="000000"/>
              </a:solidFill>
              <a:latin typeface="Trebuchet MS"/>
            </a:endParaRPr>
          </a:p>
          <a:p>
            <a:pPr marL="259200" indent="-2592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који су показали способност конципирања, пројектовања и примене;</a:t>
            </a:r>
            <a:endParaRPr b="0" lang="en-US" sz="2600" spc="-1" strike="noStrike">
              <a:solidFill>
                <a:srgbClr val="000000"/>
              </a:solidFill>
              <a:latin typeface="Trebuchet MS"/>
            </a:endParaRPr>
          </a:p>
          <a:p>
            <a:pPr marL="259200" indent="-2592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који су показали способност прилагођавања процеса истраживања уз неопходан степен академског интегритета;</a:t>
            </a:r>
            <a:endParaRPr b="0" lang="en-US" sz="2600" spc="-1" strike="noStrike">
              <a:solidFill>
                <a:srgbClr val="000000"/>
              </a:solidFill>
              <a:latin typeface="Trebuchet MS"/>
            </a:endParaRPr>
          </a:p>
          <a:p>
            <a:pPr marL="259200" indent="-2592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212760" y="317520"/>
            <a:ext cx="7493040" cy="1150920"/>
          </a:xfrm>
          <a:prstGeom prst="rect">
            <a:avLst/>
          </a:prstGeom>
          <a:ln w="0">
            <a:noFill/>
          </a:ln>
        </p:spPr>
      </p:pic>
      <p:sp>
        <p:nvSpPr>
          <p:cNvPr id="252" name=""/>
          <p:cNvSpPr txBox="1"/>
          <p:nvPr/>
        </p:nvSpPr>
        <p:spPr>
          <a:xfrm>
            <a:off x="457200" y="1609200"/>
            <a:ext cx="7238880" cy="484668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који су оригиналним истраживањем и радом постигли остварење које проширује границе знања, које је објављено и које је референца на националном и међународном нивоу;</a:t>
            </a:r>
            <a:endParaRPr b="0" lang="en-US" sz="24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који су способни за критичку анализу, процену и синтезу нових и сложених идеја;</a:t>
            </a:r>
            <a:endParaRPr b="0" lang="en-US" sz="24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који могу да пренесу стручна знања и идеје колегама, широкој академској заједници и друштву у целини;</a:t>
            </a:r>
            <a:endParaRPr b="0" lang="en-US" sz="24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који су у стању да у академском и професионалном окружењу промовишу технолошки, друштвени или културни напредак.</a:t>
            </a:r>
            <a:endParaRPr b="0" lang="en-US" sz="24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212760" y="317520"/>
            <a:ext cx="7493040" cy="1150920"/>
          </a:xfrm>
          <a:prstGeom prst="rect">
            <a:avLst/>
          </a:prstGeom>
          <a:ln w="0">
            <a:noFill/>
          </a:ln>
        </p:spPr>
      </p:pic>
      <p:sp>
        <p:nvSpPr>
          <p:cNvPr id="254"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sr-CS" sz="2400" spc="-1" strike="noStrike">
                <a:solidFill>
                  <a:srgbClr val="000000"/>
                </a:solidFill>
                <a:latin typeface="Trebuchet MS"/>
              </a:rPr>
              <a:t>Упутства за примену стандарда који се подносе на студијске програме:</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Сваки студијски програм је повезана и усклађена целина која обухвата циљеве, структуру и садржај, политику и процедуру уписа студената, методе учења и начин провере знања, исходе учења и компетенције студената.</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Високошколска установа која нуди више студијских програма осигурава да сви програми испуњавају основне стандарде квалитета и да између њих постоји потребан степен усагла-шености.</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Високошколска установа објављује циљеве сваког од студијских програма који остварује. Циљеви укључују постизање одређених знања и стручности и методе за њихово стицање. Циљеви могу да укључе развој креативних способности и овладавање специфичним практичним вештинама потребним за развој каријере.</a:t>
            </a: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Студијски програми имају усклађену структуру одговарајуће ширине и дубине и примерене методе учења.</a:t>
            </a:r>
            <a:endParaRPr b="0" lang="en-US" sz="26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le 1" descr=""/>
          <p:cNvPicPr/>
          <p:nvPr/>
        </p:nvPicPr>
        <p:blipFill>
          <a:blip r:embed="rId1"/>
          <a:stretch/>
        </p:blipFill>
        <p:spPr>
          <a:xfrm>
            <a:off x="212760" y="317520"/>
            <a:ext cx="7493040" cy="1150920"/>
          </a:xfrm>
          <a:prstGeom prst="rect">
            <a:avLst/>
          </a:prstGeom>
          <a:ln w="0">
            <a:noFill/>
          </a:ln>
        </p:spPr>
      </p:pic>
      <p:sp>
        <p:nvSpPr>
          <p:cNvPr id="258"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Високошколска установа редовно планира и вреднује резултате својих студијских програ-ма. Те активности су засноване на утврђеним циљевима и расположивим средствима.</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Високошколска установа стално развија, унапређује и преиспитује садржаје својих студијских програма, у чему одлучујућу улогу има наставно особље.</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Сваки предмет из студијског програма исказује се бројем ЕСПБ бодова. Обим студија изражава се збиром ЕСПБ бодова. Број ЕСПБ бодова потребних за стицање дипломе уређује се законом. Између различитих студијских програма може се вршити преношење ЕСПБ бодова.</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450720" y="-6480"/>
            <a:ext cx="7255080" cy="1474920"/>
          </a:xfrm>
          <a:prstGeom prst="rect">
            <a:avLst/>
          </a:prstGeom>
          <a:ln w="0">
            <a:noFill/>
          </a:ln>
        </p:spPr>
      </p:pic>
      <p:sp>
        <p:nvSpPr>
          <p:cNvPr id="22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Стандард 1: Основни задаци и циљеви високошколске установе</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Стандард 2: Планирање и контрола</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Стандард 3: Организација и управљање</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Стандард 4: Студије</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Стандард 5: Научноистраживачки и уметнички рад</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Стандард 6. Наставно особље</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24" name="Title 1" descr=""/>
          <p:cNvPicPr/>
          <p:nvPr/>
        </p:nvPicPr>
        <p:blipFill>
          <a:blip r:embed="rId2"/>
          <a:stretch/>
        </p:blipFill>
        <p:spPr>
          <a:xfrm>
            <a:off x="603360" y="146160"/>
            <a:ext cx="7254720" cy="1474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450720" y="-225360"/>
            <a:ext cx="7328160" cy="1693800"/>
          </a:xfrm>
          <a:prstGeom prst="rect">
            <a:avLst/>
          </a:prstGeom>
          <a:ln w="0">
            <a:noFill/>
          </a:ln>
        </p:spPr>
      </p:pic>
      <p:sp>
        <p:nvSpPr>
          <p:cNvPr id="260"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Високошколска установа непрекидно осмишљава, припрема и реализује научноистраживачке и уметничке, стручне и друге врсте програма, као и националне и међународне пројекте.</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Високошколска установа утврђује поступак и критеријуме за систематско праћење и оцењи-вање обима и квалитета научноистраживачког, односно уметничког рада наставног особља.</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Садржај и резултати научноистраживачког, уметничког и стручног рада установе усклађени су са циљевима високошколске установе и са националним и европским циљевима и стандардима високог образовања.</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450720" y="-225360"/>
            <a:ext cx="7328160" cy="1693800"/>
          </a:xfrm>
          <a:prstGeom prst="rect">
            <a:avLst/>
          </a:prstGeom>
          <a:ln w="0">
            <a:noFill/>
          </a:ln>
        </p:spPr>
      </p:pic>
      <p:sp>
        <p:nvSpPr>
          <p:cNvPr id="262"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Знања до којих високошколска установа долази спровођењем научноистраживачког и уметничког рада укључују се у наставни процес.</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Високошколска установа подстиче и обезбеђује услове наставном особљу да се активно бави научноистраживачким, уметничким и стручним радом и да што чешће објављује резултате тог рада.</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Високошколска установа обавља и подстиче издавачку делатност у складу са својим могућ ностима.</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450720" y="-225360"/>
            <a:ext cx="7328160" cy="169380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У циљу комерцијализације резултата научноистраживачког и уметничког рада универзитет, односно друга високошколска установа може бити оснивач центра за трансфер технологије, иновационог центра, пословно-технолошког парка и других организационих јединица.</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244440" y="291960"/>
            <a:ext cx="7643880" cy="1176480"/>
          </a:xfrm>
          <a:prstGeom prst="rect">
            <a:avLst/>
          </a:prstGeom>
          <a:ln w="0">
            <a:noFill/>
          </a:ln>
        </p:spPr>
      </p:pic>
      <p:sp>
        <p:nvSpPr>
          <p:cNvPr id="26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Високошколска установа запошљава наставнике, истраживаче и сараднике који својом научном, уметничком и наставном делатношћу омогућавају испуњење основних задатака и циљева установе. Наставно особље компетентно остварује студијске програме и испуњава остале додељене задатке.</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244440" y="291960"/>
            <a:ext cx="7643880" cy="117648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fontScale="97000"/>
          </a:bodyPr>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u="sng">
                <a:solidFill>
                  <a:srgbClr val="000000"/>
                </a:solidFill>
                <a:uFillTx/>
                <a:latin typeface="Trebuchet MS"/>
              </a:rPr>
              <a:t>Број наставника одговара потребама студијских програма које установа реализује. Укупан </a:t>
            </a:r>
            <a:r>
              <a:rPr b="0" lang="sr-CS" sz="2600" spc="-1" strike="noStrike">
                <a:solidFill>
                  <a:srgbClr val="000000"/>
                </a:solidFill>
                <a:latin typeface="Trebuchet MS"/>
              </a:rPr>
              <a:t>број наставника мора бити довољан да покрије укупан број часова наставе на студијским програмима које установа реализује, тако да наставник остварује просечно 180 часова актив-не наставе (предавања, консултације, вежбе, практичан рад и теренски рад) годишње, однос-но 6 часова недељно. Ангажовање по наставнику не може бити веће од 12 часова активне наставе недељно.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244440" y="291960"/>
            <a:ext cx="7643880" cy="117648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sr-CS" sz="2600" spc="-1" strike="noStrike">
                <a:solidFill>
                  <a:srgbClr val="000000"/>
                </a:solidFill>
                <a:latin typeface="Trebuchet MS"/>
              </a:rPr>
              <a:t>Број сарадника одговара потребама остварења студијских програма. Укупан број сарадника мора бити довољан да покрије укупан број часова наставе на студијским програмима које установа реализује а да при томе сваки сарадник остварује просечно 300 часова активне нас-таве годишње, односно просечно 10 часова активне наставе недељно, осим у пољу уметнос-ти.</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244440" y="291960"/>
            <a:ext cx="7643880" cy="1176480"/>
          </a:xfrm>
          <a:prstGeom prst="rect">
            <a:avLst/>
          </a:prstGeom>
          <a:ln w="0">
            <a:noFill/>
          </a:ln>
        </p:spPr>
      </p:pic>
      <p:sp>
        <p:nvSpPr>
          <p:cNvPr id="272"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Научне, уметничке и стручне квалификације наставног особља одговарају образовно-науч ном, односно образовно-уметничком пољу и нивоу њихових задужења. Квалификације се доказују дипломама, објављеним радовима, уметничким делима, као и евиденцијом о педа-гошким квалитетима и одговарајућем професионалном искуству.</a:t>
            </a: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sr-CS" sz="2400" spc="-1" strike="noStrike">
                <a:solidFill>
                  <a:srgbClr val="000000"/>
                </a:solidFill>
                <a:latin typeface="Trebuchet MS"/>
              </a:rPr>
              <a:t>Уколико високошколска установа на пословима сарадника у настави запошљава студенте дипломских академских или специјалистичких студија, они морају имати просек оцена на основним студијама најмање осам (8).</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Title 1" descr=""/>
          <p:cNvPicPr/>
          <p:nvPr/>
        </p:nvPicPr>
        <p:blipFill>
          <a:blip r:embed="rId1"/>
          <a:stretch/>
        </p:blipFill>
        <p:spPr>
          <a:xfrm>
            <a:off x="244440" y="291960"/>
            <a:ext cx="7643880" cy="1176480"/>
          </a:xfrm>
          <a:prstGeom prst="rect">
            <a:avLst/>
          </a:prstGeom>
          <a:ln w="0">
            <a:noFill/>
          </a:ln>
        </p:spPr>
      </p:pic>
      <p:sp>
        <p:nvSpPr>
          <p:cNvPr id="274" name=""/>
          <p:cNvSpPr txBox="1"/>
          <p:nvPr/>
        </p:nvSpPr>
        <p:spPr>
          <a:xfrm>
            <a:off x="457200" y="1609200"/>
            <a:ext cx="7238880" cy="48466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sr-CS" sz="2600" spc="-1" strike="noStrike">
                <a:solidFill>
                  <a:srgbClr val="000000"/>
                </a:solidFill>
                <a:latin typeface="Trebuchet MS"/>
              </a:rPr>
              <a:t>Установа обезбеђује наставницима и сарадницима услове за научно, уметничко и професио-нално напредовање и развој. Установа обезбеђује наставницима и сарадницима услове за научни, уметнички и истраживачки рад, учешће на домаћим и међународним научним ску-повима, прикупљање потребне литературе, планирање и извођење истраживања.</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244440" y="-225360"/>
            <a:ext cx="7461360" cy="169380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Високошколска установа има ненаставно особље које својим стручним и професионалним радом обезбеђује успешну реализацију студијских програма, основних задатака и циљева студијских програма високошколске установе.</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sr-CS" sz="2400" spc="-1" strike="noStrike">
                <a:solidFill>
                  <a:srgbClr val="000000"/>
                </a:solidFill>
                <a:latin typeface="Trebuchet MS"/>
              </a:rPr>
              <a:t>Високошколска установа има најмање једног библиотекара. Високошколска установа на којој студира преко 500 студената има најмање два библиотекара са високим образовањем и једног књижничара. На струковним студијама високошколска установа на којој студира преко 500 студената има једног библиотекара са високим образовањем и једног књижничара.</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244440" y="-225360"/>
            <a:ext cx="7461360" cy="1693800"/>
          </a:xfrm>
          <a:prstGeom prst="rect">
            <a:avLst/>
          </a:prstGeom>
          <a:ln w="0">
            <a:noFill/>
          </a:ln>
        </p:spPr>
      </p:pic>
      <p:sp>
        <p:nvSpPr>
          <p:cNvPr id="278" name=""/>
          <p:cNvSpPr txBox="1"/>
          <p:nvPr/>
        </p:nvSpPr>
        <p:spPr>
          <a:xfrm>
            <a:off x="457200" y="1609200"/>
            <a:ext cx="7238880" cy="4846680"/>
          </a:xfrm>
          <a:prstGeom prst="rect">
            <a:avLst/>
          </a:prstGeom>
          <a:noFill/>
          <a:ln w="0">
            <a:noFill/>
          </a:ln>
        </p:spPr>
        <p:txBody>
          <a:bodyPr anchor="t">
            <a:normAutofit fontScale="94000"/>
          </a:bodyPr>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rPr>
              <a:t>7.2. </a:t>
            </a:r>
            <a:r>
              <a:rPr b="0" lang="sr-CS" sz="2600" spc="-1" strike="noStrike">
                <a:solidFill>
                  <a:srgbClr val="000000"/>
                </a:solidFill>
                <a:latin typeface="Trebuchet MS"/>
              </a:rPr>
              <a:t>Високошколска установа на којој студира до 500 студената организује студентску службу са најмање два извршиоца и додатно једног извршиоца за 1000 студената и још по једног извршиоца на сваких наредних 2000 студената.</a:t>
            </a:r>
            <a:endParaRPr b="0" lang="en-US" sz="2600" spc="-1" strike="noStrike">
              <a:solidFill>
                <a:srgbClr val="000000"/>
              </a:solidFill>
              <a:latin typeface="Trebuchet MS"/>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7.3. Високошколска установа има најмање једног извршиоца са високим образовањем на пословима информационог система.</a:t>
            </a:r>
            <a:endParaRPr b="0" lang="en-US" sz="2600" spc="-1" strike="noStrike">
              <a:solidFill>
                <a:srgbClr val="000000"/>
              </a:solidFill>
              <a:latin typeface="Trebuchet MS"/>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7.4. Високошколска установа има најмање једног извршиоца - дипломираног правника на пословима секретара.</a:t>
            </a:r>
            <a:endParaRPr b="0" lang="en-US" sz="2600" spc="-1" strike="noStrike">
              <a:solidFill>
                <a:srgbClr val="000000"/>
              </a:solidFill>
              <a:latin typeface="Trebuchet MS"/>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1" descr=""/>
          <p:cNvPicPr/>
          <p:nvPr/>
        </p:nvPicPr>
        <p:blipFill>
          <a:blip r:embed="rId1"/>
          <a:stretch/>
        </p:blipFill>
        <p:spPr>
          <a:xfrm>
            <a:off x="450720" y="268200"/>
            <a:ext cx="7255080" cy="1200240"/>
          </a:xfrm>
          <a:prstGeom prst="rect">
            <a:avLst/>
          </a:prstGeom>
          <a:ln w="0">
            <a:noFill/>
          </a:ln>
        </p:spPr>
      </p:pic>
      <p:sp>
        <p:nvSpPr>
          <p:cNvPr id="22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Стандард 7. Ненаставно особље</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Стандард 8. Студенти</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Стандард 9. Простор и опрема</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Стандард 10. Библиотека, уџбеници и информациона подршка</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Стандард 11. Извори финансирања</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Стандард 12. Унутрашњи механизми за осигурање квалитета</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Title 1" descr=""/>
          <p:cNvPicPr/>
          <p:nvPr/>
        </p:nvPicPr>
        <p:blipFill>
          <a:blip r:embed="rId1"/>
          <a:stretch/>
        </p:blipFill>
        <p:spPr>
          <a:xfrm>
            <a:off x="244440" y="291960"/>
            <a:ext cx="7461360" cy="1176480"/>
          </a:xfrm>
          <a:prstGeom prst="rect">
            <a:avLst/>
          </a:prstGeom>
          <a:ln w="0">
            <a:noFill/>
          </a:ln>
        </p:spPr>
      </p:pic>
      <p:sp>
        <p:nvSpPr>
          <p:cNvPr id="280"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Сагласно основним задацима високошколска установа утврђује услове за упис студената и на основу тога врши избор кандидата. Високошколска установа обезбеђује потребне услове студен-тима за успешно савладавање студијских програма.</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8.1. Високошколска установа расписује конкурс за упис на студије. Конкурс садржи: број студе-ната за одређене студијске програме, услове за упис, мерила за утврђивање редоследа канди-дата, поступак спровођења конкурса, начин и рокове за подношење жалбе на утврђени редо-след, као и висину школарине коју плаћају студенти чије се студирање не финансира из буџета.</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Title 1" descr=""/>
          <p:cNvPicPr/>
          <p:nvPr/>
        </p:nvPicPr>
        <p:blipFill>
          <a:blip r:embed="rId1"/>
          <a:stretch/>
        </p:blipFill>
        <p:spPr>
          <a:xfrm>
            <a:off x="244440" y="291960"/>
            <a:ext cx="7461360" cy="1176480"/>
          </a:xfrm>
          <a:prstGeom prst="rect">
            <a:avLst/>
          </a:prstGeom>
          <a:ln w="0">
            <a:noFill/>
          </a:ln>
        </p:spPr>
      </p:pic>
      <p:sp>
        <p:nvSpPr>
          <p:cNvPr id="282"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rebuchet MS"/>
              </a:rPr>
              <a:t>8.2. </a:t>
            </a:r>
            <a:r>
              <a:rPr b="0" lang="sr-CS" sz="2200" spc="-1" strike="noStrike">
                <a:solidFill>
                  <a:srgbClr val="000000"/>
                </a:solidFill>
                <a:latin typeface="Trebuchet MS"/>
              </a:rPr>
              <a:t>Број студената који високошколска установа уписује мора бити усклађен са кадровским, просторним и техничко-технолошким могућностима.</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rebuchet MS"/>
              </a:rPr>
              <a:t>8.3. Кандидат за упис на студије првог степена полаже пријемни испит или испит за проверу склоности и способности, у складу са статутом високошколске установе. Редослед кандидата утврђује се на основу општег успеха постигнутог у средњем образовању и резултата на при-јемном испиту, односно испиту за проверу склоности и способности.</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rebuchet MS"/>
              </a:rPr>
              <a:t>8.4. Високошколска установа непрекидно и систематски прати успех студената и њихово напре-довање на сваком од студијских програма које изводи и предузима мере подршке у случају незадовољавајућег успеха студената.</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Title 1" descr=""/>
          <p:cNvPicPr/>
          <p:nvPr/>
        </p:nvPicPr>
        <p:blipFill>
          <a:blip r:embed="rId1"/>
          <a:stretch/>
        </p:blipFill>
        <p:spPr>
          <a:xfrm>
            <a:off x="212760" y="317520"/>
            <a:ext cx="7493040" cy="1150920"/>
          </a:xfrm>
          <a:prstGeom prst="rect">
            <a:avLst/>
          </a:prstGeom>
          <a:ln w="0">
            <a:noFill/>
          </a:ln>
        </p:spPr>
      </p:pic>
      <p:sp>
        <p:nvSpPr>
          <p:cNvPr id="284"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rPr>
              <a:t>8.5. </a:t>
            </a:r>
            <a:r>
              <a:rPr b="0" lang="sr-CS" sz="2400" spc="-1" strike="noStrike">
                <a:solidFill>
                  <a:srgbClr val="000000"/>
                </a:solidFill>
                <a:latin typeface="Trebuchet MS"/>
              </a:rPr>
              <a:t>Успешност студента у савлађивању појединог предмета непрекидно се прати и вреднује током извођења наставе. Укупна оцена студента на једном предмету се састоји од оцене коју је студент добио за предиспитне обавезе и за показано знање на испиту. Минимално учешће оцене коју студент добија током наставе у укупној оцени је 30 %, а максимално 70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8.6. Лице које заврши студије стиче одговарајући стручни, академски, односно научни назив у складу са законом. Својство студента престаје у случајевима предвиђеним законом.</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Title 1" descr=""/>
          <p:cNvPicPr/>
          <p:nvPr/>
        </p:nvPicPr>
        <p:blipFill>
          <a:blip r:embed="rId1"/>
          <a:stretch/>
        </p:blipFill>
        <p:spPr>
          <a:xfrm>
            <a:off x="244440" y="-225360"/>
            <a:ext cx="7461360" cy="1693800"/>
          </a:xfrm>
          <a:prstGeom prst="rect">
            <a:avLst/>
          </a:prstGeom>
          <a:ln w="0">
            <a:noFill/>
          </a:ln>
        </p:spPr>
      </p:pic>
      <p:sp>
        <p:nvSpPr>
          <p:cNvPr id="28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Високошколска установа обезбеђује простор и опрему неопходне за квалитетно извођење свих облика наставе. Стандарди простора и опреме одређују се по образовно-научним, односно образовно-уметничким пољима.</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Title 1" descr=""/>
          <p:cNvPicPr/>
          <p:nvPr/>
        </p:nvPicPr>
        <p:blipFill>
          <a:blip r:embed="rId1"/>
          <a:stretch/>
        </p:blipFill>
        <p:spPr>
          <a:xfrm>
            <a:off x="244440" y="-225360"/>
            <a:ext cx="7461360" cy="1693800"/>
          </a:xfrm>
          <a:prstGeom prst="rect">
            <a:avLst/>
          </a:prstGeom>
          <a:ln w="0">
            <a:noFill/>
          </a:ln>
        </p:spPr>
      </p:pic>
      <p:sp>
        <p:nvSpPr>
          <p:cNvPr id="288" name=""/>
          <p:cNvSpPr txBox="1"/>
          <p:nvPr/>
        </p:nvSpPr>
        <p:spPr>
          <a:xfrm>
            <a:off x="457200" y="1609200"/>
            <a:ext cx="7238880" cy="4846680"/>
          </a:xfrm>
          <a:prstGeom prst="rect">
            <a:avLst/>
          </a:prstGeom>
          <a:noFill/>
          <a:ln w="0">
            <a:noFill/>
          </a:ln>
        </p:spPr>
        <p:txBody>
          <a:bodyPr anchor="t">
            <a:normAutofit fontScale="95000"/>
          </a:bodyPr>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9.</a:t>
            </a:r>
            <a:r>
              <a:rPr b="1" lang="sr-CS" sz="2400" spc="-1" strike="noStrike">
                <a:solidFill>
                  <a:srgbClr val="000000"/>
                </a:solidFill>
                <a:latin typeface="Trebuchet MS"/>
              </a:rPr>
              <a:t>1</a:t>
            </a:r>
            <a:r>
              <a:rPr b="1" lang="sr-CS" sz="2400" spc="-1" strike="noStrike">
                <a:solidFill>
                  <a:srgbClr val="000000"/>
                </a:solidFill>
                <a:latin typeface="Trebuchet MS"/>
              </a:rPr>
              <a:t>	</a:t>
            </a:r>
            <a:r>
              <a:rPr b="0" lang="sr-CS" sz="2400" spc="-1" strike="noStrike">
                <a:solidFill>
                  <a:srgbClr val="000000"/>
                </a:solidFill>
                <a:latin typeface="Trebuchet MS"/>
              </a:rPr>
              <a:t>Високошколска установа обезбеђује простор за извођење наставе, и то:</a:t>
            </a:r>
            <a:endParaRPr b="0" lang="en-US" sz="2400" spc="-1" strike="noStrike">
              <a:solidFill>
                <a:srgbClr val="000000"/>
              </a:solidFill>
              <a:latin typeface="Trebuchet MS"/>
            </a:endParaRPr>
          </a:p>
          <a:p>
            <a:pPr marL="259200" indent="-259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објекте са најмање 4 м бруто простора по студенту, односно 2 м по студенту за извођење наставе по сменама, осим за поље уметности;</a:t>
            </a:r>
            <a:endParaRPr b="0" lang="en-US" sz="2400" spc="-1" strike="noStrike">
              <a:solidFill>
                <a:srgbClr val="000000"/>
              </a:solidFill>
              <a:latin typeface="Trebuchet MS"/>
            </a:endParaRPr>
          </a:p>
          <a:p>
            <a:pPr marL="259200" indent="-259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амфитеатре, учионице, лабораторије, односно друге просторије за извођење наставе, као и библиотечки простор и читаоницу, у складу са потребама образовног процеса одређеног образовно-научног, односно образовно-уметничког поља;</a:t>
            </a:r>
            <a:endParaRPr b="0" lang="en-US" sz="2400" spc="-1" strike="noStrike">
              <a:solidFill>
                <a:srgbClr val="000000"/>
              </a:solidFill>
              <a:latin typeface="Trebuchet MS"/>
            </a:endParaRPr>
          </a:p>
          <a:p>
            <a:pPr marL="259200" indent="-259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одговарајући радни простор за наставнике и сараднике;</a:t>
            </a:r>
            <a:endParaRPr b="0" lang="en-US" sz="2400" spc="-1" strike="noStrike">
              <a:solidFill>
                <a:srgbClr val="000000"/>
              </a:solidFill>
              <a:latin typeface="Trebuchet MS"/>
            </a:endParaRPr>
          </a:p>
          <a:p>
            <a:pPr marL="259200" indent="-259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место у амфитеатру, учионици и лабораторији за сваког студента.</a:t>
            </a:r>
            <a:endParaRPr b="0" lang="en-US" sz="24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Title 1" descr=""/>
          <p:cNvPicPr/>
          <p:nvPr/>
        </p:nvPicPr>
        <p:blipFill>
          <a:blip r:embed="rId1"/>
          <a:stretch/>
        </p:blipFill>
        <p:spPr>
          <a:xfrm>
            <a:off x="244440" y="-225360"/>
            <a:ext cx="7461360" cy="1693800"/>
          </a:xfrm>
          <a:prstGeom prst="rect">
            <a:avLst/>
          </a:prstGeom>
          <a:ln w="0">
            <a:noFill/>
          </a:ln>
        </p:spPr>
      </p:pic>
      <p:sp>
        <p:nvSpPr>
          <p:cNvPr id="290"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9.2. Високошколска установа обезбеђује простор за административне послове, и то најмање две канцеларије за потребе студентске службе и секретаријата.</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9.3. Простор који обезбеђује високошколска установа за потребе наставе и за потребе управе мора да задовољи одговарајуће урбанистичке, техничко-технолошке и хигијенске услове. Простор мора бити у објектима који имају потребне грађевинске и употребне дозволе. Уко-лико објекти за потребе наставе и управљања нису у власништву високошколске установе или јој нису дати на коришћење, она обезбеђује закуп тих објеката за период од најмање пет година.</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1" descr=""/>
          <p:cNvPicPr/>
          <p:nvPr/>
        </p:nvPicPr>
        <p:blipFill>
          <a:blip r:embed="rId1"/>
          <a:stretch/>
        </p:blipFill>
        <p:spPr>
          <a:xfrm>
            <a:off x="244440" y="291960"/>
            <a:ext cx="7461360" cy="1176480"/>
          </a:xfrm>
          <a:prstGeom prst="rect">
            <a:avLst/>
          </a:prstGeom>
          <a:ln w="0">
            <a:noFill/>
          </a:ln>
        </p:spPr>
      </p:pic>
      <p:sp>
        <p:nvSpPr>
          <p:cNvPr id="29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9.4.</a:t>
            </a:r>
            <a:r>
              <a:rPr b="0" lang="sr-CS" sz="2600" spc="-1" strike="noStrike">
                <a:solidFill>
                  <a:srgbClr val="000000"/>
                </a:solidFill>
                <a:latin typeface="Trebuchet MS"/>
              </a:rPr>
              <a:t> Високошколска установа обезбеђује потребну техничку опрему за савремено извођење нас-таве у складу са потребама студијског програма.</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9.5.Високошколска установа обезбеђује опрему и извођење наставе у складу са здравственим и сигурносном стандардима, о чему обавештава студенте.</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9.6.Високошколска установа обезбеђује простор за рад студентског парламента.</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Title 1" descr=""/>
          <p:cNvPicPr/>
          <p:nvPr/>
        </p:nvPicPr>
        <p:blipFill>
          <a:blip r:embed="rId1"/>
          <a:stretch/>
        </p:blipFill>
        <p:spPr>
          <a:xfrm>
            <a:off x="317520" y="115920"/>
            <a:ext cx="7388280" cy="1352520"/>
          </a:xfrm>
          <a:prstGeom prst="rect">
            <a:avLst/>
          </a:prstGeom>
          <a:ln w="0">
            <a:noFill/>
          </a:ln>
        </p:spPr>
      </p:pic>
      <p:sp>
        <p:nvSpPr>
          <p:cNvPr id="294" name=""/>
          <p:cNvSpPr txBox="1"/>
          <p:nvPr/>
        </p:nvSpPr>
        <p:spPr>
          <a:xfrm>
            <a:off x="457200" y="1609200"/>
            <a:ext cx="7238880" cy="4846680"/>
          </a:xfrm>
          <a:prstGeom prst="rect">
            <a:avLst/>
          </a:prstGeom>
          <a:noFill/>
          <a:ln w="0">
            <a:noFill/>
          </a:ln>
        </p:spPr>
        <p:txBody>
          <a:bodyPr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Високошколска установа има одговарајућу библиотеку снабдевену потребним уџбеницима за извођење наставе и информационе ресурсе и сервисе које користи у циљу испуњења основних задатака.</a:t>
            </a:r>
            <a:endParaRPr b="0" lang="en-US" sz="24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10.1.Високошколска установа има библиотеку снабдевену литературом која својим нивоом и обимом обезбеђује подршку наставном процесу и научноистраживачком и уметничком раду. Библиотека располаже с најмање 1000 библиотечких јединица из области из које изводи наставни процес.</a:t>
            </a:r>
            <a:endParaRPr b="0" lang="en-US" sz="24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Title 1" descr=""/>
          <p:cNvPicPr/>
          <p:nvPr/>
        </p:nvPicPr>
        <p:blipFill>
          <a:blip r:embed="rId1"/>
          <a:stretch/>
        </p:blipFill>
        <p:spPr>
          <a:xfrm>
            <a:off x="317520" y="115920"/>
            <a:ext cx="7388280" cy="1352520"/>
          </a:xfrm>
          <a:prstGeom prst="rect">
            <a:avLst/>
          </a:prstGeom>
          <a:ln w="0">
            <a:noFill/>
          </a:ln>
        </p:spPr>
      </p:pic>
      <p:sp>
        <p:nvSpPr>
          <p:cNvPr id="296"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rebuchet MS"/>
              </a:rPr>
              <a:t>10.2.</a:t>
            </a:r>
            <a:r>
              <a:rPr b="0" lang="sr-CS" sz="2200" spc="-1" strike="noStrike">
                <a:solidFill>
                  <a:srgbClr val="000000"/>
                </a:solidFill>
                <a:latin typeface="Trebuchet MS"/>
              </a:rPr>
              <a:t> Високошколска установа обезбеђује покривеност свих предмета одговарајућом уџбеничком литературом, училима и помоћним наставним средствима. Учила и помоћна наставна сред-ства морају бити расположиви на време и у броју довољном да се обезбеди нормално одви-јање наставног процеса.</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rebuchet MS"/>
              </a:rPr>
              <a:t>10.3.Високошколска установа располаже информационом опремом која је неопходна за студи-рање и научноистраживачки и уметнички рад. Високошколска установа обезбеђује најмање једну рачунарску учионицу са најмање 20 рачунара и са приступом интернету.</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rebuchet MS"/>
              </a:rPr>
              <a:t>10.4.Високошколска установа обезбеђује неопходну обуку наставника, сарадника и студената у циљу ефективног коришћења библиотеке и осталих информационих ресурса.</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Title 1" descr=""/>
          <p:cNvPicPr/>
          <p:nvPr/>
        </p:nvPicPr>
        <p:blipFill>
          <a:blip r:embed="rId1"/>
          <a:stretch/>
        </p:blipFill>
        <p:spPr>
          <a:xfrm>
            <a:off x="244440" y="-225360"/>
            <a:ext cx="7461360" cy="1693800"/>
          </a:xfrm>
          <a:prstGeom prst="rect">
            <a:avLst/>
          </a:prstGeom>
          <a:ln w="0">
            <a:noFill/>
          </a:ln>
        </p:spPr>
      </p:pic>
      <p:sp>
        <p:nvSpPr>
          <p:cNvPr id="29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Извори финансирања високошколске установе довољни су да обезбеде квалитетно извођење наставе најмање за период трајања студијског програма.</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Високошколска установа остварује позитивне финансијске резултате у периоду од најмање три године.</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285840" y="317520"/>
            <a:ext cx="7419960" cy="1150920"/>
          </a:xfrm>
          <a:prstGeom prst="rect">
            <a:avLst/>
          </a:prstGeom>
          <a:ln w="0">
            <a:noFill/>
          </a:ln>
        </p:spPr>
      </p:pic>
      <p:sp>
        <p:nvSpPr>
          <p:cNvPr id="22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sr-CS" sz="2600" spc="-1" strike="noStrike">
                <a:solidFill>
                  <a:srgbClr val="000000"/>
                </a:solidFill>
                <a:latin typeface="Trebuchet MS"/>
              </a:rPr>
              <a:t>Високошколска установа има утврђене основне задатке и циљеве</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sr-CS" sz="2600" spc="-1" strike="noStrike">
                <a:solidFill>
                  <a:srgbClr val="000000"/>
                </a:solidFill>
                <a:latin typeface="Trebuchet MS"/>
              </a:rPr>
              <a:t>Основни задаци показују друштвену оправданост постојања високошколске установе</a:t>
            </a:r>
            <a:r>
              <a:rPr b="0" lang="en-US" sz="2600" spc="-1" strike="noStrike">
                <a:solidFill>
                  <a:srgbClr val="000000"/>
                </a:solidFill>
                <a:latin typeface="Trebuchet MS"/>
              </a:rPr>
              <a:t>.</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sr-CS" sz="2600" spc="-1" strike="noStrike">
                <a:solidFill>
                  <a:srgbClr val="000000"/>
                </a:solidFill>
                <a:latin typeface="Trebuchet MS"/>
              </a:rPr>
              <a:t>Основне задатке високошколске установе,утврђује орган управљања висо-кошколске установе и објављују се у одговарајућој публикацији установе.</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Title 1" descr=""/>
          <p:cNvPicPr/>
          <p:nvPr/>
        </p:nvPicPr>
        <p:blipFill>
          <a:blip r:embed="rId1"/>
          <a:stretch/>
        </p:blipFill>
        <p:spPr>
          <a:xfrm>
            <a:off x="244440" y="-225360"/>
            <a:ext cx="7461360" cy="1693800"/>
          </a:xfrm>
          <a:prstGeom prst="rect">
            <a:avLst/>
          </a:prstGeom>
          <a:ln w="0">
            <a:noFill/>
          </a:ln>
        </p:spPr>
      </p:pic>
      <p:sp>
        <p:nvSpPr>
          <p:cNvPr id="300" name=""/>
          <p:cNvSpPr txBox="1"/>
          <p:nvPr/>
        </p:nvSpPr>
        <p:spPr>
          <a:xfrm>
            <a:off x="457200" y="1609200"/>
            <a:ext cx="7238880" cy="484668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Високошколска установа има јавности доступан финансијски план за период законом про-писаног трајања студијског програма, који је саставни део пословног плана високошколске установе. Финансијски план садржи јасно представљене будуће планиране приходе и рас-ходе по врстама и динамици.</a:t>
            </a: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Уколико је неопходно, високошколска установа обезбеђује потребне банкарске кредите и гаранције.</a:t>
            </a: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285840" y="317520"/>
            <a:ext cx="7473960" cy="1150920"/>
          </a:xfrm>
          <a:prstGeom prst="rect">
            <a:avLst/>
          </a:prstGeom>
          <a:ln w="0">
            <a:noFill/>
          </a:ln>
        </p:spPr>
      </p:pic>
      <p:sp>
        <p:nvSpPr>
          <p:cNvPr id="302"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Високошколска установа доноси и реализује стратегију обезбеђења квалитета у своме раду.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Високошколска установа утврђује јасно и подробно формулисану стратегију обезбеђења квалитета наставног процеса, управљања високошколском установом, ненаставних актив-ности, као и услова рада и студирања, која је доступна јавности.</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Високошколска установа образује посебну комисију за обезбеђење квалитета, из реда наставника, сарадника, ненаставног особља и студената.</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11040" y="231840"/>
            <a:ext cx="7394760" cy="1236600"/>
          </a:xfrm>
          <a:prstGeom prst="rect">
            <a:avLst/>
          </a:prstGeom>
          <a:ln w="0">
            <a:noFill/>
          </a:ln>
        </p:spPr>
      </p:pic>
      <p:sp>
        <p:nvSpPr>
          <p:cNvPr id="304" name=""/>
          <p:cNvSpPr txBox="1"/>
          <p:nvPr/>
        </p:nvSpPr>
        <p:spPr>
          <a:xfrm>
            <a:off x="457200" y="1609200"/>
            <a:ext cx="7238880" cy="4846680"/>
          </a:xfrm>
          <a:prstGeom prst="rect">
            <a:avLst/>
          </a:prstGeom>
          <a:noFill/>
          <a:ln w="0">
            <a:noFill/>
          </a:ln>
        </p:spPr>
        <p:txBody>
          <a:bodyPr anchor="t">
            <a:normAutofit fontScale="95000"/>
          </a:bodyPr>
          <a:p>
            <a:pPr marL="259200" indent="-2592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rebuchet MS"/>
              </a:rPr>
              <a:t>Високошколска установа спроводи у пракси утврђену стратегију обезбеђења квалитета и у том циљу предузима потребне активности за реализацију стратегије обезбеђења квалитета и предузима мере за отклањање уочених неправилности. Високошколска установа посебно прати квалитет извођења наставе, обављања испита, успешност студената у студирању у целини и на појединачним предметима, квалитет уџбеника и предузима потребне мере за отклањање уочених недостатака.</a:t>
            </a:r>
            <a:endParaRPr b="0" lang="en-US" sz="2200" spc="-1" strike="noStrike">
              <a:solidFill>
                <a:srgbClr val="000000"/>
              </a:solidFill>
              <a:latin typeface="Trebuchet MS"/>
            </a:endParaRPr>
          </a:p>
          <a:p>
            <a:pPr marL="259200" indent="-2592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rebuchet MS"/>
              </a:rPr>
              <a:t>Студенти имају активну улогу у доношењу и спровођењу стратегије обезбеђења квалитета. Посебно је значајна оцена квалитета наставног процеса која се утврђује анкетирањем сту-дената.</a:t>
            </a:r>
            <a:endParaRPr b="0" lang="en-US" sz="2200" spc="-1" strike="noStrike">
              <a:solidFill>
                <a:srgbClr val="000000"/>
              </a:solidFill>
              <a:latin typeface="Trebuchet MS"/>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285840" y="317520"/>
            <a:ext cx="7473960" cy="1150920"/>
          </a:xfrm>
          <a:prstGeom prst="rect">
            <a:avLst/>
          </a:prstGeom>
          <a:ln w="0">
            <a:noFill/>
          </a:ln>
        </p:spPr>
      </p:pic>
      <p:sp>
        <p:nvSpPr>
          <p:cNvPr id="30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Самовредновање је саставни део стратегије обезбеђења квалитета и спроводи се у интерва-лима од највише три године. У поступку самовредновања разматра се и оцена студената о квалитету наставног процеса.</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Високошколска установа има општи акт о уџбеницима.</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244440" y="291960"/>
            <a:ext cx="7461360" cy="1176480"/>
          </a:xfrm>
          <a:prstGeom prst="rect">
            <a:avLst/>
          </a:prstGeom>
          <a:ln w="0">
            <a:noFill/>
          </a:ln>
        </p:spPr>
      </p:pic>
      <p:sp>
        <p:nvSpPr>
          <p:cNvPr id="30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Високошколска установа објављује потпуну, прецизну, јасну и доступну информацију о свом раду, која је намењена студентима, потенцијалним студентима и осталим заинтересованим лици-ма.</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Информација коју високошколска установа објављује омогућава студентима и потенцијалним студентима да донесу одговарајуће одлуке о свом образовању.</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244440" y="291960"/>
            <a:ext cx="7461360" cy="1176480"/>
          </a:xfrm>
          <a:prstGeom prst="rect">
            <a:avLst/>
          </a:prstGeom>
          <a:ln w="0">
            <a:noFill/>
          </a:ln>
        </p:spPr>
      </p:pic>
      <p:sp>
        <p:nvSpPr>
          <p:cNvPr id="310"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Високошколска установа објављује основне задатке, циљеве, очекиване образовне исходе, опис студијских програма и опис предмета које нуди, услове уписа и преноса </a:t>
            </a:r>
            <a:r>
              <a:rPr b="1" lang="sr-CS" sz="2600" spc="-1" strike="noStrike">
                <a:solidFill>
                  <a:srgbClr val="000000"/>
                </a:solidFill>
                <a:latin typeface="Trebuchet MS"/>
              </a:rPr>
              <a:t>ЕСПБ </a:t>
            </a:r>
            <a:r>
              <a:rPr b="0" lang="sr-CS" sz="2600" spc="-1" strike="noStrike">
                <a:solidFill>
                  <a:srgbClr val="000000"/>
                </a:solidFill>
                <a:latin typeface="Trebuchet MS"/>
              </a:rPr>
              <a:t>бодова, износ школарине, статус установе и њену акредитацију, стратегију обезбеђења квалитета, финансијске резултате и друге релевантне податке.</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rebuchet MS"/>
              </a:rPr>
              <a:t>Високошколска установа објављује листу наставника и сарадника са подацима о њиховим квалификацијама и ангажовању у високошколској установи.</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285840" y="317520"/>
            <a:ext cx="7419960" cy="1150920"/>
          </a:xfrm>
          <a:prstGeom prst="rect">
            <a:avLst/>
          </a:prstGeom>
          <a:ln w="0">
            <a:noFill/>
          </a:ln>
        </p:spPr>
      </p:pic>
      <p:sp>
        <p:nvSpPr>
          <p:cNvPr id="230" name=""/>
          <p:cNvSpPr txBox="1"/>
          <p:nvPr/>
        </p:nvSpPr>
        <p:spPr>
          <a:xfrm>
            <a:off x="152280" y="1609200"/>
            <a:ext cx="7848720" cy="4846680"/>
          </a:xfrm>
          <a:prstGeom prst="rect">
            <a:avLst/>
          </a:prstGeom>
          <a:noFill/>
          <a:ln w="0">
            <a:noFill/>
          </a:ln>
        </p:spPr>
        <p:txBody>
          <a:bodyPr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sr-CS" sz="2600" spc="-1" strike="noStrike">
                <a:solidFill>
                  <a:srgbClr val="000000"/>
                </a:solidFill>
                <a:latin typeface="Trebuchet MS"/>
              </a:rPr>
              <a:t>Циљеви су конкретни, оствариви и мерљиви у складу са расположим могућностима и ближе одређују делатност високошколске установе.</a:t>
            </a:r>
            <a:endParaRPr b="0" lang="en-US" sz="26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endParaRPr b="0" lang="en-US" sz="26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sr-CS" sz="2600" spc="-1" strike="noStrike">
                <a:solidFill>
                  <a:srgbClr val="000000"/>
                </a:solidFill>
                <a:latin typeface="Trebuchet MS"/>
              </a:rPr>
              <a:t>Све активности високошколске установе, а посебно развој студијских програма, у складу су са утврђеним основним задацима и циљевима високошколске установе.</a:t>
            </a:r>
            <a:endParaRPr b="0" lang="en-US" sz="26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endParaRPr b="0" lang="en-US" sz="26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sr-CS" sz="2600" spc="-1" strike="noStrike">
                <a:solidFill>
                  <a:srgbClr val="000000"/>
                </a:solidFill>
                <a:latin typeface="Trebuchet MS"/>
              </a:rPr>
              <a:t>Високошколска установа периодично преиспитује своје основне задатке и циљеве</a:t>
            </a:r>
            <a:r>
              <a:rPr b="0" lang="en-US" sz="2600" spc="-1" strike="noStrike">
                <a:solidFill>
                  <a:srgbClr val="000000"/>
                </a:solidFill>
                <a:latin typeface="Trebuchet MS"/>
              </a:rPr>
              <a:t>.</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244440" y="291960"/>
            <a:ext cx="7461360" cy="1176480"/>
          </a:xfrm>
          <a:prstGeom prst="rect">
            <a:avLst/>
          </a:prstGeom>
          <a:ln w="0">
            <a:noFill/>
          </a:ln>
        </p:spPr>
      </p:pic>
      <p:sp>
        <p:nvSpPr>
          <p:cNvPr id="232" name=""/>
          <p:cNvSpPr txBox="1"/>
          <p:nvPr/>
        </p:nvSpPr>
        <p:spPr>
          <a:xfrm>
            <a:off x="228240" y="1609200"/>
            <a:ext cx="7467480" cy="4846680"/>
          </a:xfrm>
          <a:prstGeom prst="rect">
            <a:avLst/>
          </a:prstGeom>
          <a:noFill/>
          <a:ln w="0">
            <a:noFill/>
          </a:ln>
        </p:spPr>
        <p:txBody>
          <a:bodyPr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sr-CS" sz="2400" spc="-1" strike="noStrike">
                <a:solidFill>
                  <a:srgbClr val="000000"/>
                </a:solidFill>
                <a:latin typeface="Trebuchet MS"/>
              </a:rPr>
              <a:t>Да би остварила основне задатке и циљеве, високошколска установа врши планирање и контролу резултата свих облика своје делатности.</a:t>
            </a: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sr-CS" sz="2400" spc="-1" strike="noStrike">
                <a:solidFill>
                  <a:srgbClr val="000000"/>
                </a:solidFill>
                <a:latin typeface="Trebuchet MS"/>
              </a:rPr>
              <a:t>Високошколска установа има прописан поступак краткорочног и дугорочног планирања. Планирање је засновано на систематичном и сталном прикупљању података и њиховој стручној анализи. Резултати планирања су плански документи који су доступни јавности и примењују се у пракси.</a:t>
            </a: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44440" y="291960"/>
            <a:ext cx="7461360" cy="1176480"/>
          </a:xfrm>
          <a:prstGeom prst="rect">
            <a:avLst/>
          </a:prstGeom>
          <a:ln w="0">
            <a:noFill/>
          </a:ln>
        </p:spPr>
      </p:pic>
      <p:sp>
        <p:nvSpPr>
          <p:cNvPr id="234" name=""/>
          <p:cNvSpPr txBox="1"/>
          <p:nvPr/>
        </p:nvSpPr>
        <p:spPr>
          <a:xfrm>
            <a:off x="457200" y="1609200"/>
            <a:ext cx="7238880" cy="484668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Високошколска установа редовно и систематично контролише испуњавање основних задатака</a:t>
            </a:r>
            <a:r>
              <a:rPr b="0" lang="en-US" sz="2400" spc="-1" strike="noStrike">
                <a:solidFill>
                  <a:srgbClr val="000000"/>
                </a:solidFill>
                <a:latin typeface="Trebuchet MS"/>
              </a:rPr>
              <a:t>.</a:t>
            </a:r>
            <a:endParaRPr b="0" lang="en-US" sz="24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rebuchet MS"/>
              </a:rPr>
              <a:t>Контрола се обавља поређењем планираних и остварених циљева и поређењем резултата високошколске установе са њеним резултатима у претходном периоду и са резултатима сличних високошколских установа у земљи и свету. О резултатима контроле високошколска установа сачињава извештај који је доступан јавности.</a:t>
            </a:r>
            <a:endParaRPr b="0" lang="en-US" sz="24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285840" y="-12600"/>
            <a:ext cx="7419960" cy="1481040"/>
          </a:xfrm>
          <a:prstGeom prst="rect">
            <a:avLst/>
          </a:prstGeom>
          <a:ln w="0">
            <a:noFill/>
          </a:ln>
        </p:spPr>
      </p:pic>
      <p:sp>
        <p:nvSpPr>
          <p:cNvPr id="23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sr-CS" sz="2600" spc="-1" strike="noStrike">
                <a:solidFill>
                  <a:srgbClr val="000000"/>
                </a:solidFill>
                <a:latin typeface="Trebuchet MS"/>
              </a:rPr>
              <a:t>Високошколска установа има организациону структуру и систем управљања који обезбеђују постизање задатака и циљева високошколске установе.</a:t>
            </a:r>
            <a:r>
              <a:rPr b="0" lang="en-US" sz="2600" spc="-1" strike="noStrike">
                <a:solidFill>
                  <a:srgbClr val="000000"/>
                </a:solidFill>
                <a:latin typeface="Trebuchet MS"/>
              </a:rPr>
              <a:t>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sr-CS" sz="2600" spc="-1" strike="noStrike">
                <a:solidFill>
                  <a:srgbClr val="000000"/>
                </a:solidFill>
                <a:latin typeface="Trebuchet MS"/>
              </a:rPr>
              <a:t>Овлашћења и одговорности органа управљања, стручних органа високошколске установе, као и студентског парламента утврђени су статутом високошколске установе.</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244440" y="291960"/>
            <a:ext cx="7461360" cy="117648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sr-CS" sz="2600" spc="-1" strike="noStrike">
                <a:solidFill>
                  <a:srgbClr val="000000"/>
                </a:solidFill>
                <a:latin typeface="Trebuchet MS"/>
              </a:rPr>
              <a:t>Садржај квалификација и диплома појединих врста и нивоа студија одговарају карактеру и циљевима студијских програма.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sr-CS" sz="2600" spc="-1" strike="noStrike">
                <a:solidFill>
                  <a:srgbClr val="000000"/>
                </a:solidFill>
                <a:latin typeface="Trebuchet MS"/>
              </a:rPr>
              <a:t>Високошколска установа систематично и ефективно планира, спроводи, надгледа, вреднује и унапређује квалитет студијских програма.</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3T09:23:18Z</dcterms:created>
  <dc:creator>korisnik</dc:creator>
  <dc:description/>
  <dc:language>en-US</dc:language>
  <cp:lastModifiedBy>korisnik</cp:lastModifiedBy>
  <dcterms:modified xsi:type="dcterms:W3CDTF">2010-10-25T14:10:37Z</dcterms:modified>
  <cp:revision>39</cp:revision>
  <dc:subject/>
  <dc:title>СТАНДАРДИ ЗА АКРЕДИТАЦИЈУ ВИСОКОШКОЛСКИХ УСТАНОВА</dc:title>
</cp:coreProperties>
</file>