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D9AC7-D3E2-49B6-B226-00F62D0AEA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4048560"/>
            <a:ext cx="84391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2AD3-BA8E-4799-942A-2C0924EC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118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118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4048560"/>
            <a:ext cx="4118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8320" y="4048560"/>
            <a:ext cx="4118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63E0-F154-434E-A06D-FCA57BA7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271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360" y="1341360"/>
            <a:ext cx="271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080" y="1341360"/>
            <a:ext cx="271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4048560"/>
            <a:ext cx="271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360" y="4048560"/>
            <a:ext cx="271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080" y="4048560"/>
            <a:ext cx="271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9278-30C1-4E9B-91EA-FD232E10B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E0D13-3DE4-48DA-B228-06C3261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5A4A-ECC7-496D-967C-0D4A6920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1180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1180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0D0C-B5FF-4F91-9694-0856AEFC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ED738-89DB-4D6E-A206-239E80E1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74160"/>
            <a:ext cx="8001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34C3-5351-48EA-9AC8-C97ADD48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118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1180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4048560"/>
            <a:ext cx="4118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EBDC-45A1-4263-B506-70DD6CCD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1180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118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8320" y="4048560"/>
            <a:ext cx="4118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928A-D55E-48E9-A39D-C885C8CC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118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118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4048560"/>
            <a:ext cx="84391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12D2-B35D-44E7-AAA9-1E8EC61B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560" y="65977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33cc"/>
                </a:solidFill>
                <a:latin typeface="Arial"/>
              </a:rPr>
              <a:t>2009/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02480" y="65797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277F-D3AB-471C-9884-52515EA63FB2}" type="slidenum">
              <a:rPr b="0" lang="sr-Latn-C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4920" y="981000"/>
            <a:ext cx="4608360" cy="42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920" y="907920"/>
            <a:ext cx="5041800" cy="428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34920" y="1053000"/>
            <a:ext cx="4249800" cy="42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6600cc"/>
                </a:solidFill>
                <a:latin typeface="Times New Roman"/>
              </a:rPr>
              <a:t>Akreditacija u visokom obrazovanju</a:t>
            </a:r>
            <a:endParaRPr b="1" i="1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za samovrednovanje i ocenjivanje kvaliteta visokoškolskih ustanov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12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Finansiranje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Kvalitet finansiranja visokoškolske ustanove obezbeđuje se kroz kvalitet izvora finansiranja, finansijsko planiranje i transparentnost u upotrebi finansijskih sredstava, što dovodi do finansijske stabilnosti u dugom roku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13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Uloga studenata u samovrednovanju i proveri kvalite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Visokoškolske ustanove obezbeđuju značajnu ulogu studenata u procesu obezbeđenja kvaliteta, i to kroz rad studentskih organizacija i studentskih predstavnika u telima visokoškolske ustanove, kao i kroz anketiranje studenata o kvalitetu visokoškolske ustanove.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1AD5-5FFA-4124-9DB5-A0FAFDEEF8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za samovrednovanje i ocenjivanje kvaliteta visokoškolskih ustanov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14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Sistematsko praćenje i periodična provera kvalite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Visokoškolska ustanova kontinuirano i sistematski prikuplja potrebne informacije o obezbeđenju kvaliteta i vrši periodične provere u svim oblastima obezbeđenja kvaliteta.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C86C-8EEB-4567-8BA5-C414211017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Nadležnost Nacionalnog saveta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Član 11.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7)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tvrđuje standarde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samovrednovanje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i ocenjivanje kvaliteta visokoškolskih ustanova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3333cc"/>
                </a:solidFill>
                <a:uFillTx/>
                <a:latin typeface="Verdana"/>
              </a:rPr>
              <a:t>8) </a:t>
            </a:r>
            <a:r>
              <a:rPr b="1" lang="sr-Latn-CS" sz="2400" spc="-1" strike="noStrike" u="sng">
                <a:solidFill>
                  <a:srgbClr val="3333cc"/>
                </a:solidFill>
                <a:uFillTx/>
                <a:latin typeface="Verdana"/>
              </a:rPr>
              <a:t>	</a:t>
            </a:r>
            <a:r>
              <a:rPr b="1" lang="sr-Latn-CS" sz="2400" spc="-1" strike="noStrike" u="sng">
                <a:solidFill>
                  <a:srgbClr val="3333cc"/>
                </a:solidFill>
                <a:uFillTx/>
                <a:latin typeface="Verdana"/>
              </a:rPr>
              <a:t>utvrđuje standarde i postupak </a:t>
            </a:r>
            <a:r>
              <a:rPr b="1" lang="sr-Latn-CS" sz="2400" spc="-1" strike="noStrike" u="sng">
                <a:solidFill>
                  <a:srgbClr val="ff0066"/>
                </a:solidFill>
                <a:uFillTx/>
                <a:latin typeface="Verdana"/>
              </a:rPr>
              <a:t>za spoljašnju proveru kvaliteta</a:t>
            </a:r>
            <a:r>
              <a:rPr b="1" lang="sr-Latn-CS" sz="2400" spc="-1" strike="noStrike" u="sng">
                <a:solidFill>
                  <a:srgbClr val="3333cc"/>
                </a:solidFill>
                <a:uFillTx/>
                <a:latin typeface="Verdana"/>
              </a:rPr>
              <a:t> visokoškolskih ustanova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9) 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tvrđuje standarde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početnu akreditaciju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10) utvrđuje standarde i postupak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akreditaciju visokoškolskih ustanov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11) utvrđuje standarde i postupak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akreditaciju studijskih program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6A5A-5826-4442-9D36-568DC2D3BE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i postupak za spoljašnju proveru kvaliteta visokoškolskih ustanov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PRAVILNIK o standardima i postupku za spoljašnju proveru kvaliteta visokoškolskih ustanov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9900cc"/>
                </a:solidFill>
                <a:latin typeface="Verdana"/>
              </a:rPr>
              <a:t>Ovim pravilnikom utvrđuju se standardi i postupak za spoljašnju proveru kvaliteta visokoškolskih ustanov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00cc"/>
                </a:solidFill>
                <a:latin typeface="Verdana"/>
              </a:rPr>
              <a:t>Doneo ga </a:t>
            </a:r>
            <a:r>
              <a:rPr b="0" lang="sr-CS" sz="2000" spc="-1" strike="noStrike">
                <a:solidFill>
                  <a:srgbClr val="9900cc"/>
                </a:solidFill>
                <a:latin typeface="Verdana"/>
              </a:rPr>
              <a:t>Nacionalni savet za visoko obrazovanje, na sednici održanoj 20. oktobra 2006. godine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6AA5-9AF6-43CB-8326-583E1A297C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i postupak za spoljašnju proveru kvaliteta visokoškolskih ustanov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PRAVILNIK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o izmeni Pravilnika o standardima i postupku za spoljašnju proveru kvaliteta visokoškolskih ustanov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00cc"/>
                </a:solidFill>
                <a:latin typeface="Verdana"/>
              </a:rPr>
              <a:t>Doneo ga </a:t>
            </a:r>
            <a:r>
              <a:rPr b="0" lang="sr-CS" sz="2000" spc="-1" strike="noStrike">
                <a:solidFill>
                  <a:srgbClr val="9900cc"/>
                </a:solidFill>
                <a:latin typeface="Verdana"/>
              </a:rPr>
              <a:t>Nacionalni savet za visoko obrazovanje 15. januara 2010</a:t>
            </a:r>
            <a:r>
              <a:rPr b="0" lang="sr-Latn-CS" sz="2000" spc="-1" strike="noStrike">
                <a:solidFill>
                  <a:srgbClr val="9900cc"/>
                </a:solidFill>
                <a:latin typeface="Verdana"/>
              </a:rPr>
              <a:t>.</a:t>
            </a:r>
            <a:r>
              <a:rPr b="0" lang="sr-CS" sz="2000" spc="-1" strike="noStrike">
                <a:solidFill>
                  <a:srgbClr val="9900cc"/>
                </a:solidFill>
                <a:latin typeface="Verdana"/>
              </a:rPr>
              <a:t> godine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66"/>
                </a:solidFill>
                <a:latin typeface="Verdana"/>
              </a:rPr>
              <a:t>Komisija obrazuje potkomisiju u čijem sastavu su</a:t>
            </a: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ff0066"/>
                </a:solidFill>
                <a:latin typeface="Verdana"/>
              </a:rPr>
              <a:t>najmanje dva člana iz obrazovno-naučnog, odnosno obrazovno-umetničkog polja</a:t>
            </a: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 u okviru koga ustanova obavlja delatnost i </a:t>
            </a:r>
            <a:r>
              <a:rPr b="0" lang="sr-CS" sz="2000" spc="-1" strike="noStrike">
                <a:solidFill>
                  <a:srgbClr val="ff0066"/>
                </a:solidFill>
                <a:latin typeface="Verdana"/>
              </a:rPr>
              <a:t>jedan student sa liste studenata koje imenuje Studentska konferencija</a:t>
            </a: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 univerziteta u skladu sa svojim opštim aktima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Student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i</a:t>
            </a: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 u potkomisiji iz stava 2. Ovog člana </a:t>
            </a:r>
            <a:r>
              <a:rPr b="0" lang="sr-CS" sz="2000" spc="-1" strike="noStrike">
                <a:solidFill>
                  <a:srgbClr val="ff0066"/>
                </a:solidFill>
                <a:latin typeface="Verdana"/>
              </a:rPr>
              <a:t>nemaju prava odlučivanja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2013-8742-46D3-9177-D61CD3EA45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i postupak za spoljašnju proveru kvaliteta visokoškolskih ustanov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61800" indent="-36180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1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Korišćenje rezultata samovrednovanja visokoškolske ustanove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61800" indent="-36180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2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Metod spoljašnje provere kvalite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61800" indent="-36180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3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Oblasti spoljašnje provere kvalite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61800" indent="-36180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4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Rezultat spoljašnje provere kvaliteta visokoškolske ustanove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61800" indent="-36180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5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Organizacija i učesnici postupka spoljašnje provere kvalite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1706-FD23-4140-92F5-F5C661268E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i postupak za spoljašnju proveru kvaliteta visokoškolskih ustanov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6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Postupak spoljašnje provere kvaliteta mora biti koncipiran tako da ispunjava svoju svrhu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7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Izveštavanje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8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Periodičnost provere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9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Unapređenje postupka spoljašnje provere kvalite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4B82-9D5F-4B36-B15F-4ABD8FB26F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Nadležnost Nacionalnog saveta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cc"/>
                </a:solidFill>
                <a:latin typeface="Verdana"/>
              </a:rPr>
              <a:t>Član 11.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7)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tvrđuje standarde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samovrednovanje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i ocenjivanje kvaliteta visokoškolskih ustanova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8) 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tvrđuje standarde i postupak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spoljašnju proveru kvalitet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visokoškolskih ustanova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3333cc"/>
                </a:solidFill>
                <a:uFillTx/>
                <a:latin typeface="Verdana"/>
              </a:rPr>
              <a:t>9) </a:t>
            </a:r>
            <a:r>
              <a:rPr b="1" lang="sr-Latn-CS" sz="2400" spc="-1" strike="noStrike" u="sng">
                <a:solidFill>
                  <a:srgbClr val="3333cc"/>
                </a:solidFill>
                <a:uFillTx/>
                <a:latin typeface="Verdana"/>
              </a:rPr>
              <a:t>	</a:t>
            </a:r>
            <a:r>
              <a:rPr b="1" lang="sr-Latn-CS" sz="2400" spc="-1" strike="noStrike" u="sng">
                <a:solidFill>
                  <a:srgbClr val="3333cc"/>
                </a:solidFill>
                <a:uFillTx/>
                <a:latin typeface="Verdana"/>
              </a:rPr>
              <a:t>utvrđuje standarde </a:t>
            </a:r>
            <a:r>
              <a:rPr b="1" lang="sr-Latn-CS" sz="2400" spc="-1" strike="noStrike" u="sng">
                <a:solidFill>
                  <a:srgbClr val="ff0066"/>
                </a:solidFill>
                <a:uFillTx/>
                <a:latin typeface="Verdana"/>
              </a:rPr>
              <a:t>za početnu akreditaciju</a:t>
            </a:r>
            <a:r>
              <a:rPr b="1" lang="sr-Latn-CS" sz="2400" spc="-1" strike="noStrike" u="sng">
                <a:solidFill>
                  <a:srgbClr val="3333cc"/>
                </a:solidFill>
                <a:uFillTx/>
                <a:latin typeface="Verdana"/>
              </a:rPr>
              <a:t>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10) utvrđuje standarde i postupak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akreditaciju visokoškolskih ustanov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11) utvrđuje standarde i postupak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akreditaciju studijskih program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6FDB-3D19-4C31-B3D9-ADA1D6944A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Standardi za početnu akreditaciju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Predstoji priprema predloga za Standarde za početnu akreditaciju!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C318-AF9F-46DA-9C3D-9094CF051D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Nadležnost Nacionalnog saveta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cc"/>
                </a:solidFill>
                <a:latin typeface="Verdana"/>
              </a:rPr>
              <a:t>Član 11.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7)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tvrđuje standarde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samovrednovanje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i ocenjivanje kvaliteta visokoškolskih ustanova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8) 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tvrđuje standarde i postupak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spoljašnju proveru kvalitet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visokoškolskih ustanova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9) 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tvrđuje standarde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početnu akreditaciju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3333cc"/>
                </a:solidFill>
                <a:uFillTx/>
                <a:latin typeface="Verdana"/>
              </a:rPr>
              <a:t>10) utvrđuje standarde i postupak </a:t>
            </a:r>
            <a:r>
              <a:rPr b="1" lang="sr-Latn-CS" sz="2400" spc="-1" strike="noStrike" u="sng">
                <a:solidFill>
                  <a:srgbClr val="ff0066"/>
                </a:solidFill>
                <a:uFillTx/>
                <a:latin typeface="Verdana"/>
              </a:rPr>
              <a:t>za akreditaciju visokoškolskih ustanova</a:t>
            </a:r>
            <a:r>
              <a:rPr b="1" lang="sr-Latn-CS" sz="2400" spc="-1" strike="noStrike" u="sng">
                <a:solidFill>
                  <a:srgbClr val="3333cc"/>
                </a:solidFill>
                <a:uFillTx/>
                <a:latin typeface="Verdana"/>
              </a:rPr>
              <a:t>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3333cc"/>
                </a:solidFill>
                <a:uFillTx/>
                <a:latin typeface="Verdana"/>
              </a:rPr>
              <a:t>11) utvrđuje standarde i postupak </a:t>
            </a:r>
            <a:r>
              <a:rPr b="1" lang="sr-Latn-CS" sz="2400" spc="-1" strike="noStrike" u="sng">
                <a:solidFill>
                  <a:srgbClr val="ff0066"/>
                </a:solidFill>
                <a:uFillTx/>
                <a:latin typeface="Verdana"/>
              </a:rPr>
              <a:t>za akreditaciju studijskih program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DC25-3C9E-4844-8A4A-3B8D15FF28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Sastav Nacionalnog saveta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cc"/>
                </a:solidFill>
                <a:latin typeface="Verdana"/>
              </a:rPr>
              <a:t>Član 10.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447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3) ....U radu Nacionalnog saveta sa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pravom odlučivanj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u pitanjima iz člana 11. tač. 7) – 11)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učestvuju dva predstavnika studenat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koje određuje studentska konferencija, na period od dve godine.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43C0-C5BD-4EBF-B054-81AE435542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i postupak za akreditaciju </a:t>
            </a:r>
            <a:br>
              <a:rPr sz="2800"/>
            </a:b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visokoškolskih ustanova / studijskih program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PRAVILNIK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o standardima i postupku za akreditaciju visokoškolskih ustanova i studijskih program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9900cc"/>
                </a:solidFill>
                <a:latin typeface="Verdana"/>
              </a:rPr>
              <a:t>Ovim pravilnikom utvrđuju se standardi i postupak za akreditaciju visokoškolskih ustanova i studijskih program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00cc"/>
                </a:solidFill>
                <a:latin typeface="Verdana"/>
              </a:rPr>
              <a:t>Doneo ga </a:t>
            </a:r>
            <a:r>
              <a:rPr b="0" lang="sr-CS" sz="2000" spc="-1" strike="noStrike">
                <a:solidFill>
                  <a:srgbClr val="9900cc"/>
                </a:solidFill>
                <a:latin typeface="Verdana"/>
              </a:rPr>
              <a:t>Nacionalni savet za visoko obrazovanje, na sednici održanoj 20. oktobra 2006. godine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6092-DFC1-47AA-9BED-7C5864DC99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i postupak za akreditaciju </a:t>
            </a:r>
            <a:br>
              <a:rPr sz="2800"/>
            </a:b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visokoškolskih ustanova / studijskih program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PRAVILNIK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o izmeni Pravilnika o standardima i postupku za akreditaciju visokoškolskih ustanova i studijskih program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00cc"/>
                </a:solidFill>
                <a:latin typeface="Verdana"/>
              </a:rPr>
              <a:t>Doneo ga </a:t>
            </a:r>
            <a:r>
              <a:rPr b="0" lang="sr-CS" sz="2000" spc="-1" strike="noStrike">
                <a:solidFill>
                  <a:srgbClr val="9900cc"/>
                </a:solidFill>
                <a:latin typeface="Verdana"/>
              </a:rPr>
              <a:t>Nacionalni savet za visoko obrazovanje 15. januara 2010 godine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66"/>
                </a:solidFill>
                <a:latin typeface="Verdana"/>
              </a:rPr>
              <a:t>Komisija obrazuje potkomisiju u čijem sastavu su</a:t>
            </a: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ff0066"/>
                </a:solidFill>
                <a:latin typeface="Verdana"/>
              </a:rPr>
              <a:t>najmanje dva člana iz obrazovno-naučnog, odnosno obrazovno-umetničkog polja</a:t>
            </a: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 u okviru koga ustanova obavlja delatnost i </a:t>
            </a:r>
            <a:r>
              <a:rPr b="0" lang="sr-CS" sz="2000" spc="-1" strike="noStrike">
                <a:solidFill>
                  <a:srgbClr val="ff0066"/>
                </a:solidFill>
                <a:latin typeface="Verdana"/>
              </a:rPr>
              <a:t>jedan student sa liste studenata koje imenuje Studentska konferencija</a:t>
            </a: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 univerziteta u skladu sa svojim opštim aktima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Student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i</a:t>
            </a: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 u potkomisiji iz stava 2. Ovog člana </a:t>
            </a:r>
            <a:r>
              <a:rPr b="0" lang="sr-CS" sz="2000" spc="-1" strike="noStrike">
                <a:solidFill>
                  <a:srgbClr val="ff0066"/>
                </a:solidFill>
                <a:latin typeface="Verdana"/>
              </a:rPr>
              <a:t>nemaju prava odlučivanja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65BA8-EBFE-435E-89D5-307D779477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Standardi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Standardi za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akreditaciju visokoškolskih ustanov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Dopuna standarda za akreditaciju visokoškolskih ustanova u okviru određenog obrazovno-naučnog, odnosno obrazovno-umetničkog pol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Standardi za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akreditaciju studijskih programa prvog i drugog nivo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visokog obrazovan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Dopuna standarda za akreditaciju studijskih programa u okviru određenog obrazovno-naučnog, odnosno obrazovno-umetničkog pol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7BDF-5821-4974-BDB8-950B09E619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Standardi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Standardi za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akreditaciju studijskih programa doktorskih studi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Dopuna standarda za akreditaciju studijskih programa doktorskih studija u okviru određenog obrazovno-naučnog, odnosno obrazovno-umetničkog pol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Standardi za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akreditaciju studijskih programa doktorskih studija umetnosti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01A6-E9F7-4CA4-A102-98A98D87E7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Uputstva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Verdana"/>
              </a:rPr>
              <a:t>UPUTSTVA 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za pripremu dokumentacije za akreditaciju</a:t>
            </a:r>
            <a:r>
              <a:rPr b="0" lang="ru-RU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00cc"/>
                </a:solidFill>
                <a:latin typeface="Verdana"/>
              </a:rPr>
              <a:t>Doneo Nacionalni savet za visoko obrazovanje u novembru 2007. godine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PUTSTVO za pripremu dokumentacije za akreditaciju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IMT studijskih program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PUTSTVO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za pripremu materijala za akreditaciju studijskog programa </a:t>
            </a: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koji se realizuje učenjem na daljinu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PUTSTVO za pripremu dokumentacije za akreditaciju zajedničkih studijskih program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2ABA-FFBA-481A-A087-8263D3F580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Komisija za akreditaciju i proveru kvaliteta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Poslovnik Komisije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za akreditaciju i proveru kvalite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Ovim poslovnikom bliže se uređuje način rada i odlučivanja Komisije za akreditaciju i proveru kvaliteta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,</a:t>
            </a: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 kao i druga pitanja od značaja za njen rad.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Standardi rada Komisije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za akreditaciju i proveru kvalite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U</a:t>
            </a: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spostavljaju kriterijume za rad Komisije i kriterijume za akreditaciju i dobijanje dozvole za rad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 visokoškolskih ustanova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863D-87C0-4B0A-856E-D73DF7B788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Komisija za akreditaciju i proveru kvaliteta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Kodeks ponašanja Komisije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za akreditaciju i proveru kvalite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Krug lica na koja se odnosi Kodeks ponašanja jesu: članovi Komisije, recenzenti i druga lica koja učestvuju u poslovima i radu Komisije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Opšti principi ponašan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Zabrana sukoba interesa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Zabrana primanja i davanja poklona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Poverljivost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Intelektualna sloboda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Intelektualna svojina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Razvoj struke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F223-57E8-42F8-B97D-FB7D8B1D83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Uputstva za visokoškolske ustanove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putstva za pripremu dokumentacije za akreditaciju visokoškolske ustanove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putstvo za pripremu izveštaja o samovrednovanju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putstvo za pripremu dokumentacije za akreditaciju studijskih programa prvog i drugog nivoa visokog obrazovan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puttsvo za pripremu dokumentacije za akreditaciju studijskih programa doktorskih studija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4B79-D800-43BD-A352-7102975844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Uputstva za pripremu dokumentacije za akreditaciju visokoškolske ustanove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1680" y="981000"/>
            <a:ext cx="6200640" cy="573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CD97-EF3A-44D1-BA4C-296FC9057E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Uputstva za pripremu dokumentacije za akreditaciju visokoškolske ustanove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82560" y="836640"/>
            <a:ext cx="5437440" cy="583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AB20F-B555-490D-BB14-70B4DB05BC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Nadležnost Nacionalnog saveta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cc"/>
                </a:solidFill>
                <a:latin typeface="Verdana"/>
              </a:rPr>
              <a:t>Član 11.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7)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tvrđuje standarde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samovrednovanje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i ocenjivanje kvaliteta visokoškolskih ustanova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8) 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tvrđuje standarde i postupak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spoljašnju proveru kvalitet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visokoškolskih ustanova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9) 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utvrđuje standarde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početnu akreditaciju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10) utvrđuje standarde i postupak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akreditaciju visokoškolskih ustanov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6285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11) utvrđuje standarde i postupak </a:t>
            </a:r>
            <a:r>
              <a:rPr b="0" lang="sr-Latn-CS" sz="2400" spc="-1" strike="noStrike">
                <a:solidFill>
                  <a:srgbClr val="ff0066"/>
                </a:solidFill>
                <a:latin typeface="Verdana"/>
              </a:rPr>
              <a:t>za akreditaciju studijskih program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32C9-3F4C-4027-82F8-ACB62BE9DD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74160"/>
            <a:ext cx="842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6600cc"/>
                </a:solidFill>
                <a:latin typeface="Times New Roman"/>
              </a:rPr>
              <a:t>Uputstvo za pripremu dokumentacije za akreditaciju studijskih programa prvog i drugog nivoa visokog obrazovanja</a:t>
            </a:r>
            <a:endParaRPr b="1" i="1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10837"/>
          <a:stretch/>
        </p:blipFill>
        <p:spPr>
          <a:xfrm>
            <a:off x="1908000" y="1197000"/>
            <a:ext cx="5637240" cy="54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322E-5E76-4A6C-94D8-7679E76D49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74160"/>
            <a:ext cx="842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6600cc"/>
                </a:solidFill>
                <a:latin typeface="Times New Roman"/>
              </a:rPr>
              <a:t>Uputstvo za pripremu dokumentacije za akreditaciju studijskih programa prvog i drugog nivoa visokog obrazovanja</a:t>
            </a:r>
            <a:endParaRPr b="1" i="1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71680" y="1087560"/>
            <a:ext cx="6200640" cy="55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955E-F7FA-4B04-8FFD-26241826B1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Tabele u dokumentaciji ...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Tabele u dokumentaciji za akreditaciju visokoškolske ustanove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Tabele u dokumentaciji za akreditaciju studijskih programa prvog i drugog nivoa visokog obrazovan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Tabele u dokumentaciji za akreditaciju studijskih programa doktorskih studi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BE81-1F1B-41F4-A36B-15583E88AE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Tabele u dokumentaciji za akreditaciju visokoškolske ustanove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47640" y="1147680"/>
            <a:ext cx="6110640" cy="566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A343-88E0-487C-98CA-6AA2D5A6C4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Tabele u dokumentaciji za akreditaciju studijskih programa doktorskih studij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2648"/>
          <a:stretch/>
        </p:blipFill>
        <p:spPr>
          <a:xfrm>
            <a:off x="1486080" y="1184400"/>
            <a:ext cx="617220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F567-CEA2-4355-9B76-D7632E9F56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Spisak priloga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Spisak priloga dokumentaciji za akreditaciju visokoškolske ustanove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Spisak priloga dokumentaciji za akreditaciju studijskih programa prvog i drugog nivoa visokog obrazovan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Spisak priloga dokumentaciji za akreditaciju studijskih programa doktorskih studi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2B3F-1B5A-47F3-9760-A361158B12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pisak priloga dokumentaciji za akreditaciju visokoškolske ustanove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207" r="0" b="0"/>
          <a:stretch/>
        </p:blipFill>
        <p:spPr>
          <a:xfrm>
            <a:off x="1495440" y="836640"/>
            <a:ext cx="6153120" cy="583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6B21-8450-4E39-8720-EAC132E2C0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pisak priloga dokumentaciji za akreditaciju studijskih programa doktorskih studij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85800" y="1523880"/>
            <a:ext cx="673128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C7C2-E05F-422F-8FC7-F09641EB03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Recenzentski formulari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Recenzentski formular za procenu ispunjenosti standarda za akreditaciju visokoškolskih ustanov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Recenzentski formular za procenu ispunjenosti standarda za akreditaciju studijskih programa prvog i drugog nivoa visokog obrazovan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Recenzentski formular za procenu ispunjenosti standarda za akreditaciju studijskih programa doktorskih studij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3BE6-5F6E-4293-AEC7-D996E80B5F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Recenzentski formular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19200" y="874800"/>
            <a:ext cx="610560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62B68-BB19-4586-AFC9-5C0245384A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za samovrednovanje i ocenjivanje kvaliteta visokoškolskih ustanov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PRAVILNIK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o standardima za samovrednovanje i ocenjivanje kvaliteta visokoškolskih ustanov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9900cc"/>
                </a:solidFill>
                <a:latin typeface="Verdana"/>
              </a:rPr>
              <a:t>Ovim pravilnikom utvrđuju se standardi za samovrednovanje i ocenjivanje kvaliteta visokoškolskih ustanova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00cc"/>
                </a:solidFill>
                <a:latin typeface="Verdana"/>
              </a:rPr>
              <a:t>Doneo ga </a:t>
            </a:r>
            <a:r>
              <a:rPr b="0" lang="sr-CS" sz="2000" spc="-1" strike="noStrike">
                <a:solidFill>
                  <a:srgbClr val="9900cc"/>
                </a:solidFill>
                <a:latin typeface="Verdana"/>
              </a:rPr>
              <a:t>Nacionalni savet za visoko obrazovanje, na sednici održanoj 20. oktobra 2006. godine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16BBD-A3A1-47B9-90D8-18B22123B9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cc"/>
                </a:solidFill>
                <a:latin typeface="Times New Roman"/>
              </a:rPr>
              <a:t>Recenzentski formular</a:t>
            </a: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09840" y="765000"/>
            <a:ext cx="6086520" cy="5832720"/>
            <a:chOff x="1509840" y="765000"/>
            <a:chExt cx="6086520" cy="58327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1566720" y="765000"/>
              <a:ext cx="6010560" cy="33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"/>
            <a:srcRect l="0" t="3659" r="0" b="7269"/>
            <a:stretch/>
          </p:blipFill>
          <p:spPr>
            <a:xfrm>
              <a:off x="1509840" y="3933720"/>
              <a:ext cx="6086520" cy="266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1894-C633-4FA1-80D1-A0848BF43FC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Opis elektronskog formulara za predstavljanje studijskog programa i obračun opterećenja nastavnik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Pravilnik o Listi stručnih, akademskih i naučnih zvanja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4B13-FEFB-442E-BBDC-051372656AC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74160"/>
            <a:ext cx="842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Pravilnik o Listi stručnih, akademskih i naučnih zvanj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52520" y="1230480"/>
            <a:ext cx="6438960" cy="47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30DD0-56AE-4CFB-99AA-02A991A5FBF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74160"/>
            <a:ext cx="842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Pravilnik o Listi stručnih, akademskih i naučnih zvanj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38200" y="1249200"/>
            <a:ext cx="6267600" cy="541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65E1-9608-4F27-85CD-E55852817C7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za samovrednovanje i ocenjivanje kvaliteta visokoškolskih ustanov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1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Strategija obezbeđenja kvalite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838080" indent="-38088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Visokoškolska ustanova utvrđuje strategiju obezbeđenja kvaliteta, koja je dostupna javnosti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2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Standardi i postupci za obezbeđenje kvalite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838080" indent="-38088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Visokoškolska ustanova utvrđuje način (standarde) i postupke za obezbeđenje kvaliteta svog rada, koji su dostupni javnosti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3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Sistem obezbeđenja kvalite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838080" indent="-38088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Visokoškolska ustanova izgrađuje organizacionu strukturu za obezbeđenje kvaliteta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341C-9EF9-4514-AE8A-781E0C9590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za samovrednovanje i ocenjivanje kvaliteta visokoškolskih ustanov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4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Kvalitet studijskog program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Kvalitet studijskog programa obezbeđuje se kroz praćenje i proveru njegovih ciljeva, strukture, radnog opterećenja studenata, kao i kroz osavremenjivanje sadržaja i stalno prikupljanje informacija o kvalitetu programa od odgovarajućih organizacija iz okruženja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5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Kvalitet nastavnog proces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Kvalitet nastavnog procesa obezbeđuje se kroz interaktivnost nastave, uključivanje primera u nastavu, profesionalni rad nastavnika i saradnika, donošenje i poštovanje planova rada po predmetima, kao i praćenje kvaliteta nastave i preduzimanje potrebnih mera u slučaju kada se utvrdi da kvalitet nastave nije na odgovarajućem nivou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7D70-E9A1-4E9C-B90C-8EF348FD08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za samovrednovanje i ocenjivanje kvaliteta visokoškolskih ustanov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6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Kvalitet naučnoistraživačkog, umetničkog i stručnog rad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Visokoškolska ustanova neprekidno radi na podsticanju, obezbeđenju uslova, praćenju i proveri rezultata naučnoistraživačkog, umetničkog i stručnog rada i na njihovom uključivanju u nastavni proces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7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Kvalitet nastavnika i saradnik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Kvalitet nastavnika i saradnika obezbeđuje se pažljivim planiranjem i izborom na osnovu javnog postupka, stvaranjem uslova za permanentnu edukaciju i razvoj nastavnika i saradnika i proverom kvaliteta njihovog rada u nastavi.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49EBD-9B62-42E6-A00B-9C180D034E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za samovrednovanje i ocenjivanje kvaliteta visokoškolskih ustanov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8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Kvalitet studenat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Kvalitet studenata se obezbeđuje selekcijom studenata na unapred propisan i javan način, ocenjivanjem studenata tokom rada u nastavi, permanentnim praćenjem i proveravanjem rezultata ocenjivanja i prolaznosti studenata i preduzimanjem odgovarajućih mera u slučaju propusta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9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Kvalitet udžbenika, literature, bibliotečkih i informatičkih resursa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Kvalitet udžbenika, literature, bibliotečkih i informatičkih resursa se obezbeđuje donošenjem i sprovođenjem odgovarajućeg podzakonskog akta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EC7E-9365-438B-8233-DE89008D25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741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00cc"/>
                </a:solidFill>
                <a:latin typeface="Times New Roman"/>
              </a:rPr>
              <a:t>Standardi za samovrednovanje i ocenjivanje kvaliteta visokoškolskih ustanova</a:t>
            </a:r>
            <a:endParaRPr b="1" i="1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10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Kvalitet upravljanja visokoškolskom ustanovom i kvalitet nenastavne</a:t>
            </a:r>
            <a:r>
              <a:rPr b="0" lang="sr-Latn-C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podrške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Kvalitet upravljanja visokoškolskom ustanovom i kvalitet nenastavne podrške se obezbeđuje utvrđivanjem nadležnosti i odgovornosti organa upravljanja i jedinica za nenastavnu podršku i permanentnim praćenjem i proverom njihovog rada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Verdana"/>
              </a:rPr>
              <a:t>Standard 11:</a:t>
            </a:r>
            <a:r>
              <a:rPr b="0" lang="sr-CS" sz="2400" spc="-1" strike="noStrike">
                <a:solidFill>
                  <a:srgbClr val="3333cc"/>
                </a:solidFill>
                <a:latin typeface="Verdana"/>
              </a:rPr>
              <a:t> Kvalitet prostora i opreme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250"/>
              </a:spcBef>
              <a:buClr>
                <a:srgbClr val="ff3399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cc"/>
                </a:solidFill>
                <a:latin typeface="Verdana"/>
              </a:rPr>
              <a:t>Kvalitet prostora i opreme se obezbeđuje kroz njihov adekvatan obim i strukturu.</a:t>
            </a:r>
            <a:r>
              <a:rPr b="0" lang="sr-Latn-C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41B6-0FCD-4CFC-81B3-42B9FD1341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20:06:40Z</dcterms:created>
  <dc:creator>Slavica Spasić</dc:creator>
  <dc:description/>
  <dc:language>en-US</dc:language>
  <cp:lastModifiedBy>Slavica Spasić</cp:lastModifiedBy>
  <dcterms:modified xsi:type="dcterms:W3CDTF">2010-10-24T15:47:11Z</dcterms:modified>
  <cp:revision>370</cp:revision>
  <dc:subject/>
  <dc:title>Akreditacija u visokom obrazovanju</dc:title>
</cp:coreProperties>
</file>