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EB34-10F7-4CCF-A946-CC65A8A03A7C}" type="slidenum">
              <a:rPr b="0" lang="hr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9F57-5A67-44C0-B0BB-D1B59E6C2228}" type="slidenum">
              <a:rPr b="0" lang="hr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B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D88-C6CB-44C9-9F89-ECD3B6E0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151-D4C2-4129-9B9F-26309EE6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F5D-15C7-4E60-AB7C-A745C82B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B2C-CE5B-45DA-A035-00154EC1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558-76B3-4692-B34A-2FEF28E1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C37-610A-46D7-99C0-E621C6E5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7A5-AC12-44D9-8CD9-C7661DCC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7CE-ABE5-42AE-A0BC-A474A7E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843-7147-4995-8229-665DA17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E2E-E3DB-4067-8758-48A86D02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A9F-0478-46ED-A290-003A1829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AD8-5628-4135-ABDF-48F74D98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91B8-30E7-4732-ABFA-C1AD445899DC}" type="slidenum">
              <a:rPr b="0" lang="hr-B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KAPK- Komisija za akreditaciju i proveru kvaliteta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CAQA- Commission for Accreditation and Quality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50288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tudent participation in accredit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ctober 25-28, 2010 , Pa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8143920" y="5886360"/>
            <a:ext cx="10000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5613480"/>
            <a:ext cx="2519280" cy="1244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762120" y="3886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a Vu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ić, CAQA Presi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I, VII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credi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6 faculties/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credi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65 study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 of w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28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j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lf-evaluation report of CAQ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pproaching ENQ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lf Assessment of 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trategy of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tandards and procedures for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ystem of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Quality of the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Quality of teach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Quality of scientific research / artist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Quality of teachers and a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Quality of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Quality of textbooks, literature, library and I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Managerial quality of the institution and quality of non-teach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Quality of premises an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Role of students in self assessment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Systematic monitoring and periodic quality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057400" y="12952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iodic activity, every thre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ternal Quality Assessment of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liance on the results of self-control of 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thod of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reas of external quality control (accreditation standards for institutions and progr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Results of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Organization and participants in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rocedure of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Periodic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Improvement of the procedure for external 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62120" y="1600200"/>
            <a:ext cx="321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371600" y="12952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iodic activity, initiated by CAQA, NC, ME,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ESG 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1: European standards and guidelines for internal quality assurance within higher education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      Policy and procedures for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      Approval, monitoring and periodic review of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      Assessment of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      Quality assurance of teaching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      Learning resources and stud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6     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7      Publ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ompatible with  CAQA standards for Self Assessment of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ESG 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2: European standards and guidelines for the external quality assurance of high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      Use of internal quality assurance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      Development of external quality assuranc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      Criteria for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      Processes fit f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     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      Follow-up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7      Periodic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8      System-wide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erbia external quality assurance is performed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accredi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periodic external quality assessment of institution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ESG Standards, Part 2, are compatible both with  CAQA standards for External Quality Assessment of Institutions and CAQA Standards for Accreditation of Institutions and Study Progr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ESG 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3: European standards and guidelines for external quality assurance agencies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      Use of external quality assurance procedures for high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      Officia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     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     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     Mission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6     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      External quality assurance criteria and processes used by the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.8      Accountability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ESG Standards, Part 3, are compatible with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andards and Procedures of CAQ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andards of CAQ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: Mission and objectiv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has its mandated mission in compliance with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 of higher edu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2: Status of the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is a national accreditation bod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Commission is indep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edin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pendently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itutions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table institutions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4: Decision making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cisions taken by the Commission must be rigorous, fai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equ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has credible associates and financial sources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6: Internal quality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has established methods of quality assurance and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ts enhance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External quality evalu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proceedings shall be periodically evalu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andards of CAQ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9. Improvement of quality assuranc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assurance process is being monitored, analyzed and impro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to the state of art in higher education syst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: International cooperation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perat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network of agencies and organization in the field of accreditatio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1: Procedures and tim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has the procedures and determined timing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redi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2: Accreditation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accredits study programs and higher education institu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3: Accreditation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defines the scope and format of the documents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redi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4: Expert te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ssion forms expert teams and appoints its memb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15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: Compatibility with the European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ission takes care of compliance of the procedures ad stand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the European standa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Plans for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QA is ENQA Associate si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 August 2010 CAQA has applied for Candidate 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next step is the Application for full membership- 2011/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Higher education in SER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68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accredited schools for higher professional education with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289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y programs for about 20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.000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85= 190 I level (180 ESPB) + 99 II level (60 ESP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12 accredited universities (7 state, 5 priv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104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accredited faculties with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1030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y programs for about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60.000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030 = 485 I level (180/240 ESPB) + 360 II level (120/60 ESPB) + 185 III level (180 ESP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In the accreditation process: 6 universities (1 state, 5 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12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faculties and </a:t>
            </a:r>
            <a:r>
              <a:rPr b="1" lang="en-US" sz="2800" spc="-1" strike="noStrike">
                <a:solidFill>
                  <a:srgbClr val="ff3300"/>
                </a:solidFill>
                <a:latin typeface="Trebuchet MS"/>
              </a:rPr>
              <a:t>200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study programs are under the “Act of w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14400" y="719640"/>
            <a:ext cx="67816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he Law on Higher Education (200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04920" y="17564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819520" y="4343400"/>
            <a:ext cx="5486400" cy="1008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COMMISSION FOR ACCREDITATION AND QUALITY ASSURANCE (CAQ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2006.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15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04920" y="4347000"/>
            <a:ext cx="21333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RY OF EDUCATION (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33520" y="2638800"/>
            <a:ext cx="327636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TIONAL COUNCIL OF HIGHER EDUCATION (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6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15 (21)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828800" y="6095880"/>
            <a:ext cx="716292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굴림"/>
              </a:rPr>
              <a:t>Institutions of highe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715000" y="1523880"/>
            <a:ext cx="32004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ference of Serbian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876920" y="2895480"/>
            <a:ext cx="38862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ference of professional schools princi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04920" y="2133720"/>
            <a:ext cx="0" cy="2286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2286000" y="21337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8686800" y="3657600"/>
            <a:ext cx="0" cy="2438280"/>
          </a:xfrm>
          <a:prstGeom prst="line">
            <a:avLst/>
          </a:prstGeom>
          <a:ln w="255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8991720" y="2362320"/>
            <a:ext cx="0" cy="3733560"/>
          </a:xfrm>
          <a:prstGeom prst="line">
            <a:avLst/>
          </a:prstGeom>
          <a:ln w="255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3962520" y="1752480"/>
            <a:ext cx="17524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5"/>
          <p:cNvSpPr/>
          <p:nvPr/>
        </p:nvSpPr>
        <p:spPr>
          <a:xfrm>
            <a:off x="1981080" y="121932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2057400" y="396252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4343400" y="22860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5410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2057400" y="52578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Srbija mali grb za word"/>
          <p:cNvPicPr/>
          <p:nvPr/>
        </p:nvPicPr>
        <p:blipFill>
          <a:blip r:embed="rId1"/>
          <a:stretch/>
        </p:blipFill>
        <p:spPr>
          <a:xfrm>
            <a:off x="0" y="0"/>
            <a:ext cx="723960" cy="1019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1"/>
          <p:cNvSpPr/>
          <p:nvPr/>
        </p:nvSpPr>
        <p:spPr>
          <a:xfrm>
            <a:off x="609480" y="59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 of Quality Assurance i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76960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3"/>
          <p:cNvSpPr/>
          <p:nvPr/>
        </p:nvSpPr>
        <p:spPr>
          <a:xfrm>
            <a:off x="7238880" y="1219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3809880" y="335268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4343400" y="228600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342900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 flipH="1">
            <a:off x="2437920" y="480060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765000"/>
            <a:ext cx="762012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ccording to the Law, the first activity of CAQ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as to define three sets of standard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ndard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lf-assessment of institu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ndards for external quality assessment of institu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ndards for accreditation of the hig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굴림"/>
              </a:rPr>
              <a:t>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education institutions and study progr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Approved by National Council of higher education in October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00320" y="101520"/>
            <a:ext cx="67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ystem of Quality Assurance in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85800" y="3733920"/>
            <a:ext cx="771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Law, all higher education institutions in the Repub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erbia and their study programs had t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o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accreditation proced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June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adline has been extended until June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credit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periodic activity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(5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lf-assess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external quality assessment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92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64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7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7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0" y="159840"/>
            <a:ext cx="4419720" cy="3064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REDITATION STANDARDS FOR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THE FIRST AND SECOND LEVEL OF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. Study program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. Study program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3. Objectives of the stud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4. Competences of the graduated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andard 5.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. Quality, modernity and internation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7. Admission of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8. Grading and advancement of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andard 9. Teaching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andard 10. Organization and materi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1. Quality control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2. Distance learning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-24840"/>
            <a:ext cx="4267080" cy="694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REDITATION STANDARDS FO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IGHER EDUCATION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. Basic goals and objectives of higher education instit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2. Plann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3. Organization and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ndard 4.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ndard 5. Science research and artistic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ndard 6. Teaching sta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7. Non-teaching staf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8.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ndard 9. Premises and equi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0. Library, textbooks and I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1. Sources of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2. Internal mechanisms for 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3.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0" y="3439080"/>
            <a:ext cx="4191120" cy="34354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REDITATION STANDARDS FOR STUDY PROGRAM OF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DOCTOR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pecial standard - Competence of the higher education institution to carry out the doctor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. Study program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. Study program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3. Study program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4. Competence of graduated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5.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. Quality, modernity and international compliance of stud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7. Admission of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8. Grading and advancement of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andard 9. Teaching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 Organizational and  materi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1.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1828800" y="3117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6095880" y="235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33520" y="762120"/>
            <a:ext cx="7543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9480" y="68580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 submits the accreditation request supported by the data and docu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1676520"/>
            <a:ext cx="2895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505320" y="1523880"/>
            <a:ext cx="47242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368080" y="12168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e Accreditation Proced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52280" y="1635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 forms sub-commission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505320" y="152352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, at the proposal by sub-commission, designates two reviewers for the institution and each study program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800 refer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876920" y="2588400"/>
            <a:ext cx="33526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viewers submit reports to the sub-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762120" y="3421800"/>
            <a:ext cx="723888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-commission makes a draft report and presents it to CA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33520" y="2590920"/>
            <a:ext cx="3124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-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the institution-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3056760" y="4036320"/>
            <a:ext cx="2881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 m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creditation decis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971800" y="4957200"/>
            <a:ext cx="3048120" cy="119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pts the  accreditation reques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s t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reditation Certific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6781680" y="4722120"/>
            <a:ext cx="19814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cred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616680" y="4917960"/>
            <a:ext cx="1779480" cy="1465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ives 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i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13716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>
            <a:off x="2895480" y="1974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1600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6095880" y="3270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>
            <a:off x="4419720" y="38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6019920" y="433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H="1">
            <a:off x="1447560" y="433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 flipH="1">
            <a:off x="228600" y="570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 flipV="1">
            <a:off x="228600" y="372708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228600" y="3727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1447920" y="433692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7315200" y="433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6705720" y="5936760"/>
            <a:ext cx="22096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ain to the National Council of Higher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>
            <a:off x="7696080" y="5403960"/>
            <a:ext cx="0" cy="5331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659640" y="56307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5"/>
          <p:cNvSpPr/>
          <p:nvPr/>
        </p:nvSpPr>
        <p:spPr>
          <a:xfrm flipH="1">
            <a:off x="228600" y="36576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6"/>
          <p:cNvSpPr/>
          <p:nvPr/>
        </p:nvSpPr>
        <p:spPr>
          <a:xfrm flipH="1">
            <a:off x="7238880" y="43434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3128040" y="6399720"/>
            <a:ext cx="3381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licenses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8"/>
          <p:cNvSpPr/>
          <p:nvPr/>
        </p:nvSpPr>
        <p:spPr>
          <a:xfrm>
            <a:off x="434340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5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28600" y="1909800"/>
            <a:ext cx="4038480" cy="1800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ation Certifi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68 high sch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32 stud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52280" y="4874760"/>
            <a:ext cx="54435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licen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724280" y="1828080"/>
            <a:ext cx="4191120" cy="2226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ed accred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 high sch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12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5 stud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19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438280" y="0"/>
            <a:ext cx="4572000" cy="1068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78 high school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87 study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5400000">
            <a:off x="2361960" y="1066680"/>
            <a:ext cx="609480" cy="762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 rot="5400000">
            <a:off x="6476400" y="990360"/>
            <a:ext cx="609840" cy="762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 rot="5400000">
            <a:off x="1638000" y="3771720"/>
            <a:ext cx="685800" cy="762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28600" y="152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80880" y="2519640"/>
            <a:ext cx="4038840" cy="3141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ation Certifi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stit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4 (I)+7 (II)+25 (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udy pr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56 (I)+114(II)+166(II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648320" y="2530800"/>
            <a:ext cx="4190760" cy="3080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 of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s: 5 (II)+22(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(I) + 40 (II)+171(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057400" y="228600"/>
            <a:ext cx="5791320" cy="22269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4 (I)+12 (II)+47(III) faculties/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72 (I) + 154 (II) + 337(II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ud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04920" y="228600"/>
            <a:ext cx="198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, II, III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04920" y="57913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corrections, rejection rate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80880" y="2519640"/>
            <a:ext cx="4038840" cy="3141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ation Certifi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stit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5 (IV)+0 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udy pr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14 (IV)+39(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495680" y="2530800"/>
            <a:ext cx="4343400" cy="3080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 of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s: 24 (IV)+9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2 (IV) + 148 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057400" y="228600"/>
            <a:ext cx="5791320" cy="22269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49 (IV)+27(V) faculties/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96 (IV) + 200 (V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ud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4920" y="228600"/>
            <a:ext cx="1600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, V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04920" y="57913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rrections, rejection rate: 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4:26:06Z</dcterms:created>
  <dc:creator>ajam</dc:creator>
  <dc:description/>
  <dc:language>en-US</dc:language>
  <cp:lastModifiedBy>Korisnik</cp:lastModifiedBy>
  <dcterms:modified xsi:type="dcterms:W3CDTF">2010-10-25T07:59:5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