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860-7118-4125-8892-C6B2CAC0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0FE-4340-4116-8875-42D9C6F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936-3894-4650-985D-4F847E38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481-A453-4F22-9A1F-D7ECC2FC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F7A-433C-4151-9E24-EDE018E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C8F-71E6-4804-9434-5A4BAB2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33D-2E4D-49A6-9797-3153890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717-F944-49C0-AD2D-7654C5C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39F-9692-4FD8-BEE5-D9C1836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1EF-BE71-4160-8912-3744B19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608-A21D-4C41-9A68-0BE3845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B89-C570-484E-BA56-0CFFD38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5EC-3066-4112-AF63-CF84D155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KOMISIJA ZA AKREDITACIJU I PROVERU KVALITETA</a:t>
            </a:r>
            <a:br>
              <a:rPr sz="2600"/>
            </a:br>
            <a:br>
              <a:rPr sz="2600"/>
            </a:br>
            <a:r>
              <a:rPr b="1" lang="sr-Latn-CS" sz="2600" spc="-1" strike="noStrike">
                <a:solidFill>
                  <a:srgbClr val="000000"/>
                </a:solidFill>
                <a:latin typeface="Arial Black"/>
              </a:rPr>
              <a:t>WUS-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ova</a:t>
            </a:r>
            <a:r>
              <a:rPr b="1" lang="sr-Latn-CS" sz="2600" spc="-1" strike="noStrike">
                <a:solidFill>
                  <a:srgbClr val="000000"/>
                </a:solidFill>
                <a:latin typeface="Arial Black"/>
              </a:rPr>
              <a:t> KONFERENCIJA ZA STUDENTE</a:t>
            </a:r>
            <a:br>
              <a:rPr sz="2600"/>
            </a:br>
            <a:r>
              <a:rPr b="1" lang="sr-Latn-CS" sz="2600" spc="-1" strike="noStrike">
                <a:solidFill>
                  <a:srgbClr val="000000"/>
                </a:solidFill>
                <a:latin typeface="Arial Black"/>
              </a:rPr>
              <a:t>Palić, oktobar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Te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POSETE VISOKOŠKOLSKIM USTANOV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U POSTU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PK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U AKREDIT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5805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lbertus Extra Bold"/>
              </a:rPr>
              <a:t>Prof. dr Ratko Nikol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781360"/>
            <a:ext cx="763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373720"/>
            <a:ext cx="763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Obra</a:t>
            </a:r>
            <a:r>
              <a:rPr b="0" lang="sr-Latn-CS" sz="3200" spc="-1" strike="noStrike">
                <a:solidFill>
                  <a:srgbClr val="000000"/>
                </a:solidFill>
                <a:latin typeface="Albertus Extra Bold"/>
              </a:rPr>
              <a:t>zac za popunu osnovnih podataka o Ustanovi i prisut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79252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У складу 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ПРАВИЛНИКОМ О СТАНДАРДИМА И ПОСТУПКУ ЗА АКРЕДИТАЦИЈУ ВИСОКОШКОЛ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УСТАНОВА И СТУДИЈСКИХ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("Службени гласник РС", број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Подкомисија под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ИЗВЕШТ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Medium"/>
              </a:rPr>
              <a:t>о посети високошколској устан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602136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00200" y="165240"/>
          <a:ext cx="7489800" cy="28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65240"/>
                    <a:ext cx="74898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4360" y="3124080"/>
          <a:ext cx="7559640" cy="197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124080"/>
                    <a:ext cx="755964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79320" y="5118120"/>
          <a:ext cx="7561440" cy="1425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320" y="5118120"/>
                    <a:ext cx="756144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442280" y="621504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0600" y="625320"/>
          <a:ext cx="8161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25320"/>
                    <a:ext cx="8161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549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lbertus Extra Bold"/>
              </a:rPr>
              <a:t>ИЗВЕШТАЈ О ПО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00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03280" y="1773360"/>
          <a:ext cx="6265800" cy="36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2658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332000" y="5445000"/>
          <a:ext cx="74628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445000"/>
                    <a:ext cx="7462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9819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1484280"/>
          <a:ext cx="8148600" cy="49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84280"/>
                    <a:ext cx="814860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68320" y="1801800"/>
          <a:ext cx="8280360" cy="50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801800"/>
                    <a:ext cx="82803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7760" y="2138400"/>
          <a:ext cx="775332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2138400"/>
                    <a:ext cx="77533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0880" y="1349280"/>
          <a:ext cx="780084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349280"/>
                    <a:ext cx="78008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557360"/>
          <a:ext cx="7648920" cy="48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64892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9720" y="1506600"/>
          <a:ext cx="7929360" cy="44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506600"/>
                    <a:ext cx="792936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lbertus Extra Bold"/>
              </a:rPr>
              <a:t>Ciljevi pos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8200" y="1700280"/>
          <a:ext cx="824220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700280"/>
                    <a:ext cx="824220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236000" y="621504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341360"/>
            <a:ext cx="770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9800" y="1347840"/>
          <a:ext cx="7731000" cy="49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347840"/>
                    <a:ext cx="77310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39800" y="1347840"/>
          <a:ext cx="7731000" cy="49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347840"/>
                    <a:ext cx="77310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-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557360"/>
          <a:ext cx="81648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1648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-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6093000"/>
            <a:ext cx="1162080" cy="642600"/>
          </a:xfrm>
          <a:prstGeom prst="rightArrow">
            <a:avLst>
              <a:gd name="adj1" fmla="val 50000"/>
              <a:gd name="adj2" fmla="val 4521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71640" y="1700280"/>
          <a:ext cx="7462800" cy="353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746280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-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602136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4800" y="1628640"/>
          <a:ext cx="8190000" cy="36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628640"/>
                    <a:ext cx="8190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-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95008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4800" y="1593720"/>
          <a:ext cx="819000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593720"/>
                    <a:ext cx="81900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08040" y="1125360"/>
          <a:ext cx="822168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125360"/>
                    <a:ext cx="822168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 –</a:t>
            </a: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простор и оп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4800" y="1271520"/>
          <a:ext cx="8229600" cy="51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271520"/>
                    <a:ext cx="822960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–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простор и оп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34920" y="1749600"/>
          <a:ext cx="7512120" cy="35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749600"/>
                    <a:ext cx="7512120" cy="35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– </a:t>
            </a:r>
            <a:r>
              <a:rPr b="1" i="1" lang="sr-CS" sz="2400" spc="-1" strike="noStrike">
                <a:solidFill>
                  <a:srgbClr val="000000"/>
                </a:solidFill>
                <a:latin typeface="Albertus Medium"/>
              </a:rPr>
              <a:t>простор и оп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84280" y="1747800"/>
          <a:ext cx="8217000" cy="51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747800"/>
                    <a:ext cx="82170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592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Nastavak</a:t>
            </a:r>
            <a:r>
              <a:rPr b="0" lang="sr-CS" sz="2800" spc="-1" strike="noStrike">
                <a:solidFill>
                  <a:srgbClr val="000000"/>
                </a:solidFill>
                <a:latin typeface="Albertus Extra Bold"/>
              </a:rPr>
              <a:t>:  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Ciljevi po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8200" y="1700280"/>
          <a:ext cx="824220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700280"/>
                    <a:ext cx="824220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236000" y="621504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341360"/>
            <a:ext cx="770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3200" y="1353960"/>
          <a:ext cx="7866000" cy="49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353960"/>
                    <a:ext cx="786600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4240" y="1628640"/>
          <a:ext cx="7000920" cy="34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628640"/>
                    <a:ext cx="7000920" cy="34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23880" y="1460520"/>
          <a:ext cx="82738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460520"/>
                    <a:ext cx="82738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 – </a:t>
            </a: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Унутрашњи механизам за  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lbertus Extra Bold"/>
              </a:rPr>
              <a:t>осигурање кв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660680"/>
          <a:ext cx="8148600" cy="45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60680"/>
                    <a:ext cx="81486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0560" y="1735200"/>
          <a:ext cx="7346880" cy="44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1735200"/>
                    <a:ext cx="7346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lbertus Extra Bold"/>
              </a:rPr>
              <a:t>Наставак извешт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8200" y="1843200"/>
          <a:ext cx="795960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843200"/>
                    <a:ext cx="79596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332000" y="2708280"/>
            <a:ext cx="614340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ХВАЛА НА ПАЖЊ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9640" y="1360440"/>
          <a:ext cx="824256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60440"/>
                    <a:ext cx="82425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236000" y="621504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341360"/>
            <a:ext cx="770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Nastavak:     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Ciljevi po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Nastavak:     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Ciljevi po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622520"/>
            <a:ext cx="770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5950080"/>
            <a:ext cx="1701720" cy="642960"/>
          </a:xfrm>
          <a:prstGeom prst="rightArrow">
            <a:avLst>
              <a:gd name="adj1" fmla="val 50000"/>
              <a:gd name="adj2" fmla="val 661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06064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87280" y="1916280"/>
          <a:ext cx="7313760" cy="42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73137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29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Nastavak:     </a:t>
            </a:r>
            <a:r>
              <a:rPr b="0" lang="sr-Latn-CS" sz="2800" spc="-1" strike="noStrike">
                <a:solidFill>
                  <a:srgbClr val="000000"/>
                </a:solidFill>
                <a:latin typeface="Albertus Extra Bold"/>
              </a:rPr>
              <a:t>Ciljevi po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622520"/>
            <a:ext cx="770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20500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vidom u dokumentaciju koju vode službe Ustanove, osvedočiti se da li Ustanova sprovodi kvalitetno postupak izbora nastavnika i saradnika i da li je ostala dokumentacija sređena i dostupna osoblju Ustanove i javnosti - pogledati sajt Ust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lbertus Extra Bold"/>
              </a:rPr>
              <a:t>Dokumenta i način formiranja podkomisije za pos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760" y="2491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Obrazac za evidenciju prisutnih tokom pos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Obrazac izveštaja o poseti visokoškolskoj ustan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Način formiranja podkomisije za pos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060640"/>
            <a:ext cx="74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lbertus Extra Bold"/>
              </a:rPr>
              <a:t>SADRŽAJ POSETE</a:t>
            </a:r>
            <a:r>
              <a:rPr b="0" lang="en-US" sz="4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azgovor sa rukovodstvom Ustan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azmatranje dopunske dokumentacije za akreditac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azgovor sa studentima Ustan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bilazak prostora Visokoškolske ustan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Uvid u dokumentaciju Ustan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341360"/>
            <a:ext cx="74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lbertus Extra Bold"/>
              </a:rPr>
              <a:t>IZVEŠTAJ O POSETI VISOKOŠKOLSKOJ USTAN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249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Odgovori i komentar na pitanja iz obraz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Zaključak o ispunjenosti uslova za akreditaciju sa predlog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bertus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lbertus Medium"/>
              </a:rPr>
              <a:t>Datum i pot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6093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lbertus Extra Bold"/>
              </a:rPr>
              <a:t>Izveštaj se arhivira u dokumentaciji za Ustano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8900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80536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0:32:44Z</dcterms:created>
  <dc:creator>Korisnik</dc:creator>
  <dc:description/>
  <dc:language>en-US</dc:language>
  <cp:lastModifiedBy>Milica Žujko</cp:lastModifiedBy>
  <dcterms:modified xsi:type="dcterms:W3CDTF">2010-11-30T09:54:02Z</dcterms:modified>
  <cp:revision>21</cp:revision>
  <dc:subject/>
  <dc:title>KOMISIJA ZA AKREDITACIJU I PROVERU KVALITETA  WUS-OVA KONFERENCIJA ZA STUDENTE Palić, oktobar 2010-10-14</dc:title>
</cp:coreProperties>
</file>