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0CC-A621-4868-A046-55B2BD0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B81-4129-4171-85B1-6335685E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AEB-0432-4992-A0EE-9597B552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5B9-1019-4860-9701-17F5AED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5AD-209B-47A7-88F9-A8D795F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5C0-CFE5-40F2-9235-5178F84A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4EB-CCE0-47EA-9405-8536DED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727-883D-4133-96F5-14EB9839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0BB-141B-41F3-9A18-0EFF129B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C1B-546F-45D4-9E89-479B175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DFD-94EC-4A13-B65A-EF250F9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403-C05F-461E-921B-D79FEE0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FF86-DB9D-4A6A-AC96-0059CE49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КРЕДИТАЦИЈА ВИСОКОШКОЛСКИХ УСТАНОВА И СТУДИЈСКИХ ПРОГРАМА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хничко технолошко по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 у стандар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акредитацију високошколских установа и студијских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86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дкомис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3933720"/>
            <a:ext cx="568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ф. Др Братислав Миловановић, предс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ф. Др Ратко Николић, ч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ф. Др Душан Теодоровић, ч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51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U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ова конференција за студ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лић, октобар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205000"/>
            <a:ext cx="813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300640"/>
            <a:ext cx="813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321300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557360"/>
            <a:ext cx="8280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2400" y="2162160"/>
          <a:ext cx="77058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2162160"/>
                    <a:ext cx="77058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9819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557360"/>
            <a:ext cx="828036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4800" y="2095560"/>
          <a:ext cx="77058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095560"/>
                    <a:ext cx="77058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341360"/>
            <a:ext cx="8280360" cy="472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2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5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урикул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11200" y="1413000"/>
          <a:ext cx="8013600" cy="46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413000"/>
                    <a:ext cx="80136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9819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557360"/>
            <a:ext cx="8280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5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11200" y="1781280"/>
          <a:ext cx="7812000" cy="45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781280"/>
                    <a:ext cx="7812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413000"/>
            <a:ext cx="828036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87400" y="1622520"/>
          <a:ext cx="7408800" cy="451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622520"/>
                    <a:ext cx="74088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79819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1557360"/>
            <a:ext cx="828036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87400" y="1619280"/>
          <a:ext cx="7408800" cy="462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619280"/>
                    <a:ext cx="7408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1125360"/>
            <a:ext cx="8280360" cy="489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10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ганизациона и материјал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341360"/>
            <a:ext cx="793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 извођење студијских програма морају бити обезбеђене одговарајуће наставно-научне базе, сопствене и у прив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пствене наставно-научне базе су: наставне лабораторије, научне и истраживачко-развојне лабораторије, технички центри и друге научне, истраживачко.развојне и иновационе јединице у саставу високошколске уста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75720" y="6251400"/>
            <a:ext cx="1233360" cy="642960"/>
          </a:xfrm>
          <a:prstGeom prst="rightArrow">
            <a:avLst>
              <a:gd name="adj1" fmla="val 50000"/>
              <a:gd name="adj2" fmla="val 4795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125360"/>
            <a:ext cx="828036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0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10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01720"/>
            <a:ext cx="8002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ставно-научне базе у привреди су: институти, центри изузетних вредности, организације за обављање иновационе активности, организације за пружање инфраструктурне подршке иновационој делатности и предузећа за производњу хране, репроматеријала, опреме и усл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75720" y="6093000"/>
            <a:ext cx="1233360" cy="642600"/>
          </a:xfrm>
          <a:prstGeom prst="rightArrow">
            <a:avLst>
              <a:gd name="adj1" fmla="val 50000"/>
              <a:gd name="adj2" fmla="val 4798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1414440"/>
            <a:ext cx="8280360" cy="43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10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39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ставне базе су опремљене потребном мерном, демонстрационом, рачунарском и информационо-комуникационом опремом за извођење наставних активности експерименталног, демонстрационог и симулационог карактера из свих предмета у оквиру група научноистраживачких и стручно-апликативних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6165720"/>
            <a:ext cx="1233720" cy="642960"/>
          </a:xfrm>
          <a:prstGeom prst="rightArrow">
            <a:avLst>
              <a:gd name="adj1" fmla="val 50000"/>
              <a:gd name="adj2" fmla="val 4797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1268280"/>
            <a:ext cx="828036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765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10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8200" y="1484280"/>
          <a:ext cx="7812000" cy="47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484280"/>
                    <a:ext cx="78120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хничко технолошко поље</a:t>
            </a:r>
            <a:br>
              <a:rPr sz="40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исак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50800" y="1832040"/>
          <a:ext cx="855360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832040"/>
                    <a:ext cx="85536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8360" y="155736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опуна стандарда за акредитацију студијских програма докторских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хничко технолошко по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06864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4000" y="2205000"/>
            <a:ext cx="828036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765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8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цењивање и напредовање студ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44600" y="2690640"/>
          <a:ext cx="5835600" cy="18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2690640"/>
                    <a:ext cx="583560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197000"/>
            <a:ext cx="8280360" cy="504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0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9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6800" y="1484280"/>
          <a:ext cx="7273800" cy="451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484280"/>
                    <a:ext cx="72738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812000" y="6165720"/>
            <a:ext cx="1233720" cy="642960"/>
          </a:xfrm>
          <a:prstGeom prst="rightArrow">
            <a:avLst>
              <a:gd name="adj1" fmla="val 50000"/>
              <a:gd name="adj2" fmla="val 4797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557360"/>
            <a:ext cx="82803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765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9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6800" y="2008080"/>
          <a:ext cx="7273800" cy="39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008080"/>
                    <a:ext cx="72738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332000" y="2708280"/>
            <a:ext cx="614340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ХВАЛА НА ПАЖЊ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924280"/>
            <a:ext cx="828036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тандарди за акредитацију високошколских устан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34136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148428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пуна у Техничко технолошк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24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6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2984400"/>
          <a:ext cx="7513560" cy="38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84400"/>
                    <a:ext cx="751356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2133720"/>
            <a:ext cx="828036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7650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7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настав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77800" y="2590920"/>
          <a:ext cx="8015400" cy="421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2590920"/>
                    <a:ext cx="801540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1197000"/>
            <a:ext cx="8280360" cy="49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9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стор и оп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30400" y="1198440"/>
          <a:ext cx="7839000" cy="49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198440"/>
                    <a:ext cx="783900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875720" y="6251400"/>
            <a:ext cx="1233360" cy="642960"/>
          </a:xfrm>
          <a:prstGeom prst="rightArrow">
            <a:avLst>
              <a:gd name="adj1" fmla="val 50000"/>
              <a:gd name="adj2" fmla="val 4795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197000"/>
            <a:ext cx="8280360" cy="49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9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58800" y="1378080"/>
          <a:ext cx="7839000" cy="50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378080"/>
                    <a:ext cx="783900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875720" y="6251400"/>
            <a:ext cx="1233360" cy="642960"/>
          </a:xfrm>
          <a:prstGeom prst="rightArrow">
            <a:avLst>
              <a:gd name="adj1" fmla="val 50000"/>
              <a:gd name="adj2" fmla="val 4795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0"/>
            <a:ext cx="1224000" cy="360"/>
          </a:xfrm>
          <a:prstGeom prst="rightArrow">
            <a:avLst>
              <a:gd name="adj1" fmla="val 0"/>
              <a:gd name="adj2" fmla="val 180798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125360"/>
            <a:ext cx="8424720" cy="558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9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268280"/>
          <a:ext cx="82422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422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опуна стандарда за акредитацију студијских програма првог и другог ниво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хничко технолошко по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06864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557360"/>
            <a:ext cx="828036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13372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76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петенције дипломираних студ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852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2400" y="1812960"/>
          <a:ext cx="763920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812960"/>
                    <a:ext cx="76392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981920" y="6215040"/>
            <a:ext cx="1162080" cy="642960"/>
          </a:xfrm>
          <a:prstGeom prst="rightArrow">
            <a:avLst>
              <a:gd name="adj1" fmla="val 50000"/>
              <a:gd name="adj2" fmla="val 451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9:34:56Z</dcterms:created>
  <dc:creator>Korisnik</dc:creator>
  <dc:description/>
  <dc:language>en-US</dc:language>
  <cp:lastModifiedBy>Korisnik</cp:lastModifiedBy>
  <dcterms:modified xsi:type="dcterms:W3CDTF">2010-10-20T10:03:31Z</dcterms:modified>
  <cp:revision>22</cp:revision>
  <dc:subject/>
  <dc:title>АКРЕДИТАЦИЈА ВИСОКОШКОЛСКИХ УСТАНОВА И СТУДИЈСКИХ ПРОГРАМА  Техничко технолошко поље</dc:title>
</cp:coreProperties>
</file>