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34E-59B9-4789-A884-161849F5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4EC-B0C2-4224-A681-944302C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4DB-B90C-445C-87FE-4AD1D95F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F57-C5CC-42B7-8AF8-5B0B17A0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DBA-8ADE-4805-BE23-3F32D621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D741-100D-445D-B53F-13D6FD1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A668-00AA-44A9-B734-447F08F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6326-E288-4A73-9133-48050F91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3BDD-372E-41A1-BFAA-2F38FED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D5D-4058-40B1-A330-52DA606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CF95-56AC-47B8-AC5D-DB4B899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FA3-1954-414B-8B81-6A042BB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F34-97E0-4041-A3FA-FA1FC7C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8ADA-D29A-4B02-8654-09FCAA1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6EB2-0B04-4677-AAD1-E0537F3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E733-9734-4690-9B8E-FA3DEDEF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89B-DA11-41DD-9DB0-9509BF8B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5D6-1362-4A3C-995C-F65B759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470-9B4E-4713-B9FC-20C49DC0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A5B-CC46-4B05-8689-3DA2803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3F0-A1AA-492C-BF3E-37C81C4A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FEA-32A3-4BC7-9F14-B126CA42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B0C-3670-4F5F-8955-31E353B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43A-B541-4C34-8D00-000866A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8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and Hu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B4CF-FE50-4FD9-8E92-F8D2FD32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B94C-F543-4552-964C-08ABE1B980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Accreditations: history and European developments</a:t>
            </a: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. Roland Humer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Consultant for Univers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A66B-D4CE-4F9E-B0AB-7F5AE102CD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ent role: on-site visi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lk to student representatives – not only the student parlia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k the building, talk to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international peers to understand the Serbian re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peers to understand the students’ re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essors feel examined – respect but objective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questions to check if self-evaluation report is accu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people about their opinions and sugg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D08-332D-46F3-8E8F-4E8CACE57B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ent role: peer report / follow-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student-relevant matters become part of the peer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concrete recommend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and hands-on is better than complicated and theore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54280" y="3832200"/>
            <a:ext cx="5770440" cy="2189160"/>
            <a:chOff x="1754280" y="3832200"/>
            <a:chExt cx="5770440" cy="2189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754280" y="3832200"/>
              <a:ext cx="577044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 txBox="1"/>
            <p:nvPr/>
          </p:nvSpPr>
          <p:spPr>
            <a:xfrm>
              <a:off x="1754280" y="3832200"/>
              <a:ext cx="5770440" cy="218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49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56B-B724-4CD1-B674-D86449D8F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cursus 1: Students’ persp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define quality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school gradu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ting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m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53844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32A-EF18-434F-90FE-C31D29B0FE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cursus 2: Bolog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aim: improve quality of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ed main featur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-centered education, shift from teaching to learning (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assurance system = learning organ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ability, skills and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tion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ogna often misunderstood in (South-East)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B0C-8FDF-4F2D-923A-5327531293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E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rk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da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. Roland Humer, 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and.humer@gmail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.bildungsprojekte.co.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082-7419-4D68-823B-C561BA3E15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accred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 of accred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reasons for accred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 of accreditation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accredi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ursus 1: Students’ persp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ursus 2: Bolog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35640" y="1484280"/>
            <a:ext cx="3205080" cy="4430880"/>
            <a:chOff x="5435640" y="1484280"/>
            <a:chExt cx="3205080" cy="443088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435640" y="1484280"/>
              <a:ext cx="3205080" cy="44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5435640" y="1484280"/>
              <a:ext cx="3205080" cy="44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FFA-28FA-435E-B0C2-2D1AAF1A5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accredit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reditation ag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agency - volunt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agency  - compul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of accred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unit (faculty, department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ndle of study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16480" y="1773360"/>
            <a:ext cx="337032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DCD-F9E8-47A6-A278-3A4CA8828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of accreditation (1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28640"/>
          <a:ext cx="8229600" cy="4421160"/>
        </p:xfrm>
        <a:graphic>
          <a:graphicData uri="http://schemas.openxmlformats.org/drawingml/2006/table">
            <a:tbl>
              <a:tblPr/>
              <a:tblGrid>
                <a:gridCol w="3251160"/>
                <a:gridCol w="497844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number of universit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was obvio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-controlled system in Euro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guaranteed by sta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 university system in the 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accreditat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E83-45A8-4BAF-A2EF-A9AEB655D1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of accreditation (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147160" cy="4421160"/>
        </p:xfrm>
        <a:graphic>
          <a:graphicData uri="http://schemas.openxmlformats.org/drawingml/2006/table">
            <a:tbl>
              <a:tblPr/>
              <a:tblGrid>
                <a:gridCol w="3178080"/>
                <a:gridCol w="496908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ifying higher education sector, autonomous HE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of state accreditat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ization of study progra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ment of EQ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eaucra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program accreditation -&gt; institutional accreditation -&gt; certification of QA syste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5CB-A911-4F16-9880-50FFCAFAFD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in reasons for accredi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3498840" cy="3925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ability to don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DA1-8525-4761-A50E-19396B98F6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rganization of accreditation agen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state agency (B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system with licensed private accreditation agencies (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agencies for sectors in higher education (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agency for institutions beyond higher education (D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-border agency (NL/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08720" y="1700280"/>
            <a:ext cx="3178080" cy="3709800"/>
            <a:chOff x="5508720" y="1700280"/>
            <a:chExt cx="3178080" cy="3709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508720" y="1700280"/>
              <a:ext cx="317808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5508720" y="1700280"/>
              <a:ext cx="3178080" cy="37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70D-5834-42C4-BF09-C3A7A6303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ical accreditation proced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f-evaluat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site vis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review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on accreditation (often: bo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 of accreditation (often: minist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51640" y="1924200"/>
            <a:ext cx="25621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65F-3A47-48CE-97F6-65FBF080D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ent role: self-eval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the report carefu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rify questions and require additional material or summaries in adv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n’t understand something it’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i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ista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and question buzz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ean standard, state-of-the-art, comply with Bolog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plausibility and consistency – prepare questions for on-site visit (“Is this true?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quality (“Is this good?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if student-relevant recommendations from previous peer-reviews were re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0FB-B922-4F51-AAEF-5C37B838E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7:44:13Z</dcterms:created>
  <dc:creator>Roland Humer</dc:creator>
  <dc:description/>
  <dc:language>en-US</dc:language>
  <cp:lastModifiedBy>Roland Humer</cp:lastModifiedBy>
  <dcterms:modified xsi:type="dcterms:W3CDTF">2010-10-18T11:36:05Z</dcterms:modified>
  <cp:revision>27</cp:revision>
  <dc:subject/>
  <dc:title>Accreditations: history and European developments </dc:title>
</cp:coreProperties>
</file>