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323D3-5456-4BF6-98B9-A3B584945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2740-8A08-476F-98BB-B6618955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10379-9BAA-47A3-937F-E8EE1EAA8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264FD-E2A6-46FE-BD03-5046A6A92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6FDD5-3C2E-4A0E-904C-2A5A4C58C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EC0EA-F94D-4BD1-A237-37BFE2109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6B1CF-D146-4B93-A85F-FEFF1D720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A10D1-D4F2-4F8C-906E-B3A13C47D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9A77F-129D-4AD4-9DD1-D959D1962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ABD8B-C02A-47FF-8399-72AF37587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10187-6C37-49C5-97D1-C584E087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BDF83-97DC-4E70-8948-C2BB876A8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F45C5-6C87-4E45-9FE4-4B200D81A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9BAF2-159F-4178-A458-E846950A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8DE66-A831-4EE1-B6DC-1C20456B1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DCB76-2B9F-4055-B42A-47241CF71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208D8-F2E2-426A-9812-5A1B3BAFE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BD81-32CB-4D71-B95B-AE4BE39FC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D13C-7418-4425-B33B-408ADC735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BBAB-643E-426C-846E-47A05D6E9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CC46-E31D-4E23-BF94-FD881E573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48E2-C615-4897-BBB6-44940A09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7287-EC8F-441B-B210-508A9966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1868-4576-44E4-B420-B687A25F2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6FAD-45EE-41BB-87E0-4AADBDEBCE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2B6A-3211-4B52-BE08-2D890A1DBF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7628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DEVELOPING GENDER SENSITIVE CURRICULA</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2708280"/>
            <a:ext cx="6400800" cy="2930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800" spc="-1" strike="noStrike">
                <a:solidFill>
                  <a:srgbClr val="ffffff"/>
                </a:solidFill>
                <a:latin typeface="Arial"/>
              </a:rPr>
              <a:t>Dasa Duhacek</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Begrade Women</a:t>
            </a:r>
            <a:r>
              <a:rPr b="0" lang="sl-SI" sz="2800" spc="-1" strike="noStrike" baseline="30000">
                <a:solidFill>
                  <a:srgbClr val="ffffff"/>
                </a:solidFill>
                <a:latin typeface="Arial"/>
              </a:rPr>
              <a:t>,</a:t>
            </a:r>
            <a:r>
              <a:rPr b="0" lang="sl-SI" sz="2800" spc="-1" strike="noStrike">
                <a:solidFill>
                  <a:srgbClr val="ffffff"/>
                </a:solidFill>
                <a:latin typeface="Arial"/>
              </a:rPr>
              <a:t>s Studies and Gender Research Center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and </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Faculty of Political Sciences, Belgrade (Center for Gender and Poli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ff"/>
                </a:solidFill>
                <a:latin typeface="Arial"/>
              </a:rPr>
              <a:t>W</a:t>
            </a:r>
            <a:r>
              <a:rPr b="0" lang="en-US" sz="3200" spc="-1" strike="noStrike">
                <a:solidFill>
                  <a:srgbClr val="ffffff"/>
                </a:solidFill>
                <a:latin typeface="Arial"/>
              </a:rPr>
              <a:t>omen's/Gender Studies are an educational, multi/interdisciplinary program dealing with issues of gender/sex/identities/human right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eveloping sensitivity and tolerance to differences including gender, rase, class, nationality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7"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part of university curricula in  USA and UK since the early 1970ti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candinavian and other West European countries gender studies/women,s studies were introduced into university curricula in the early 1980ties, both as MA and PhD programs (Lund University, University of Toulouse, Torino, Utrecht, Forence,Goethe University, etc).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st European countries gender studies programs were introduced during the 1990tie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9"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S/WS include a large number of topics, both in social sciences and humanities, but also in natural sciences and a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 theoretical and methodological approach they are aimed to excluding gender and other stereotypes, synthesize research from different scientific areas, support  students creativity and critical thinking, thus modernizing university curricula on the whole and supporting social changes towards developing civil socie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orming university curricula in Serbia demand both democratization and developing gender sensitivity at all levels of education but especially within university curricula (graduate, MA and PhD studies), aimed to building a democratic, untidiscriminatory high education system.</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bia today:</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Novi Sad (MA,PhD)</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Belgrade (Faculty of Political Sciences –MA,PhD program, Faculty of Philosophy – elective cou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 program Core Courses</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Idea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mporary theories of gender identie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feminist methodology and epistemolog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ective courses</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in transition: A View from the Balkan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body, identity</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hropology of sex/gender</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ship anthropology</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aeology of gender</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dressing, identity/differences</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and genre</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st approach to theology</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and gender</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sues of responsi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ive courses</a:t>
            </a:r>
            <a:br>
              <a:rPr sz="4000"/>
            </a:br>
            <a:endParaRPr b="0" lang="en-US" sz="40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Science, technology and environm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on of women in visual art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human's rights and violence against women</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hood in literatur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st approach to family and motherhood</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inist, politics and theory</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in social perspective</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Theories of m</a:t>
            </a:r>
            <a:r>
              <a:rPr b="0" lang="en-US" sz="2800" spc="-1" strike="noStrike">
                <a:solidFill>
                  <a:srgbClr val="ffffff"/>
                </a:solidFill>
                <a:latin typeface="Arial"/>
              </a:rPr>
              <a:t>a</a:t>
            </a:r>
            <a:r>
              <a:rPr b="0" lang="sl-SI" sz="2800" spc="-1" strike="noStrike">
                <a:solidFill>
                  <a:srgbClr val="ffffff"/>
                </a:solidFill>
                <a:latin typeface="Arial"/>
              </a:rPr>
              <a:t>sculinity</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a:rPr>
              <a:t>Gender and cultur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8:20:51Z</dcterms:created>
  <dc:creator>Korisnik</dc:creator>
  <dc:description/>
  <dc:language>en-US</dc:language>
  <cp:lastModifiedBy> </cp:lastModifiedBy>
  <dcterms:modified xsi:type="dcterms:W3CDTF">2009-03-12T10:26:32Z</dcterms:modified>
  <cp:revision>19</cp:revision>
  <dc:subject/>
  <dc:title>DEVELOPING GENDER SENSITIVE CURRICULA</dc:title>
</cp:coreProperties>
</file>