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99FF-B7EF-4B84-B60D-6851830A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093-A19C-44AB-821B-2E7E905A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2F12-21A8-4535-8D0E-2385A363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0DE-75AC-406C-B049-8F79D0C5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C73-8767-44CA-B2B1-D5B65CB0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71BA-BA96-4C42-9726-21B800F5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016-AD44-4660-85D2-055A991C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0E5-910A-4CC8-9358-71759956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55E-D263-4B9F-BA50-46779BA0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6CF-3A64-4654-B808-1590A8DC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186-3743-42D1-B7D3-B75D5BEE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E614-B2EF-4413-8855-351046D0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8919-083B-4A5E-A92A-B55573467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 STUDIES DEVELOPMENT PROGRAM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SEM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852640"/>
            <a:ext cx="6400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SITUATION AT THE SERBIAN LABOUR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s on the LM and significance of the employability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dranka Di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aonik, 16 – 18 March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LOYMENT BY  SPHERE OF ECONOMIC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anent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55640" y="1700280"/>
          <a:ext cx="7632720" cy="4788000"/>
        </p:xfrm>
        <a:graphic>
          <a:graphicData uri="http://schemas.openxmlformats.org/drawingml/2006/table">
            <a:tbl>
              <a:tblPr/>
              <a:tblGrid>
                <a:gridCol w="3240000"/>
                <a:gridCol w="2232000"/>
                <a:gridCol w="216072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t of ac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I/1+VII/2+V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I/1+VII/2+V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42+64+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67+56+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67+41+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05+41+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18+27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98+28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 est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02+77+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86+83+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administ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29+87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31+89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58+358+4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1+51+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and social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43+447+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0+400+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LOYMENT BY  SPHERE OF ECONOMIC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403848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mporary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11280" y="1125360"/>
          <a:ext cx="7913520" cy="5475600"/>
        </p:xfrm>
        <a:graphic>
          <a:graphicData uri="http://schemas.openxmlformats.org/drawingml/2006/table">
            <a:tbl>
              <a:tblPr/>
              <a:tblGrid>
                <a:gridCol w="3313080"/>
                <a:gridCol w="2232000"/>
                <a:gridCol w="236844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t of ac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I/1+VII/2+V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I/1+VII/2+V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63+44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 constr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49+6+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90+42+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7+11+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 e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23+70+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adminis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23+107+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022+987+1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and socia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87+379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44+15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RE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know the span of students` employ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 between education institutions and employers should have mutual 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 should be the result of th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ciences, development of technology and employers` n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have to take in consideration and development of skills and compe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should define programme and outcomes of students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should develop follow-up of graduated students and have insight in their employ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-production of graduated students is equally bad as under produc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OUR MARKET AM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and economic 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ined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direct and Greenfield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system do not support economic trends and employers`s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MPLOYMENT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unemployment rate – 14% (L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higher by administrative data (18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ghest rate in Europe of unemployed youth – 34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7430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tion levels of  unemployed 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1700280"/>
          <a:ext cx="8207280" cy="4616280"/>
        </p:xfrm>
        <a:graphic>
          <a:graphicData uri="http://schemas.openxmlformats.org/drawingml/2006/table">
            <a:tbl>
              <a:tblPr/>
              <a:tblGrid>
                <a:gridCol w="4940280"/>
                <a:gridCol w="1565280"/>
                <a:gridCol w="1701720"/>
              </a:tblGrid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lsory - primary 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+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ary 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+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sed craft wor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1+VI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y leve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I1+VII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% +0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 of the supply side – unemployed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60% are unemployed for long term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% are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working experience or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have skills and competences demanded on 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rate of workers aged over 50 (redundant work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 of the demand side – employers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companies (94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ompanies with up to 50 employees (9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cure LM make them eager to prefer short-term employment – 420.407 vs. 260.9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 of the demand side – employers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% of all registered demand for workers   - 661.545 - originate from small compan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a 5%  - medium and big size ones, each – 36.570 vs. 35.3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percentages are in 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90% :5% : 5% - 613.597 – 33.983 – 33.7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 of the demand side – employers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8: issued demands for 284.263 permanent workers  -  employed 260.902, out of which 15% with university education (42.3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11% of working posts were for employees without working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s are focused on competent workers with experiences, good skills and well developed soft compe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5094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EMPLOYMENT OF THE HIGH EDUCATED PERSONS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55640" y="1700280"/>
          <a:ext cx="7488360" cy="4249800"/>
        </p:xfrm>
        <a:graphic>
          <a:graphicData uri="http://schemas.openxmlformats.org/drawingml/2006/table">
            <a:tbl>
              <a:tblPr/>
              <a:tblGrid>
                <a:gridCol w="3024360"/>
                <a:gridCol w="2160360"/>
                <a:gridCol w="2303640"/>
              </a:tblGrid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I/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5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8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I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0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4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6:12:53Z</dcterms:created>
  <dc:creator>Jadranka</dc:creator>
  <dc:description/>
  <dc:language>en-US</dc:language>
  <cp:lastModifiedBy>Jadranka</cp:lastModifiedBy>
  <dcterms:modified xsi:type="dcterms:W3CDTF">2009-03-12T12:52:57Z</dcterms:modified>
  <cp:revision>4</cp:revision>
  <dc:subject/>
  <dc:title>MASTER STUDIES DEVELOPMENT PROGRAMME TRAINING SEMINAR</dc:title>
</cp:coreProperties>
</file>