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FE0-927C-4944-B3AA-C624963B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B8D-6A75-49A2-8CE6-1DA00A8F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9FD-2478-403E-903E-A7A94432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1A2-0D84-427F-9DE0-E626A31E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CD5-23BD-4326-BDC1-B1A67B49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A05-5A3F-4D13-A6B0-28A33A12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C5B-0F9D-489D-97FE-A4B66BFC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2E1-56B9-44D4-A579-31FF5DD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570-D464-4DB2-A39C-A5A66201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006-64FB-435D-868A-F5E2B6AF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624-558D-4656-BB9F-812C15D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ABD-6E2B-4DFD-9843-182254F6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4B40-C21D-4F00-99D5-546FD40EB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p.edu.rs/" TargetMode="External"/><Relationship Id="rId3" Type="http://schemas.openxmlformats.org/officeDocument/2006/relationships/hyperlink" Target="mailto:mvukasovic@cep.edu.rs" TargetMode="External"/><Relationship Id="rId4" Type="http://schemas.openxmlformats.org/officeDocument/2006/relationships/hyperlink" Target="mailto:npantic@cep.edu.rs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Narrow"/>
              </a:rPr>
              <a:t>MSDP seminar, WUS A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Narrow"/>
              </a:rPr>
              <a:t>Kopaonik, 15-18 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990000"/>
                </a:solidFill>
                <a:latin typeface="Arial Narrow"/>
              </a:rPr>
              <a:t>Martina Vukasovi</a:t>
            </a:r>
            <a:r>
              <a:rPr b="0" lang="sr-Latn-CS" sz="2400" spc="-1" strike="noStrike">
                <a:solidFill>
                  <a:srgbClr val="990000"/>
                </a:solidFill>
                <a:latin typeface="Arial Narrow"/>
              </a:rPr>
              <a:t>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00"/>
                </a:solidFill>
                <a:latin typeface="Arial Narrow"/>
              </a:rPr>
              <a:t>Centre for Educ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Tuning Education Structures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to the Needs of the Labour Market: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Social Sciences and Teache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0000"/>
                </a:solidFill>
                <a:latin typeface="Arial"/>
              </a:rPr>
              <a:t>CEP</a:t>
            </a:r>
            <a:r>
              <a:rPr b="1" lang="en-GB" sz="4400" spc="-1" strike="noStrike">
                <a:solidFill>
                  <a:srgbClr val="990000"/>
                </a:solidFill>
                <a:latin typeface="Arial"/>
              </a:rPr>
              <a:t>’s Regional Tun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hievement of compet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you feel that the education you rece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t the University has been adequ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much 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3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ittle 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of 62% answered “little” or “very litt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at these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ic compe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0000"/>
                </a:solidFill>
                <a:latin typeface="Arial"/>
              </a:rPr>
              <a:t>CEP</a:t>
            </a:r>
            <a:r>
              <a:rPr b="1" lang="en-GB" sz="4400" spc="-1" strike="noStrike">
                <a:solidFill>
                  <a:srgbClr val="990000"/>
                </a:solidFill>
                <a:latin typeface="Arial"/>
              </a:rPr>
              <a:t>’s Teacher Tu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 37 competences, grouped in 4 categories, 1-5 ranking (5 most impor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 evaluation and professional development: 4.51 (4.5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knowledge and teaching 4.54 (4.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ibution to development of education 4.04 (3.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s and child rearing 4.53 (4.5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ences related to didactics, pedagogy, methodology of teaching ranked quite high, although not very present in analysed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Arial"/>
              </a:rPr>
              <a:t>Questions for further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lose to the actual needs of the labour market should the curriculum 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achieve greater fulfilment of relevant compet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relationship between higher education and earlier stages in education in terms of generic sk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relationship between bachelor and master level programmes in terms of both generic and subject specific compet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Arial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Further information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cep.edu.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vukasovic@cep.edu.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pantic@cep.edu.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0000"/>
                </a:solidFill>
                <a:latin typeface="Arial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ome observations about the labour market and employability of gradu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ad hoc analysis (sociology, psych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E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’s projects on tuning education struc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onal general t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ning teacher training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Arial"/>
              </a:rPr>
              <a:t>Labour market and employ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ability: a set of characteristics of an individual (knowledge, skills, values, personality characteristics) that increase his/her chances to gai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i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ences v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itable employ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fiel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what rank/lev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Arial"/>
              </a:rPr>
              <a:t>Employability of graduat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employment statistic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or employ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lative to the rest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lative to the rest of higher education gradu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are fields defin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ch time fra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are the key characteristics of the labour mark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me European studies show that higher education graduates are relatively more employable than persons with lower qua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Arial"/>
              </a:rPr>
              <a:t>Employability of graduat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bian (un)employment statistics shows that there are almost equal numbers of graduates looking for the job as there are job offers which require higher education qua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to explain the mismat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o high expectations from emplo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ck of competences relevant for the job in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ssible solution: graduate surv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and where they are employ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are their tas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uch their higher education is useful for them on their jo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00"/>
                </a:solidFill>
                <a:latin typeface="Arial"/>
              </a:rPr>
              <a:t>Ad hoc survey:</a:t>
            </a:r>
            <a:r>
              <a:rPr b="1" lang="sr-Latn-C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990000"/>
                </a:solidFill>
                <a:latin typeface="Arial"/>
              </a:rPr>
              <a:t>psyc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lgrade, Novi Sad, N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 in 2005 started discussions about core competences for psych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mall scale, ad hoc study of where their students gain 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Resul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ome find employment in marketing/market research agencies: developing questionnaires or interview instruments, analy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ome are quite active as trainers for NGOs or companies, or work in HR sections of large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 of the group: The set of skills needed for such tasks can be achieved 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Bachelor studies for 3 years – LM relevant qua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aster level, 5 years – further courses and specialisations (e.g. Clinical psych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00"/>
                </a:solidFill>
                <a:latin typeface="Arial"/>
              </a:rPr>
              <a:t>Ad hoc survey:</a:t>
            </a:r>
            <a:r>
              <a:rPr b="1" lang="sr-Latn-CS" sz="4400" spc="-1" strike="noStrike">
                <a:solidFill>
                  <a:srgbClr val="990000"/>
                </a:solidFill>
                <a:latin typeface="Arial"/>
              </a:rPr>
              <a:t> soc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gra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group did a small scale study about employment prospects of their gradu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was quite surprised about the results. I did not see such positions to be related to sociology”, teacher (doc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ult: marketing agencies, some governmental structures, 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t clear to what extent this was transferred into the new curriculum for both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0000"/>
                </a:solidFill>
                <a:latin typeface="Arial"/>
              </a:rPr>
              <a:t>CEP</a:t>
            </a:r>
            <a:r>
              <a:rPr b="1" lang="en-GB" sz="4400" spc="-1" strike="noStrike">
                <a:solidFill>
                  <a:srgbClr val="990000"/>
                </a:solidFill>
                <a:latin typeface="Arial"/>
              </a:rPr>
              <a:t>’s Regional Tun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rvey of teachers, graduates and emplo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ke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pet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students: to what extent were these competences developed in their higher education program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or response from emplo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0000"/>
                </a:solidFill>
                <a:latin typeface="Arial"/>
              </a:rPr>
              <a:t>CEP</a:t>
            </a:r>
            <a:r>
              <a:rPr b="1" lang="en-GB" sz="4400" spc="-1" strike="noStrike">
                <a:solidFill>
                  <a:srgbClr val="990000"/>
                </a:solidFill>
                <a:latin typeface="Arial"/>
              </a:rPr>
              <a:t>’s Regional Tun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557360"/>
          <a:ext cx="7989840" cy="4749840"/>
        </p:xfrm>
        <a:graphic>
          <a:graphicData uri="http://schemas.openxmlformats.org/drawingml/2006/table">
            <a:tbl>
              <a:tblPr/>
              <a:tblGrid>
                <a:gridCol w="2157480"/>
                <a:gridCol w="2016000"/>
                <a:gridCol w="2017800"/>
                <a:gridCol w="179856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 (graduates and employ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ying knowledge in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and group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ying knowledge in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and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and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ying knowledge in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and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Capacity to lea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eneral 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knowledge of a foreign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work autonomous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sol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identifying and sol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design and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ski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ying knowledge in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knowledge of a foreign language/ability to work autonomous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knowledge of the prof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-ma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Adapting to new situations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Concern for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6:12:19Z</dcterms:created>
  <dc:creator>mvukasovic</dc:creator>
  <dc:description/>
  <dc:language>en-US</dc:language>
  <cp:lastModifiedBy>Martina </cp:lastModifiedBy>
  <dcterms:modified xsi:type="dcterms:W3CDTF">2009-03-12T21:26:39Z</dcterms:modified>
  <cp:revision>7</cp:revision>
  <dc:subject/>
  <dc:title>Tuning Education Structures  to the Needs of the Labour Market:  Social Sciences and Teacher Training</dc:title>
</cp:coreProperties>
</file>