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E4E69-E8B5-4578-AA2F-4A5393DD9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EF48C-7D4A-46F1-A2D6-606F7C4A4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F58E6-229F-44F1-8A00-077DEBED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EF710-2C5F-4296-8AF7-17166B416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DD801-BE92-400C-B31F-0AE94B556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39C0E-8952-420F-A329-3429C4655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C7649-4BDE-45CB-952E-658C7281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DEFE6-491F-4904-8635-78569CB8C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974B2-8004-4977-B5C1-9185394EC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426A0-4B61-4DAF-AADD-B5A56821C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C93F-8893-4726-9AE1-AA1DF78EC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00DE-6921-4AA6-A0BC-F10C0154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88E8-838D-409F-9E43-9D098B2EA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785C9-2130-4603-B009-CD045612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9B7C2-5A07-40D5-A43B-CA0333CBC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D96B8-D839-483F-9764-B09F49D9B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1BA86-1719-4D48-82FF-1235EB91B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435BB-4833-45EC-9A12-2AD9F777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C25B9-56F2-4B46-A4D1-2FBD0E18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DAE35-ECA3-40A9-9D57-AB602588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6146-5D28-439B-AA6A-DACDA730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5130-8F95-482A-8751-DA22E49C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83C0-7FE9-4E61-972B-B4E4BF8C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2EDE-CB62-45FE-874B-E3909E565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F541-11FE-42CF-8A7D-F4CC5266F25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20EC-D7CB-4623-8648-01A9992F9FF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ROUP WORK SESSION 3</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IVERSITY OF NOVI SAD</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ster in Regional Policies and Development</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ATE UNIVERSITY OF NOVI PAZAR</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ster in Management in Higher Educ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71640" y="1628640"/>
            <a:ext cx="7788240" cy="41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ntion or inscription of the work skills – such as ability to work: reports / give present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ook at the coherence of the programme </a:t>
            </a:r>
            <a:endParaRPr b="0" lang="en-US" sz="2900" spc="-1" strike="noStrike">
              <a:solidFill>
                <a:srgbClr val="000000"/>
              </a:solidFill>
              <a:latin typeface="Verdana"/>
            </a:endParaRPr>
          </a:p>
        </p:txBody>
      </p:sp>
      <p:sp>
        <p:nvSpPr>
          <p:cNvPr id="106" name=""/>
          <p:cNvSpPr/>
          <p:nvPr/>
        </p:nvSpPr>
        <p:spPr>
          <a:xfrm>
            <a:off x="755640" y="333360"/>
            <a:ext cx="76788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tegration of such concepts as gender sensitivity, identity, language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333000"/>
            <a:ext cx="8291520" cy="13669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E-learning</a:t>
            </a:r>
            <a:endParaRPr b="0" lang="en-US" sz="2900" spc="-1" strike="noStrike">
              <a:solidFill>
                <a:srgbClr val="000000"/>
              </a:solidFill>
              <a:latin typeface="Verdana"/>
            </a:endParaRPr>
          </a:p>
        </p:txBody>
      </p:sp>
      <p:sp>
        <p:nvSpPr>
          <p:cNvPr id="108" name=""/>
          <p:cNvSpPr/>
          <p:nvPr/>
        </p:nvSpPr>
        <p:spPr>
          <a:xfrm>
            <a:off x="900000" y="2060640"/>
            <a:ext cx="77043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ich elements of the programme could be delivered through e-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280" y="260280"/>
            <a:ext cx="8291520" cy="93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Short lines:</a:t>
            </a:r>
            <a:endParaRPr b="0" lang="en-US" sz="2900" spc="-1" strike="noStrike">
              <a:solidFill>
                <a:srgbClr val="000000"/>
              </a:solidFill>
              <a:latin typeface="Verdana"/>
            </a:endParaRPr>
          </a:p>
        </p:txBody>
      </p:sp>
      <p:sp>
        <p:nvSpPr>
          <p:cNvPr id="110" name=""/>
          <p:cNvSpPr/>
          <p:nvPr/>
        </p:nvSpPr>
        <p:spPr>
          <a:xfrm>
            <a:off x="1258920" y="220500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ich elements of the programs could be run as short course for those in workplace (as professional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95280" y="333000"/>
            <a:ext cx="8291520" cy="93492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Open time</a:t>
            </a:r>
            <a:endParaRPr b="0" lang="en-US" sz="2900" spc="-1" strike="noStrike">
              <a:solidFill>
                <a:srgbClr val="000000"/>
              </a:solidFill>
              <a:latin typeface="Verdan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
          <p:cNvSpPr/>
          <p:nvPr/>
        </p:nvSpPr>
        <p:spPr>
          <a:xfrm>
            <a:off x="1187280" y="2133720"/>
            <a:ext cx="7417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t deals with other issue raised in i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blems of accredi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orkshop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UNS 8-9.jun,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NP 22-23.m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ntry requirements (SUNP):</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group and admitions  (SUN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ark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42560" y="259920"/>
            <a:ext cx="7489800" cy="52563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Assessment – does assessment relate to learning outcom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301680"/>
            <a:ext cx="7567560" cy="103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Another look at links with the labor market another look at the list</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Thinking about how this will be presented at the plenary session</a:t>
            </a:r>
            <a:endParaRPr b="0" lang="en-US" sz="3200" spc="-1" strike="noStrike">
              <a:solidFill>
                <a:srgbClr val="006666"/>
              </a:solidFill>
              <a:latin typeface="Arial"/>
            </a:endParaRPr>
          </a:p>
        </p:txBody>
      </p:sp>
      <p:sp>
        <p:nvSpPr>
          <p:cNvPr id="116" name=""/>
          <p:cNvSpPr/>
          <p:nvPr/>
        </p:nvSpPr>
        <p:spPr>
          <a:xfrm>
            <a:off x="1403280" y="2133720"/>
            <a:ext cx="705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332000" y="198900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of the this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next?</a:t>
            </a:r>
            <a:endParaRPr b="0" lang="en-US" sz="3600" spc="-1" strike="noStrike">
              <a:solidFill>
                <a:srgbClr val="006666"/>
              </a:solidFill>
              <a:latin typeface="Arial"/>
            </a:endParaRPr>
          </a:p>
        </p:txBody>
      </p:sp>
      <p:sp>
        <p:nvSpPr>
          <p:cNvPr id="119" name="PlaceHolder 2"/>
          <p:cNvSpPr>
            <a:spLocks noGrp="1"/>
          </p:cNvSpPr>
          <p:nvPr>
            <p:ph/>
          </p:nvPr>
        </p:nvSpPr>
        <p:spPr>
          <a:xfrm>
            <a:off x="1116000" y="1844640"/>
            <a:ext cx="7313760" cy="41148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analyze all programs and:</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to communicate continuously with labor market about their deman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to make bather relationship between learning outcomes of a course and proposed teaching and assessment metho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to work on the coherence and complementarities between different courses,</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1916280"/>
            <a:ext cx="8209080" cy="424800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93" name=""/>
          <p:cNvSpPr/>
          <p:nvPr/>
        </p:nvSpPr>
        <p:spPr>
          <a:xfrm>
            <a:off x="971640" y="33336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 Thinking about what are the most important issues - problems to consider in the programme</a:t>
            </a:r>
            <a:endParaRPr b="0" lang="en-US" sz="2400" spc="-1" strike="noStrike">
              <a:solidFill>
                <a:srgbClr val="000000"/>
              </a:solidFill>
              <a:latin typeface="Arial"/>
            </a:endParaRPr>
          </a:p>
        </p:txBody>
      </p:sp>
      <p:sp>
        <p:nvSpPr>
          <p:cNvPr id="94" name=""/>
          <p:cNvSpPr/>
          <p:nvPr/>
        </p:nvSpPr>
        <p:spPr>
          <a:xfrm>
            <a:off x="1258920" y="1844640"/>
            <a:ext cx="73454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eneral problems</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language</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No. of semesters &amp; ECTS</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Placements (UNS)</a:t>
            </a:r>
            <a:br>
              <a:rPr sz="2400"/>
            </a:br>
            <a:r>
              <a:rPr b="0" lang="en-US" sz="2400" spc="-1" strike="noStrike">
                <a:solidFill>
                  <a:srgbClr val="006666"/>
                </a:solidFill>
                <a:latin typeface="Arial"/>
              </a:rPr>
              <a:t> </a:t>
            </a:r>
            <a:endParaRPr b="0" lang="en-US" sz="2400" spc="-1" strike="noStrike">
              <a:solidFill>
                <a:srgbClr val="000000"/>
              </a:solidFill>
              <a:latin typeface="Arial"/>
            </a:endParaRPr>
          </a:p>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E-learning problem</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equipment</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training</a:t>
            </a:r>
            <a:br>
              <a:rPr sz="2400"/>
            </a:br>
            <a:r>
              <a:rPr b="0" lang="en-US"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 legislative bas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6666"/>
                </a:solidFill>
                <a:latin typeface="Arial"/>
              </a:rPr>
              <a:t>- Sustainability of the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5280" y="1844280"/>
            <a:ext cx="7931160" cy="428148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Jadranka Dimov talked about knowledge of the local labor market.</a:t>
            </a:r>
            <a:endParaRPr b="0" lang="en-US" sz="2900" spc="-1" strike="noStrike">
              <a:solidFill>
                <a:srgbClr val="000000"/>
              </a:solidFill>
              <a:latin typeface="Verdan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Brainstorm on the ways in which programmes  can be related to the labor market.</a:t>
            </a:r>
            <a:endParaRPr b="0" lang="en-US" sz="2900" spc="-1" strike="noStrike">
              <a:solidFill>
                <a:srgbClr val="000000"/>
              </a:solidFill>
              <a:latin typeface="Verdana"/>
            </a:endParaRPr>
          </a:p>
        </p:txBody>
      </p:sp>
      <p:sp>
        <p:nvSpPr>
          <p:cNvPr id="96" name=""/>
          <p:cNvSpPr/>
          <p:nvPr/>
        </p:nvSpPr>
        <p:spPr>
          <a:xfrm>
            <a:off x="1116000" y="260280"/>
            <a:ext cx="8028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bor market &amp;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55640" y="1916280"/>
            <a:ext cx="8207280" cy="4465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ahoma"/>
              </a:rPr>
              <a:t>Items in this list are not necessarily the sole responsibility of higher education teachers.  Some are at policy level and some are the responsibility of those in the work place</a:t>
            </a:r>
            <a:r>
              <a:rPr b="0" i="1" lang="en-GB" sz="2600" spc="-1" strike="noStrike">
                <a:solidFill>
                  <a:srgbClr val="000000"/>
                </a:solidFill>
                <a:latin typeface="Verdana"/>
              </a:rPr>
              <a:t>.</a:t>
            </a:r>
            <a:r>
              <a:rPr b="0" lang="en-GB" sz="2600" spc="-1" strike="noStrike">
                <a:solidFill>
                  <a:srgbClr val="000000"/>
                </a:solidFill>
                <a:latin typeface="Verdana"/>
              </a:rPr>
              <a:t> </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1.  Use Master’s degrees as a professional development qualification so that most are filled with people who are already working and want to update, develop etc.</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2.  Organise work experience / internships for students</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3.  Dissertation topics are sponsored by industry – i.e. encouraging students to research areas that are real workplace issues</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4.  Send university teachers into the work place for work experience / internships.</a:t>
            </a:r>
            <a:endParaRPr b="0" lang="en-US" sz="2200" spc="-1" strike="noStrike">
              <a:solidFill>
                <a:srgbClr val="000000"/>
              </a:solidFill>
              <a:latin typeface="Arial"/>
            </a:endParaRPr>
          </a:p>
        </p:txBody>
      </p:sp>
      <p:sp>
        <p:nvSpPr>
          <p:cNvPr id="98" name=""/>
          <p:cNvSpPr/>
          <p:nvPr/>
        </p:nvSpPr>
        <p:spPr>
          <a:xfrm>
            <a:off x="464760" y="333360"/>
            <a:ext cx="833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ys of linking Masters’ degrees with the labour mar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00000" y="1743120"/>
            <a:ext cx="7772400" cy="42069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5.  Recruit people from the workplace to teach some parts of the programm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6.  Ask those from the work place to act as mentors for student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7.  Ask people from work place to be involved in the development of the programm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8. Develop some of the modules / courses as short courses for people at work.  These could be accredited / credit rated and could be accumulated towards qualifications or award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9.  Make assessments relevant to real work activities.  For examples if reports are written in the work place, writing reports might be a form of assignment.  This may need to be incorporated into the language of the learning outcom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26920" y="1700280"/>
            <a:ext cx="7772400" cy="44640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0.  Make sure that the relevant specific and generic skills are included in Master’s degree programmes.  They may be directly relevant to the discipline or you may add them as work place skills (for example, the ability to give good presentation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1.  Develop occupational standard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2.  Set up the opportunity for work places on the campus.  These small work places may or may not have direct relationships to the programmes.  This arrangement might be called a ‘Science Park’ for exampl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3.  Allow for market-driven initiatives and innovations – and see new developments as having the potential for new programme / module development.</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4.  Ensure that students have developed entrepreneurial capacities so that they can develop their own work.</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99640" y="1773360"/>
            <a:ext cx="7993080" cy="417672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5  Encourage applied research.</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6  Develop liaison units in universities to link between companies and the programmes (or this might be the work of an individual doing liaison work for one programm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7  Develop professional or employer bodies to oversee professional education and employment in different sectors or job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8  Give students business skills cours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19  Have awareness of where employment needs are, bearing in mind that is as bad to overproduce graduates as to under-produce them – i.e. match supply and demand.  Statistics may be available from various places and related to the whole country or to localiti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20  Develop alumni associations so that students in the work place come back and talk about their work to students on the current programme.</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21  Include career guidance on the programme – have job fests etc.</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22  Develop research links between companies, businesses and the universities – for both students and the teaching staff.</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58920" y="2349360"/>
            <a:ext cx="7345440" cy="2448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Brief input on working learning outcomes.</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Groups review program, course/module learning outcomes identifying where re-integrating or missing is required. This talks account of the language concerning the expected quality of learning.</a:t>
            </a:r>
            <a:endParaRPr b="0" lang="en-US" sz="2400" spc="-1" strike="noStrike">
              <a:solidFill>
                <a:srgbClr val="000000"/>
              </a:solidFill>
              <a:latin typeface="Verdana"/>
            </a:endParaRPr>
          </a:p>
        </p:txBody>
      </p:sp>
      <p:sp>
        <p:nvSpPr>
          <p:cNvPr id="104" name=""/>
          <p:cNvSpPr/>
          <p:nvPr/>
        </p:nvSpPr>
        <p:spPr>
          <a:xfrm>
            <a:off x="1041120" y="404640"/>
            <a:ext cx="701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earning outcomes in the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7:03:15Z</dcterms:created>
  <dc:creator>Marko</dc:creator>
  <dc:description/>
  <dc:language>en-US</dc:language>
  <cp:lastModifiedBy>Marko</cp:lastModifiedBy>
  <dcterms:modified xsi:type="dcterms:W3CDTF">2009-03-18T08:15:26Z</dcterms:modified>
  <cp:revision>13</cp:revision>
  <dc:subject/>
  <dc:title>Slide 1</dc:title>
</cp:coreProperties>
</file>