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6213-1605-4616-927D-8128391E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3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4141440"/>
            <a:ext cx="8853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3C41-2CEA-48BC-9379-5578346F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41414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7080" y="41414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07CE-CDE4-43D1-A339-9BB18FF1F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3760" y="19796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7160" y="19796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41414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3760" y="41414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7160" y="41414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2155-0F60-47E9-B309-C147C780A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79640"/>
            <a:ext cx="8853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1705-050A-428A-A8BE-8961A09E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3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FB46-840F-4C68-924D-7411EA51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EA8A-A05E-4E42-B0D2-7C18B6BA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1C27-BE59-4901-BCE5-A26EBD0F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E8D3-AFB5-4AD0-A2AC-E69216A2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41414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C0BE-46ED-4213-8E64-5FF7429F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7080" y="41414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8662-99C8-4708-A8C4-ED797DF5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4141440"/>
            <a:ext cx="8853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913F-6752-4400-8B20-157051D8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360" y="1979640"/>
            <a:ext cx="8853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2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56080" y="6562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35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DC45CA11-22A2-4576-9323-FE4A91D48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9382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MSDP</a:t>
            </a:r>
            <a:br>
              <a:rPr sz="4400"/>
            </a:b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-Training Seminar-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5320" y="3071880"/>
            <a:ext cx="847728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</a:rPr>
              <a:t>FTN, Novi Sad</a:t>
            </a: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</a:rPr>
              <a:t>Master Studies in Electronics –</a:t>
            </a: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</a:rPr>
              <a:t>Learnig Outcomes</a:t>
            </a: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4720" y="6400800"/>
            <a:ext cx="90709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  <a:ea typeface="Arial Unicode MS"/>
              </a:rPr>
              <a:t>March 15-18, 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Applied electronics module – knowledg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undamentals of high-speed digital circuit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ources of EMC and concepts of EMI/EMC and ESD protection in modern electronic system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Analog and digital (mixed-signal) circuit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Interfacing sensors and actuators with control system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Basics of fiber-optic systems in telecommunications and computer system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Applied electronics module – skill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492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Measurements in fiber-optical communications system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Design of EMI protection and developing EMC compliant device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Design of mixed-signal circuits using CAD tool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esting and verification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riting technical documentation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Applied electronics module – competenc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492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eam-work organization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Precise formulation of design specification according to required functionality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Awareness of time constraint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orking under pressur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Knowledge, skills and competences of master studies at department for Power, Electronics and telecommunication at the University of Novi Sad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Knowledge, skills and competences of specified modules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Master Studies – knowledge outcome 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omprehensive knowledge of modern electronic component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oncepts of electronic circuits operation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oncepts of hardware design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oncepts of software design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Master Studies – skills outcom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Ability to use the techniques, skills and modern engineering tools necessary for engineering practic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Ability to conduct experiments, as well as to analyze and interpret data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Ability to efficiently solve real-life problems using knowledge acquired from fundamental sciences (maths, physics, etc.)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Master Studies – competence outcom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492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ake part and manage complex and multidisciplinary team project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Ability to understand market requirement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Ability to adapt to rapid changes of technology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Ability to communicate effectively and professionally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Master study module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Microprocessor system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Applied electronic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Microprocessor systems  module – knowledg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Advanced microprocessor architecture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Embedded systems structure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Real-time operating system concept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Algorithms and their complexity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ontemporary high-complexity reconfigurable digital system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Microprocessor systems  module – skill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492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Advanced microprocessor programming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Using state-of-the-art software tools for FPGA based system design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Develop digital systems using contemporary hardware description language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Performing analysis, design, development, implementation, testing and verification of the complex microprocessor components and system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Applied electronics module – competenc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492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Optimizing balance between hardware and software component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Precise formulation of design specification according to required functionality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Applying embedded system for solving complex real-world engineering problem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9:26:27Z</dcterms:created>
  <dc:creator/>
  <dc:description>Introducing developments and alternatives, recommending one or more strategies</dc:description>
  <dc:language>en-US</dc:language>
  <cp:lastModifiedBy/>
  <dcterms:modified xsi:type="dcterms:W3CDTF">2009-03-17T22:54:25Z</dcterms:modified>
  <cp:revision>13</cp:revision>
  <dc:subject/>
  <dc:title>Recommendation of a Strategy</dc:title>
</cp:coreProperties>
</file>