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9F4-A475-4B60-9FFD-91E330E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ED4-D83F-492A-BF56-79752431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9FD-B4D9-4C17-A71D-469795BD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E38-0D8E-4E0E-91D1-7E12698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58B-4601-4D50-9421-77978C3C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B19-4B58-4979-99F2-E8CF9CC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2E3-7AD8-4C43-A18A-D985F6A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05B0-A051-4952-ABA0-9D14814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D704-6AFC-4A33-B6A9-A7FD4A4E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23FE-88BD-4351-8F79-58AE9545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C554-BEDA-482B-AD4C-42CA287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D22-7FA4-42CC-A372-AE2F5550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A976-4745-45AF-8BAF-8F63453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47EC-9BD9-4FC0-95A7-E14305E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54B-974E-43B1-930D-3ACF6B8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097-2277-4405-9BF8-92FD48E1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8E5-27AA-464A-A1BF-87E9ED86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9B2-BAA6-4973-9FBE-42F859DB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769-D4A0-4A8D-B1A6-66A40EA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BCA-7384-44A9-A44E-77D637D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23D-A7BB-4CB5-BC54-37AC27A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EE2-E34C-412E-B59A-F1B3644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2BE-AE40-498E-B3B5-3F78CB7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D21-6353-4C0F-B2FF-71F86886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5AF-B838-4BB5-9BA6-4830FEBDF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F99D-99C5-43B3-9595-DAEE0D220B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.bg.ac.r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in Biochemi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ulty of Chemi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Bel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outcome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end of this study a student would be abl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complex analysis and individual research tasks in the field of molecular biotechnology and bio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ly solve problems in the field of molecular biotechnology and bio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nalyze, evaluate, present results of scientific work in a poster or or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outcome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ain knowledge on regulations and legislations in molecular biotechnolgy, GMOs and GL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ork efficiently in a team and in an multidisciplinary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ranslate knowledge and apply skills into practice in laborotories and resech institutions, control laboratorie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ommunicate knowledge and practical skills to professionals in the same and related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sseminate knowledge to other members of the research team and/or production uni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directions/connections with the labor mark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of companies that traditionally employ graduate biochemist at the National Employment Ser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tact Chamber of Commerce and gain information on branch association in this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int out a brochure and disseminate information to potential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alumni of graduate biochemi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19280" y="3141360"/>
            <a:ext cx="30286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3936" t="20987" r="5498" b="5518"/>
          <a:stretch/>
        </p:blipFill>
        <p:spPr>
          <a:xfrm>
            <a:off x="684360" y="1170000"/>
            <a:ext cx="820872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hem.bg.ac.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he program was crea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of employed biochemists (1997-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, emerging trends in Bio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on of the MS within the study programs at the Faculty of 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, Biotechnology, Molecular Biology study programs at Universities in Serb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 of Higher Education from 2006 – accreditation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ment of graduate biochem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7772400" cy="24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 % research/industry sector abr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 % research labora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 % industry in Serbia (25 % are employed by the Torlak Institute of Virology, Vaccines and S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 sector, private sector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erging fields in modern biochemi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852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ecular Bio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histicated techniques widely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95280" y="260280"/>
          <a:ext cx="7772400" cy="5691240"/>
        </p:xfrm>
        <a:graphic>
          <a:graphicData uri="http://schemas.openxmlformats.org/drawingml/2006/table">
            <a:tbl>
              <a:tblPr/>
              <a:tblGrid>
                <a:gridCol w="1119240"/>
                <a:gridCol w="1971720"/>
                <a:gridCol w="619200"/>
                <a:gridCol w="529920"/>
                <a:gridCol w="441360"/>
                <a:gridCol w="441360"/>
                <a:gridCol w="441360"/>
                <a:gridCol w="441360"/>
                <a:gridCol w="441360"/>
                <a:gridCol w="442800"/>
                <a:gridCol w="441360"/>
                <a:gridCol w="44136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number and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urse number and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.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.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-Lear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GP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winning lectur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me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.  Research oriented master in biochemis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A.1. Bioinforma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+2+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A.2. Molecular Bio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+1+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.3. Plant Physiology and Biochemistry (electiv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+0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.4. Immunobiology (electiv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+0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.5. Advanced Structural Instrumental Methods (electiv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+2+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.6. Biochemistry and Biophysics of Macromolecules (electiv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+0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ulsory research work (tutor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+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ulsory research work (tutor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+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ter the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+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inning part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227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Plovd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ulty of B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in Bioinforma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in Molecular Bio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bor market part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rlak Insitute of Virology, Vaccine and S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ited experts (within the course of Molecular Biotechnology – production of sera, vaccines and preparations of allergy diagnosis and immunotherap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ion in MS committees/co-supervision of MS 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disciplina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ulty of B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te of Bot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te of Physiology and Bio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ulty of Chem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artment of Biochem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artment of Organic Chem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6:13:50Z</dcterms:created>
  <dc:creator>Velickovic</dc:creator>
  <dc:description/>
  <dc:language>en-US</dc:language>
  <cp:lastModifiedBy>Velickovic</cp:lastModifiedBy>
  <dcterms:modified xsi:type="dcterms:W3CDTF">2009-03-18T08:08:08Z</dcterms:modified>
  <cp:revision>5</cp:revision>
  <dc:subject/>
  <dc:title>Master in Biochemistry</dc:title>
</cp:coreProperties>
</file>