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6D9-D4CA-4C16-9781-AB0968C5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757-89E7-4498-9273-3D0A9CB0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42B-1233-4DDD-8E77-29EE4FAB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81C-2B34-43C6-9876-5499707A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D968-91D7-47F4-BA80-729BE02C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8743-EE73-4B11-9ECF-197E12FE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A891-CDAA-4911-81C4-97AB098E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E407-5694-41DB-B10D-6D3AA45A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E27B-2C28-4D1C-990D-BA265080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5C7B-A7DD-4D29-9C2F-F57A24BD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4B35-57C1-4B67-8DE8-073B1B9C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164-E1D0-408C-9CDF-6ED9C9F4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FD40-51B8-4FA5-B9F0-FB88EECB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0758-F7A2-4034-866B-D63A900E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0722-4948-421F-AC88-6B2ABB45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3BD1-2E02-474A-A849-24990C4F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D6CA-4EDD-4D7A-B869-56BE5F66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9B663-78F2-4444-AF95-6D132F50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E66E6-E0EC-4FA6-96FE-7CD5EAFF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2BD3-85A9-4367-B5F1-3756D277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74A21-FEBB-4747-8189-8601AB52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54A6-BE82-4867-9155-E193113E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C78-0DBB-4890-B7E4-A3B170F6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871B-3109-4FC4-9A12-E9044060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9CB49-78CF-4DD2-9AD1-15F65FDE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1817-05C5-4CAA-A342-9C2783AC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29E4-5530-4886-988A-D551ABCB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D3F56-657C-4A7E-9848-BD4005B1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CFFA4-F3A3-4EC8-A734-59C2BB30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9C031-475D-40F0-B8E8-D4697541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ED127-FFDF-4DF4-8A65-BAEE3E6F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751D-2A95-4D3F-A597-1BA75BDB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A8B5-6BAA-4F0E-9402-E943351D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E54-FFF9-4057-992E-66FF5C25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092C3-0E40-450E-BBFC-7B4A011C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BF6B2-5692-42C3-9479-E1459E19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D3694-3EEF-41AF-B6EC-D55B5731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59BFB-9621-40E9-AAF7-B7ABB727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BE904-576B-4BB1-9D24-1709AD54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4DCCE-EDB3-4F55-9168-2BCFC1F7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21AAE-5AB3-42E8-886D-20AADF91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879E6-E994-450D-A698-EED2551F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79D4E-ACEB-4EA5-8CF6-DD3F8A2B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7CE25-0F00-4444-9B27-C1FDDA1D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5F0-52E2-4F34-96D4-CEA48E49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E57CF-035E-4481-A463-B69A4E06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27583-57F8-49E5-9376-A9038945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C8F81-F539-45CF-BB69-473C1993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2685-0441-4C15-BC87-9C03516E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F4C7F-3CAE-4237-9F59-D0ACDCD8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5E4F7-5FDB-4FCB-8C1A-C3408A5D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FC760-9F4E-432C-823E-DC11AE4A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25BA5-4319-461E-9A7E-B7EC38AA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A3F1E-6526-47A8-A287-B1ABD040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00574-1294-4D25-B9B4-2728F0FC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A5C-820C-4C5F-BC2B-ADEDA837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5C940-655B-40D9-9704-C8E17C9B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F0B61-D250-4F69-A11F-8C74DAE4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1427B-EFA5-4AE4-ABDB-C06F5541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AC0B2-A40D-4DF3-9BB9-24A36E3C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D1CF9-910B-456B-8486-70FF2F65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76E4B-115B-46C0-B144-28A76A52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BE318-F74C-440A-8F15-2C7F16CD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49FE5-1DF1-4C47-B783-8BC4C69B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06395-0BC0-48EE-8E00-BB324FEC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223B4-E5D6-4FA3-B427-18F2F41D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20A-E6EA-4C4F-9E31-D69599CC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BA43C-F2C1-438C-A3BC-E09E9D5C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5D0E9-8E7A-4EAD-9C6C-3BA1303F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A6B4D-CDB3-48CD-BAA5-BBB0F367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26349-368B-4CF1-9517-D58371DE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652EC-1F57-420C-8CEF-E172F1F4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4CE9B-5BDE-42F8-BE57-D202B6A1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1FCC5-3AC0-4C31-8AB3-995C25CE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B61FD-1C22-4A53-9A33-1ACC5F7E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E15E9-223E-4CD8-BF85-DCE8BDA5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87700-389B-423D-BC54-63A89A36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5FA-6636-49CC-BB80-332BDB70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744DE-7CE8-406F-9B28-8A9A8E2B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D0956-A207-42DE-88FA-DB90E57C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1C3A1-227D-4457-B850-7367A746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63C9F-9DDF-474A-9E81-0A8009F1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535E9-1C28-40D7-BB3F-61DC84E3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36845-06DD-4CA9-9625-6406C0B0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EDEC3-5EC1-4040-9F41-8B9966EF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A68DE-13C4-4E3D-8D1C-041827AD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9FE76-C499-4973-AAD2-DF499329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797ED-2BE1-46CD-9061-EBF38228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5E2-26EA-4C81-867B-1858D35F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6A9F3-83DD-404F-A150-4FB44D9A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C0747-0C9D-45DD-A0A6-44A9EBAC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B097D-D6E7-4C9B-AA31-AF91CD1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6F6CF-0980-420C-940C-D4BC4B41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255DA-A2E3-40B8-889A-FBB66F56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D677B-40EC-45E9-B526-4E911EA1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D651E-DA90-4012-827F-1862C7C2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339A-0B2E-43FB-9974-50C5DF57F82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FB2C-94D9-4AB0-91FA-A975FBAB2BD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F1D7-2242-4220-8E7F-D386BAF07F6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E1F5-431A-4261-93AA-A66DDA832F2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D1E2-2934-4264-80A7-59A55E31ABD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739B-EDDD-4185-AB7D-479CB056CE3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61FF-82B3-4287-B941-E3B63B3E257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7986-4648-4F70-BDD4-A48D7B3B1ED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Technical faculty Čača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University of Kragujeva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3809880" y="1219320"/>
            <a:ext cx="3048120" cy="577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2133720" y="990720"/>
            <a:ext cx="10062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ly specialized knowledge in field of remote control syst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itical awareness of knowledge issues in a field related to remote contr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derstanding of different remote control  objects and syst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ritical awareness about achieved knowledge, referred to  the labor market requirements with emphasis on innov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bility to develop innovative and creative applications for effective remote control solu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bility to accommodate cutting age technology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kill for knowledge resources usage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actical skills in building, designing and implementing remote control systems (smart sensing, data acquisitions and digital signal processing, network communications, designing user interface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kills in making professional deci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etences for collaborative and team work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etences for realization of different team ro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etences for research planning, data gathering, analysis and repor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etences for presentation of team projects to different groups and management leve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aecd"/>
                </a:solidFill>
                <a:latin typeface="Lucida Sans Unicode"/>
              </a:rPr>
              <a:t>Obligatory modu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Basics in Remote Control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Courses: Remote control, Intelligent sensors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kills in designing remote-control system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kills 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in using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odern control equipment and communication techniqu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kills in building systems for data acquisi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bility to design, analyze and implement: signal conditioning circuits for sensors, data acquisition software for sensors and actuators, pattern analysis algorithms for multi-sensor system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aecd"/>
                </a:solidFill>
                <a:latin typeface="Lucida Sans Unicode"/>
              </a:rPr>
              <a:t>Obligatory modu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Signal transmission and estimatio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Courses: Modern communication systems, Advanced signal processing)</a:t>
            </a: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hesive insight into principles of modern communication system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being familiar with network technology as well as being able to build communication infrastructu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knowledge of advanced signal processing techniques (spectral estimation and prediction, adaptive filtering) and their use in the present-day control system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using a combination of theory and software implementations to solve signal processing signal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aecd"/>
                </a:solidFill>
                <a:latin typeface="Lucida Sans Unicode"/>
              </a:rPr>
              <a:t>Obligatory modu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3 .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tudy research on master work theoretical  ba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 information systems effectively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pose and justify an appropriate research plan for a particular research problem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epare a well written and concise research paper or report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velop and write a research proposal for their discipline area, and team research project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esent and discuss research design and methodology in connection with master project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pply ethical demands in scientific and applicative individual and team investigatio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actical work in the compan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aster t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hesi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Process monitoring (Human computer interactive, Monitoring and process visualisa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Remote exercises (Simulation and process modelling, Virtual instrumenta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Remote control applications (Control of electromotive drives, Heating system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lnSpc>
                <a:spcPct val="80000"/>
              </a:lnSpc>
              <a:spcBef>
                <a:spcPts val="326"/>
              </a:spcBef>
              <a:spcAft>
                <a:spcPts val="4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ntinual class activities  (class participation, class discussion…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spcAft>
                <a:spcPts val="4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oral and/or written midterm and final exam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spcAft>
                <a:spcPts val="4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report of state of the art in remote control field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spcAft>
                <a:spcPts val="4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homework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spcAft>
                <a:spcPts val="4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eminar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spcAft>
                <a:spcPts val="4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laboratory work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spcAft>
                <a:spcPts val="4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dividual or group applicative research project (creativity, presentation, team work, innovation, interdisciplinarity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spcAft>
                <a:spcPts val="4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dividual or group paper and presentation in class conferenc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spcAft>
                <a:spcPts val="4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roposal for project and master research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jan</dc:creator>
  <dc:description/>
  <dc:language>en-US</dc:language>
  <cp:lastModifiedBy>RK</cp:lastModifiedBy>
  <dcterms:modified xsi:type="dcterms:W3CDTF">2009-03-18T08:01:50Z</dcterms:modified>
  <cp:revision>15</cp:revision>
  <dc:subject/>
  <dc:title>MSc in Remote control</dc:title>
</cp:coreProperties>
</file>