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5C3-EEA5-43DF-BCB8-C86F35F3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AC6-A78E-4D1B-ACD5-0BE7737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564-1745-47E2-AFB6-37FB58FC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60A-9C79-4EAF-AE8A-9F6455B1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F4B9-2E36-4F5D-BA28-D02F05C2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BC84-5778-4DA9-9B78-32A1C308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7250-2746-49DE-B39C-DCBF91DB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8D1-A66A-4C48-95DE-926B976D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B73C-F236-4F69-BD39-852F4E74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2E15-9ABD-47CD-8E3E-84410041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ABC3-44E7-473A-B634-4AA69B92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BA3-55AB-44FB-945F-550F8D3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B210-F3C0-414D-8F74-75794400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9AE2-C907-4C7F-A7B3-71ECD70C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63A9-3F18-4A58-A2EC-CE58CFB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C8F6-8AE8-4E45-B92D-043C14FE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2864-7C5D-440E-AB1B-DFCEA006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0AC-C90A-4FEB-80DE-6CDA255E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392-A2A1-44EB-8F0C-FFE0F2F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9DB-B31A-4352-871E-B8ECE962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22F-9BC1-4B4E-B9CA-18A1BA0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0C9-1139-41ED-93A1-F0853F1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D5E-A8EC-4246-96B3-6EE7E8E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1C2-7AA8-4D62-80EA-35DD821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7B9-E1FC-42D4-919B-B413B9AEA4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9F18-A096-4B5E-B899-73A2AC637C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mo.ba/institucije" TargetMode="External"/><Relationship Id="rId3" Type="http://schemas.openxmlformats.org/officeDocument/2006/relationships/hyperlink" Target="http://www.kvalitet.blogger.ba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765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Verdana"/>
              </a:rPr>
              <a:t>UNIVERZITET “DŽEMAL BIJEDIĆ” U MOST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781360"/>
            <a:ext cx="85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33cc"/>
                </a:solidFill>
                <a:latin typeface="Verdana"/>
              </a:rPr>
              <a:t>OSIGURANJE KVAL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Verdana"/>
              </a:rPr>
              <a:t>- AKTIVNOSTI I PROJEKTI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5805360"/>
            <a:ext cx="64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000000"/>
                </a:solidFill>
                <a:latin typeface="Verdana"/>
              </a:rPr>
              <a:t>Sarajevo; 03. April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6237360"/>
            <a:ext cx="43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23736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000000"/>
                </a:solidFill>
                <a:latin typeface="Verdana"/>
              </a:rPr>
              <a:t>Abazović Alim, QA off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52640" y="1752480"/>
            <a:ext cx="3427560" cy="4267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Studentska evaluacija kvaliteta izvođenja nastave</a:t>
            </a:r>
            <a:br>
              <a:rPr sz="1800"/>
            </a:b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zgled anketnog upitnika – strana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000" y="18900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Saradnja univerziteta i industr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QUALITY ASSURANCE PROCEDURE FOR PROMOTING UNIVERSITY-ENTERPRISE COOP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89000"/>
            <a:ext cx="7848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Tempus projekat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M_SCM-C 024 A 06 –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artneri u Projektu (pored našeg Univerzitet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aHo Sint Lieven, Univerzitet u Banja Luci, Sveučilište 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ostaru,Univerzitet u Zenici, Wroclw University of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- Cilj: Kreiranje savjetodavnog tijela za razvoj kurriku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Participacija privrednika, javnog sektora, alumni asocijacije...u    kreiranju kurrikuluma i osiguranju kval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260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Osiguranje kvaliteta studija kroz akreditaciju – Tempus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Verdana"/>
              </a:rPr>
              <a:t>UM-JEP-19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981000"/>
            <a:ext cx="8424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artneri u Projek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Univerzitet Paderborn, </a:t>
            </a: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Njemačka (koordinator projekt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ASIIN, Düsseldorf – </a:t>
            </a: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Akreditacijska agencija za studije inzenjerstva, informatike i matematike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Univerzitet Lleida, </a:t>
            </a: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Špani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InBIT Paderborn, </a:t>
            </a: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Njemačk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Univerzitet Banja Lu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Univerzitet Saraj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Univerzitet Tuz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Ministarstvo obrazovanja Republike Srps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Ministarstvo nauke i obrazovanja Federacije Bosne i Hercegov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BHITS – </a:t>
            </a: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BH drustvo za informati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BAIT – </a:t>
            </a: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Udruzenje poslodavaca u oblasti informacijskih i komunikacijskih tehnologi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Specifični ciljevi Projek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Izgradnja sistema akreditiranja u izabranim oblastima sa modelskim karakterom za Bosnu i Hercegov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Obrazovanje eksperata za akreditaciju studi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Poboljsanje osiguranja kvalite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Razvoj inovaci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Verdana"/>
              </a:rPr>
              <a:t>ASIIN-ova eksterna evaluacija je previđena projektom i  izvršena na FIT-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260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Projekat “Jačanje visokog obrazovanja u Bi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989000"/>
            <a:ext cx="79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Zajednički projekat Vijeća Europe i Europske Komisije u B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3 radne grupe projekta od kojih je jed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radna grupa za izradu standarda i smjernica za interno i eksterno osiguranje kval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Kreirani standardi i smjernice za osiguranje kvaliteta u visokom obrazovanju u Bi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stale grupe: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za priznavanja kvalifikacij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za okvir kvalifikacija u visokom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692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OSCE seminari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, savjetovanja i aktivnosti u području osiguranja kvaliteta u visokom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276640"/>
            <a:ext cx="770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Konstantan rad na najboljem </a:t>
            </a: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modelu uključivanja studenata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u procese osiguranja kvaliteta i donošenje odluka na svim ni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Izrađena je kraća analiza stanja, dat je prijedlog mje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Studenti su zastupljeni na svim nivoima (departman, fakultet, Univerzitet, radna tijela, komisije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508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Promotivne i informativne aktivnost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BH univerziteta i pojedinih fakulteta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47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Aktivnosti u bližoj budućnosti i okolnosti za razvoj osiguranja kvaliteta na Univerzitetu “Džemal Bijedić” u Most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7054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Usvojen Okvirni zakon o visokom obrazovanju u B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Strategija razvoja Univerziteta “Džemal Bijedić” u Mostaru –  rad na strateškim projek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Kompletiran pravilnik o osiguranju kvaliteta kao i priručnik za osiguranje kvaliteta  – biće predat na usvajanje nadležnom organu na početku naredne akademske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Javne rasprave, seminari, debate o QA u organizaciji Kancelar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Rad na indikatorima kval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Međunarodno povez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Građenje i širenje kulture kval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71640" y="4221000"/>
            <a:ext cx="41040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11e54"/>
                </a:solidFill>
                <a:latin typeface="Arial"/>
              </a:rPr>
              <a:t>Alim Abazovi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11e54"/>
                </a:solidFill>
                <a:latin typeface="Arial"/>
              </a:rPr>
              <a:t>Kancelarija za osiguranje kval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11e54"/>
                </a:solidFill>
                <a:latin typeface="Arial"/>
              </a:rPr>
              <a:t>E-mail: alim.abazovic@unmo.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270828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211e54"/>
                </a:solidFill>
                <a:latin typeface="Arial"/>
              </a:rPr>
              <a:t>H V A L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60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Aktivnosti Kancelarije za osiguranje kvaliteta u okviru Tempus projekta “Osiguranje kvaliteta na univerzitetima u Bi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133720"/>
            <a:ext cx="7920000" cy="37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buka QA referenta – Graz, maj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Pripremanje kancelarije i instaliranje doniran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tvaranje kancelarije za osiguranje kvaliteta – septembar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državanje seminara za predstavnike fakulteta – gost predavač gdin Oliver Vettorio (Ekonomski fakultet Univerziteta u Beč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tvaranje linka na web stranici (</a:t>
            </a:r>
            <a:r>
              <a:rPr b="0" lang="bs-BA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unmo.ba/institucije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, i bloga </a:t>
            </a:r>
            <a:r>
              <a:rPr b="0" lang="bs-BA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kvalitet.blogger.ba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Izrada promotivne brošure – izvještaja o osiguranju kvaliteta na Univerzitetu “Džemal Bijedić” u Mosta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stale aktivnosti u okviru projek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6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Aktivnosti Kancelarije za osiguranje kvaliteta u okviru projekta “Strukturalni razvoj osiguranja kvaliteta na univerzitetima u Bi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916280"/>
            <a:ext cx="777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Studijska posjeta Univerzitetu TOR VERGATA –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Prisustvo QA seminarima na drugim univerzite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Prisustvo Konferenciji sa međunarodnim učešćem Kvalitet      2007. – N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stale aktivnosti u okviru projek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933720"/>
            <a:ext cx="82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Publikacija o QA – u pripremi (čeka se recenz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400" spc="-1" strike="noStrike">
                <a:solidFill>
                  <a:srgbClr val="000000"/>
                </a:solidFill>
                <a:latin typeface="Verdana"/>
              </a:rPr>
              <a:t>Tehnikalije: format B5, Font: Verdana 10, strana 250, jezik - Bosa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260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Publikacija o kvalit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30 GODINA UNIVERZITETA 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UVOD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DEFINICIJE I POJMOVI U OBLASTI OSIGURANJA KVALITETA U  EVROPSKOM  PODRUČJU VISOKOG OBRAZOVANJA (EHE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FILOZOFIJA OSIGURANJA KVALITETA U VISOKOM  OBRAZOVANJ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OJAM I HISTORIJAT OSIGURANJA KVALITETA U VISOKOM OBRAZOVANJ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SVRHA, OBUHVATNOST I KONCEPTI KVALITE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EVALUACIJA  I AKREDITACIJ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TQM U VISOKOM OBRAZOVANJ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MISIJA I VIZIJA RAZVOJA UNIVERZITE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OSIGURANJE KVALITETA NA UNIVERZITETU „DŽEMAL BIJEDIĆ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EUA ANALIZA UNIVERZITET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STUDENTSKA PERCEPCIJA UNIVERZITET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STUDENTSKA EVALUACIJA KVALITETA IZVOĐENJA NASTAVE NA UNIVERZITETU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SARADNJA UNIVERZITETA I INDUSTRIJE U CILJU UNAPREĐENJA KVALITE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OKVIRNI ZAKON O VISOKOM OBRAZOVANJU U BOSNI I HERCEGOVI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ROTOTIP STATUTA INTEGRIRANOG UNIVERZITE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ESG u Bi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REPORUKE VIJEĆA EVROPE U OBLASTI OSIGURANJA KVALITE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OBOLJŠANJE KVALITETA STUDIJA KROZ ISTRAŽIVANJA POTREBA UČESNIKA U PROCESU V.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ZAKLJUČ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 R I L O Z 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404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Osnovi strategij razvoja Univerziteta “Džemal Bijedić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989000"/>
            <a:ext cx="7993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Faza I – dijagnoza stanja (samoevaluacija instituci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Faza II – formulisanje vizije razvoja Univerziteta i razvojnih    pravaca i programa (npr. za kvalitet su bitni: projekat uvođenja sistema osiguranja kvaliteta na Univerzitetu “Džemal Bijedić” u Mostaru, kreiranje postdiplomskog studija iz oblasti kvalitete uopć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Faza III – organizaciona struktura Univerziteta (položaj kancelarije za osiguranje kvaliteta u organizacionoj shemi univerzit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ajednički razvojni projek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cc"/>
                </a:solidFill>
                <a:latin typeface="Verdana"/>
              </a:rPr>
              <a:t>Konsolidacija nastavnih planova i programa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ni urbanistički plan Kampus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DS: Evropski standard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DS: Project Managemen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DS: Upravljanje (trusnom) državom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Zajednički univerzitetski cent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Osiguranje kvaliteta institucije i program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azvoj nastavnog osoblj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azvoj karijere studenat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jeloživotno učen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umni asocijacij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cijski centar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Osnovi strategije razvoja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-</a:t>
            </a: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33cc"/>
                </a:solidFill>
                <a:latin typeface="Verdana"/>
              </a:rPr>
              <a:t>prioritetni Univerzitetski projek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9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cc"/>
                </a:solidFill>
                <a:latin typeface="Arial"/>
              </a:rPr>
              <a:t>Osnovi strategije razvoja – predložena organizaciona struktura Univerzit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7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36400">
            <a:off x="999720" y="1025280"/>
            <a:ext cx="931680" cy="700200"/>
          </a:xfrm>
          <a:prstGeom prst="rightArrow">
            <a:avLst>
              <a:gd name="adj1" fmla="val 50000"/>
              <a:gd name="adj2" fmla="val 332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333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Studentska evaluacija kvaliteta izvođenja nast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773360"/>
            <a:ext cx="8642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Evaluacija svih nastavnika u ljetnom semestru, po predme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Izrađen pravilnik, upute anketaru, upute studen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Definisan cilj, podciljevi, vremenski tok projekta evalu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Izrađen plan akcije, donesena odluka nadležnmog organa Univerz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Oko 12.000 anketnih upitnika – ručni unos, dvostruko šifrirani dokum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nketni upitnik (i naš predmet interesa) č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seta pitanj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opći podaci o stud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procjena nastavnika/nastavnice na pojedinom koleg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komentari studenata na rad nastavnika/nasta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000000"/>
                </a:solidFill>
                <a:latin typeface="Verdana"/>
              </a:rPr>
              <a:t>- Evaluacija postupka anketiranja je predviđena nakon završetka svakog anketir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bs-BA" sz="1800" spc="-1" strike="noStrike">
                <a:solidFill>
                  <a:srgbClr val="0033cc"/>
                </a:solidFill>
                <a:latin typeface="Verdana"/>
              </a:rPr>
              <a:t>Studentska evaluacija kvaliteta izvođenja nastave</a:t>
            </a:r>
            <a:br>
              <a:rPr sz="1800"/>
            </a:b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zgled anketnog upitnika – strana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54440" y="1752480"/>
            <a:ext cx="3425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23:28:06Z</dcterms:created>
  <dc:creator>Kvalitet</dc:creator>
  <dc:description/>
  <dc:language>en-US</dc:language>
  <cp:lastModifiedBy>Alim A.</cp:lastModifiedBy>
  <dcterms:modified xsi:type="dcterms:W3CDTF">2008-04-03T08:37:50Z</dcterms:modified>
  <cp:revision>15</cp:revision>
  <dc:subject/>
  <dc:title>Slide 1</dc:title>
</cp:coreProperties>
</file>