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42D-6F1E-4461-9317-F2D42A1B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85840" y="519192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AE1-8B0D-41B3-B895-DC6C93C7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4300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863-D8D6-47AA-9222-177686B2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504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460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8584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04504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460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A5B-E07A-4402-B3AB-3F32DA96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82096-4B4E-4F38-AE22-EFAF10D6DA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8584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1002E-ED04-4A64-B09A-79060D36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8E161-2A13-47A1-A004-264929C2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526F1-902B-430E-A463-10E2041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80FA7-2E8B-45AF-BE0F-A875CABF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2187720"/>
            <a:ext cx="6019920" cy="32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7772D-F5BF-4B76-A238-B5911880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5CA7C-9DF6-4CB5-8259-D31E592E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8584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A3B-EF21-4598-865A-361630BC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4300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13249-5B8F-4B06-AB0E-3A08DAA0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CD2D4-4D27-492A-A35A-48451D69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85840" y="519192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D578D-DAF4-4DCC-816F-5DCD2B6A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4300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094F5-FBC1-4B4F-A8BC-2A5AF70F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504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0460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8584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04504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0460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C59BF-F5C6-48E6-A1A9-B8B9BA3E37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C79-01A2-47BE-B1CB-7165454A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A41-FE5C-4EC6-B22E-AB4F1DDD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6BC-6638-4939-A005-0EAF1844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2187720"/>
            <a:ext cx="6019920" cy="32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6FD-0E47-4878-9EC9-D62A5875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5A2-2AF1-4C50-862A-8E88DBB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4300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BE9-A4F0-4BDB-994A-D38BABA6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275-F8DD-42E6-ABC3-600201DA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0160" y="476280"/>
            <a:ext cx="8610480" cy="685800"/>
          </a:xfrm>
          <a:prstGeom prst="roundRect">
            <a:avLst>
              <a:gd name="adj" fmla="val 22292"/>
            </a:avLst>
          </a:prstGeom>
          <a:gradFill rotWithShape="0">
            <a:gsLst>
              <a:gs pos="0">
                <a:srgbClr val="050b04">
                  <a:alpha val="60392"/>
                </a:srgbClr>
              </a:gs>
              <a:gs pos="50000">
                <a:srgbClr val="5ab14b">
                  <a:alpha val="60392"/>
                </a:srgbClr>
              </a:gs>
              <a:gs pos="100000">
                <a:srgbClr val="050b04">
                  <a:alpha val="6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8031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5715000" cy="1054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98440" y="1341360"/>
            <a:ext cx="8540640" cy="5211720"/>
          </a:xfrm>
          <a:prstGeom prst="roundRect">
            <a:avLst>
              <a:gd name="adj" fmla="val 3699"/>
            </a:avLst>
          </a:prstGeom>
          <a:gradFill rotWithShape="0">
            <a:gsLst>
              <a:gs pos="0">
                <a:srgbClr val="050b04">
                  <a:alpha val="80392"/>
                </a:srgbClr>
              </a:gs>
              <a:gs pos="50000">
                <a:srgbClr val="5ab14b">
                  <a:alpha val="79215"/>
                </a:srgbClr>
              </a:gs>
              <a:gs pos="100000">
                <a:srgbClr val="050b04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805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8214-984E-42B5-BD56-7A73C270C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1981080"/>
            <a:ext cx="7086600" cy="1508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7980-7630-465B-9EEF-929F8DE9DF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3888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3493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211e54"/>
                </a:solidFill>
                <a:uFillTx/>
                <a:latin typeface="Arial"/>
              </a:rPr>
              <a:t>SARADNJA UNIVERZITETA I INDUSTRIJE KAO MOGUĆNOST UTICAJA VANJSKIH KORISNIKA SISTEMA VISOKOG OBRAZOVANJA NA KREIRANJE, RAZVOJ I UNAPRJEĐENJE SISTEMA KVALITETA I KURIKUL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476280"/>
            <a:ext cx="6019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b4615"/>
                </a:solidFill>
                <a:latin typeface="Arial"/>
              </a:rPr>
              <a:t>UNIVERZITET “DŽEMAL BIJEDIĆ” U MOSTA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6165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11e54"/>
                </a:solidFill>
                <a:latin typeface="Arial"/>
              </a:rPr>
              <a:t>Sarajevo, april 200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294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Analiza – svršeni studenti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6408720" cy="269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627280" y="3921120"/>
            <a:ext cx="65167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37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Analiza – svršeni studenti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6624720" cy="314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771640" y="3449520"/>
            <a:ext cx="58168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23888"/>
                </a:solidFill>
                <a:latin typeface="Arial"/>
              </a:rPr>
              <a:t>Analize 2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Također, u okviru Tempus projekta „Quality management procedure for promoting university-enterprise cooperation“  izvršeno je i anketiranje 25 javnih i privatnih preduzeća (poslodavaca) koji zapošljavaju svršene studente Mašinskog i Građevinskog fakulteta Univerziteta „Džemal Bijedić“ u Mostar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Značaj ispitivanja poslodavaca ogleda se u dobivanju korisnih povratnih informacija o kvalitetu kadra koji se obrazuje na ovim visokoškolskim ustanovam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vakav vid ispitivanja također je doprinio i uspostavljanju kontakata sa poslodavcima, kao i o informacijama o mogućnošću zajedničke saradnje poslodavaca (odnosno industrije) i Univerziteta „Džemal Bijedić“  Mostar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nketni upitnik za poslodavce obuhvatao je sljedeće segme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odaci o poslodavc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cjena profesionalne osposobljenosti inžinjera koji su završili Građevinski odnosno Mašinski fakultet u Mostar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ijedlozi za unaprjeđenje kvaliteta studija na spomenutim fakultet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Analiza - poslodavci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601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843280" y="3724200"/>
            <a:ext cx="61214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6193080" cy="2729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23888"/>
                </a:solidFill>
                <a:latin typeface="Arial"/>
              </a:rPr>
              <a:t>Analiza - poslodavci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11280" y="4076640"/>
            <a:ext cx="67327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5184720" cy="3238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700360" y="4005360"/>
            <a:ext cx="5829120" cy="2840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23888"/>
                </a:solidFill>
                <a:latin typeface="Arial"/>
              </a:rPr>
              <a:t>Analiza - poslodavci</a:t>
            </a:r>
            <a:r>
              <a:rPr b="1" lang="hr-HR" sz="2800" spc="-1" strike="noStrike">
                <a:solidFill>
                  <a:srgbClr val="02388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hr-HR" sz="2400" spc="-1" strike="noStrike">
                <a:solidFill>
                  <a:srgbClr val="1d208f"/>
                </a:solidFill>
                <a:latin typeface="Arial"/>
              </a:rPr>
              <a:t>Savjetodavno tijelo/odbor za razvoj kurikuluma na UN ”DžB”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avjetodavno tijelo za razvoj kurikuluma na Univerzitetu „Džemal Bijedić“ čini 13 stalnih članov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dstavnik Univerzite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dstavnici fakulteta – 3 član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legalno izabrani predstavnici studenata – 2 član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dstavnik privredne komo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dstavnik biroa ra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dstavnici javnih preduzeća i institucija – 2 član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dstavnici privatnih preduzeća – 2  član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dstavnik alumni organizac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dviđeno je postojanje jednog tijela na univerzitetskom nivou, s tim da se po potrebi i za konkretne slučajeve (ad hoc) angažiraju i povremeni članovi odb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Formiranjem Savjetodavnog tijela za razvoj kurikuluma na Univerzitetu „Džemal Bijedić“ u Mostaru omogućuje se svim učesnicima u procesu visokog obazovanja da adekvatnije i kvalitetnije učestvuju u poboljšanju kvaliteta nastavnog procesa i naučnoistraživačkog 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 izražaja će doći i mišljenje svršenih studenata, predstavnika javnih i privatnih preduzeća, predstavnika biroa rada, predstavnika privredne komore i s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23888"/>
                </a:solidFill>
                <a:latin typeface="Arial"/>
              </a:rPr>
              <a:t>Savjetodavno tijelo/odbor za razvoj kurikuluma na UN ”DžB”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23888"/>
                </a:solidFill>
                <a:latin typeface="Arial"/>
              </a:rPr>
              <a:t>Pravilnik o radu savjetodavnog tijela i anketni upitnici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 rot="16200000">
            <a:off x="2019240" y="-266760"/>
            <a:ext cx="5029200" cy="830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Pravilnik o r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1857600" y="3768120"/>
            <a:ext cx="48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Ank. list poslodav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5622480" y="40374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Ank. list diplom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484280"/>
          <a:ext cx="914400" cy="71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4842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635280" y="1413000"/>
          <a:ext cx="914400" cy="714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5280" y="1413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7380360" y="1413000"/>
          <a:ext cx="914400" cy="714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80360" y="1413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23888"/>
                </a:solidFill>
                <a:latin typeface="Arial"/>
              </a:rPr>
              <a:t>Zaključak 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Formiranjem Savjetodavnog tijela za razvoj kurikuluma na Univerzitetu „Džemal Bijedić“ u Mostaru, omogućuje se svim učesnicima u procesu visokog obazovanja da adekvatnije i kvalitetnije učestvuju u poboljšanju kvaliteta nastavnog procesa i naučnoistraživačkog rada. Do izražaja će doći i mišljenje alumni studenata, predstavnika javnih i privatnih preduzeća, predstavnika biroa rada i s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 situaciji kada Univerzitet “Džemal Bijedić” u Mostaru, u prilikama u kojima se nalazi, nastoji planirati bolju saradnju sa okolinom, obezbjediti kvalitetnije studiranje svojim studentima, kao i obezjediti brzo zapošljavanje svojih svršenih studenata, jasno je da pitanju saradnje sa okolinom mora pristupiti oprezno,ozbiljno i studioz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iše informacija o Projektu na </a:t>
            </a:r>
            <a:r>
              <a:rPr b="0" lang="hr-HR" sz="2400" spc="-1" strike="noStrike">
                <a:solidFill>
                  <a:srgbClr val="211e54"/>
                </a:solidFill>
                <a:latin typeface="Arial"/>
              </a:rPr>
              <a:t>www.mf.unmo.ba/DzBijedic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23888"/>
                </a:solidFill>
                <a:latin typeface="Arial"/>
              </a:rPr>
              <a:t>Uvod 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Jedan od ciljeva svakog univerziteta svakako bi trebao biti i konstantna briga da se osigura univerzitetski kurikulum koji bi trebao pratiti tehničko-tehnološki razvoj privrede u cjeli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aradnja univerziteta sa privredom (bilo kroz saradnju sa industrijom, firmama, korporacijama i sl.) osigurava vitalni izvor informacija za reviziju i razvoj kurikuluma.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trateški cilj i pravac razvoja Univerziteta “Džemal Bijedić” u Mostaru u narednom periodu razvoja svakako jeste i jačanje veza sa privredom i industrijom, kao i omogućavanje uticaja stakeholdera na kvalitet nastavnih programa i institucije i na razvoj kurikulu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3933720"/>
            <a:ext cx="410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11e54"/>
                </a:solidFill>
                <a:latin typeface="Arial"/>
              </a:rPr>
              <a:t>Alim Abazović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11e54"/>
                </a:solidFill>
                <a:latin typeface="Arial"/>
              </a:rPr>
              <a:t>Kancelarija za osiguranje kvalit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11e54"/>
                </a:solidFill>
                <a:latin typeface="Arial"/>
              </a:rPr>
              <a:t>E-mail: alim.abazovic@unmo.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26370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11e54"/>
                </a:solidFill>
                <a:latin typeface="Arial"/>
              </a:rPr>
              <a:t>H V A L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3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23888"/>
                </a:solidFill>
                <a:latin typeface="Arial"/>
              </a:rPr>
              <a:t>Potreba za saradnjom Univerziteta i industrije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 bi se uspostavio određeni mehanizam efikasne i obostrano zadovoljavajuće  saradnje univerzitet-industrija izmeđo ostalog potrebno je i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11e54"/>
                </a:solidFill>
                <a:latin typeface="Arial"/>
              </a:rPr>
              <a:t>poznavati uslove rada, poslove i pratiti karijeru </a:t>
            </a:r>
            <a:r>
              <a:rPr b="0" lang="hr-HR" sz="2400" spc="-1" strike="noStrike">
                <a:solidFill>
                  <a:srgbClr val="211e54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11e54"/>
                </a:solidFill>
                <a:latin typeface="Arial"/>
              </a:rPr>
              <a:t>svršenih studenat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(informacije o polju rada,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nformacije o preduzećima, kompanijama gdje su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vršeni studenti zaposlen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11e54"/>
                </a:solidFill>
                <a:latin typeface="Arial"/>
              </a:rPr>
              <a:t>kreirati savjetodavno tijelo za razvoj kurikuluma </a:t>
            </a:r>
            <a:r>
              <a:rPr b="0" lang="hr-HR" sz="2400" spc="-1" strike="noStrike">
                <a:solidFill>
                  <a:srgbClr val="211e54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11e54"/>
                </a:solidFill>
                <a:latin typeface="Arial"/>
              </a:rPr>
              <a:t>sastavljeno od svih zainteresovanih u procesu </a:t>
            </a:r>
            <a:r>
              <a:rPr b="0" lang="hr-HR" sz="2400" spc="-1" strike="noStrike">
                <a:solidFill>
                  <a:srgbClr val="211e54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11e54"/>
                </a:solidFill>
                <a:latin typeface="Arial"/>
              </a:rPr>
              <a:t>saradnje Univerzitet-industrija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Glavne aktivnosti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vog tijela bi bile: evaluacija postojećih nastavnih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lanova i programa, davanje savjeta, primjedbi i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poruka za postojeće programe, kao i za otvar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ovih progr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00"/>
                </a:solidFill>
                <a:latin typeface="Arial"/>
              </a:rPr>
              <a:t>Moguće faze saradnje Univerziteta i industrije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ključivanje i ispitivanje svršenih studenata putem upitnika, intervjua i drugih oblika socioloških istraživanja i analiz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ključivanje poslodavac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spostavljanje savjetodavnog tijela za razvoj kurikulum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evizija i prilagođavanje studijskih programa potrebama industrije (i privrede u cjelin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poruke i mišljenje o otvaranju novih studiskih programa, is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LIMINARNI “CHECKLIST” SARADN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liko su potrebe industrije anticipirane u samoj definiciji kurikulum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Jesu li poslodavci zadovoljni nivoom profesionalnog znanja i vještinama koje studenti posjeduj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lika se pažnja posveću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)  Kompjuterskim vještin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)  Poslovnim vještin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)  Jezičkim vještin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)  Razvoju karij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23888"/>
                </a:solidFill>
                <a:latin typeface="Arial"/>
              </a:rPr>
              <a:t>Saradnja Univerzitet – industrija (privreda, okolina…)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00"/>
              </a:spcBef>
              <a:buClr>
                <a:srgbClr val="85d9f7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oji je odnos izmeđ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radicionalnih predavanja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edavanja i rada u malim grupama i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utortsv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ase study radov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aboratorijskih i radova van fakulteta (field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work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ompjuterski baziranog učenja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f)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aktičnih samostalnih ili grupnih projek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23888"/>
                </a:solidFill>
                <a:latin typeface="Arial"/>
              </a:rPr>
              <a:t>Saradnja Univerzitet – industrija (privreda, okolina…)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7adf"/>
                </a:solidFill>
                <a:latin typeface="Arial"/>
              </a:rPr>
              <a:t>4.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Postoje li procedure za nadz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5d9f7"/>
              </a:buClr>
              <a:buSzPct val="11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valiteta nastavno – naučnog procesa i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čenja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5d9f7"/>
              </a:buClr>
              <a:buSzPct val="115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Važnosti i uticaja univerziteta na industriju i okolinu uopš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5d9f7"/>
              </a:buClr>
              <a:buSzPct val="115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trebe za promjena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23888"/>
                </a:solidFill>
                <a:latin typeface="Arial"/>
              </a:rPr>
              <a:t>Saradnja Univerzitet – industrija (privreda, okolina…)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23888"/>
                </a:solidFill>
                <a:latin typeface="Arial"/>
              </a:rPr>
              <a:t>Analize 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ovedeno je istraživanje određenog broja alumni studenata i određenog broja javnih i privatnih preduzeć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okviru Tempus projekta „Quality management procedure for promoting university-enterprise cooperation“ u kojem je Univerzitet „Džemal Bijedić“ u Mostaru učestvovao kao partner u projektu, izvršeno je anketiranje 50 svršenih studenata Mašinskog i Građevinskog fakult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bog specifičnosti projekta i zbog veoma tijesne povezanosti sa industrijom anketirani su svršeni studenti Mašinskog i Građevinskog fakulteta, i to oni studenti koji su zaposleni i koji mogu dati konstruktivne prijedloge vezane za njihov studij na spomenutim fakultetima upravo iz perspekive „radnika“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23888"/>
                </a:solidFill>
                <a:latin typeface="Arial"/>
              </a:rPr>
              <a:t>Analiza – svršeni studenti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naliza rezultata svršenih studenata Mašinskog i Građevinskog fakulteta Univerziteta „Džemal Bijedić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nketni upitnik obuhvatao je sljedeće segm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lični podaci o ispitaniku, podaci o profesionalnoj karijeri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cjena profesionalne osposobljenosti,obrazovanje nakon diplomiranja,načini saradnje sa Univerzitetom u cilju poboljšanja kvaliteta studija na spomenutim fakultetima i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92360" y="4149720"/>
            <a:ext cx="54417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5:35:38Z</dcterms:created>
  <dc:creator>Customer</dc:creator>
  <dc:description/>
  <dc:language>en-US</dc:language>
  <cp:lastModifiedBy>Alim A.</cp:lastModifiedBy>
  <dcterms:modified xsi:type="dcterms:W3CDTF">2008-04-04T07:11:46Z</dcterms:modified>
  <cp:revision>20</cp:revision>
  <dc:subject/>
  <dc:title>PowerPoint Template</dc:title>
</cp:coreProperties>
</file>