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BED7-BE4C-474C-A73B-E06025E775D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1E5A-775A-481E-A84D-90483944A709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45B2-3EA2-47CA-A7C8-34D8046EA1DD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2448-40F1-4766-9E42-431CDB528152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BFBB-2DCF-4F6F-9EA1-D89A11E82029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C027-6F48-40C7-9A8F-1E61CD50DCB4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5C2F-4714-42D7-A316-871C7AB181B6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6662-FDCB-4DAD-B0ED-65AA6A91F9C6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57A8-73D6-46F8-8FCC-29D2DCFDB6FB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53AC-C8D8-4705-83D1-4E18FBFE1831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BC8C-F9E5-4557-BC36-6D9C6C7E2A2E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9F68-ED04-48C4-8D35-5988DD456243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1B64-D41E-46A5-B938-A42BD4AC6AB2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C08F-D65F-47EF-A099-E625B5464028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B107-0E3F-4987-B338-376459CC6AFD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D7C8-0C85-49D9-B168-269C44529CCD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8AE2-624F-4314-A649-7491DD64F888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E674-5169-44DA-AD55-05AA02FBBCD5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CED9-1BFF-46E8-83F4-891BDAD2C55C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123F-099B-47F1-98EE-058CD4DD6437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C8DA-299F-4DA5-A2BD-455D9D8DB79C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808A-8428-4A9A-BE6B-95F0167B028D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5384-D3C5-4401-8B8A-057562AC45ED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0441-5C32-4AC1-ADB1-B8E9B945AC2B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CBF7-6F60-4F00-98FF-94FC2619B983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2928-CC02-4D8F-A551-F1F97FFD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6D59-8B28-4D1C-850F-97433CAE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613-60C6-4FF7-9CE4-51BB6B44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550-7C0C-46EE-8522-6643787C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C84-EAFF-4D07-A326-D859C740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529-BAA9-440F-B7A9-8FBFAB5E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AA23-971E-4714-BFBC-65095686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34A4-A5B6-499F-ACD0-4F364EFA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BC16-03B7-4F82-9178-E7E2B8BD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CE9C-D571-4379-89DF-3E445D5B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3BBE-1F49-4D0A-AD3C-EEE11E8D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1510-4BCE-413E-BFF6-529BC051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86DC-8017-4304-9869-FF7E322B4197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bastian.baumann@gmail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Making sense of external evaluations in the light of the European Standards and Guidelines</a:t>
            </a:r>
            <a:r>
              <a:rPr b="0" lang="de-DE" sz="44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view into the “wh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81080" y="5943600"/>
            <a:ext cx="5410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Bastian Bauman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WUS Seminar, Belgrade, 9 May 20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tandard 2.1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tinuous improvement depends on the continuous internal quality assurance activities in an instit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ternal evaluations only happen every couple of years but main work is necessary in betw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imary responsibility for quality assurance lies with institu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tandard 2.2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aims and objectives of quality assurance processes should be determined before the processes themselves are developed, by all those responsible (including higher education institutions) and should be published with a description of the procedures to be use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tandard 2.2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ansparency of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arity of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wnership (joint develop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t overly prescrip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tandard 2.3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y formal decisions made as a result of an external quality assurance activity should be based on explicit published criteria that are applied consistently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tandard 2.3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qual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sistent interpretation of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corded 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tandard 2.4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l external quality assurance processes should be designed specifically to ensure their fitness to achieve the aims and objectives set for them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tandard 2.4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viewers’ skills –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ependence of exp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national com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udent invol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propriateness of procedure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lf evaluation / site-visit / draft report / published report / follow-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oint understanding of enhancement as a feature of Q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tandard 2.5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ports should be published and should be written in a style which is clear and readily accessible to its intended readership. Any decisions, commendations or recommendations contained in reports should be easy for a reader to fin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tandard 2.5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eting the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scription / analysis / conclusions / recomme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countable to 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dable for public and available for pub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ear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asy to find conclusions / recommend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tandard 2.6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ality assurance processes which contain recommendations for action or which require a subsequent action plan, should have a predetermined follow-up procedure which is implemented consistently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What are external evaluations there for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t just for the sake of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coun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ha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tandard 2.6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llow-up from recomme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uctured approach of follow-up proced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etings and discu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tandard 2.7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ternal quality assurance of institutions and/or programmes should be undertaken on a cyclical basis. The length of the cycle and the review procedures to be used should be clearly defined and published in advanc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tandard 2.7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t sta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sponsiveness to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iable in the long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t too often / sel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cretely look at prog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tandard 2.8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ality assurance agencies should produce from time to time summary reports describing and analysing the general findings of their reviews, evaluations, assessments etc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tandard 2.8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rovement of whol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de and in-depth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bastian.baumann@gmail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Accountability - Rationale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xp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ciety generally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(e.g. judges, doctors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Accountability - Feature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li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reshold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iteria are the same for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ing point is auth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trol” / Accredit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nhancement - Rationale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tinuous impr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cientific, technological, economic, cultural and social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dentifying opport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nhancement - Feature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t just threshold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rovements are alway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ividual fo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ing point is institution / 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Why European Standards and Guidelines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ologna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uropean Co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g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SG - Structur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veloped jointly by institutions, students and agen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dopted by Ministers in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 1: Internal quality assu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 2: External quality assu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 3: Quality assurance agen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cus on Part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tandard 2.1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ternal quality assurance procedures should take into account the effectiveness of the internal quality assurance processes described in Part 1 of the European Standards and Guideline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08:02:54Z</dcterms:created>
  <dc:creator>Office 2004 Test Drive-Benutzer</dc:creator>
  <dc:description/>
  <dc:language>en-US</dc:language>
  <cp:lastModifiedBy>Bastian</cp:lastModifiedBy>
  <dcterms:modified xsi:type="dcterms:W3CDTF">2011-05-09T13:39:03Z</dcterms:modified>
  <cp:revision>56</cp:revision>
  <dc:subject/>
  <dc:title>The Magna Charta Observatory</dc:title>
</cp:coreProperties>
</file>