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1A5B-59AB-4B5A-83F7-EAFDA5E4041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E5E7-9FDB-4256-8527-236BB442E9F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E22A-F80F-4DFC-AE21-376DEC3E868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458-48F9-4151-9172-93F2869F07D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C74E-D1F3-4562-9D52-2A77ADC3A5E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3D9-D26D-4A25-866E-725AD4E7FF0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A09-A0C4-49F0-B38A-78D32512732C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4CC-EDA6-45CA-81E0-B54B28EFBED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EEE9-BB9E-4C64-9217-909D43217D8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DCE8-AB50-423B-A945-87AF414D9ADD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3031-2E1F-4AB7-9C85-0F2A7CEB3AD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496-ECF0-4068-9E11-5955E51DBDC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740-44EE-4CBE-A5B1-60AB1DB4D510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ACD-BE5C-4F31-9815-1B69D67A0F88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E5C-7B3C-48AF-A7A5-80FC69FBB72A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9013-1CE1-4003-9936-2C3A91CA8955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4AB-F142-4C9D-94CB-F41D59AD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4E6-CCF5-40EB-B1EC-1F28D8F8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028-EDC6-4B15-AE7F-AB5F2D87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4EE-3F53-44F5-8328-B8DC41DB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708-46BF-4E02-823A-E9190123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EB0-C835-454D-9266-FECCF6D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B98-6685-4159-9C6D-A41EB210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558-5B67-4678-B2AE-8190C0C3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C2F-83DC-4292-8CB1-7C17A529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09C-16F8-4D80-956E-FB097566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8C6-0213-47C7-857A-01331EAB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C51-0BFF-4835-8D4D-A639211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D8FC-3641-4C07-9494-EC052323D292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xternal Evaluation of the Faculty of Medicine, University of Niš</a:t>
            </a:r>
            <a:r>
              <a:rPr b="0" lang="de-DE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ase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81080" y="5943600"/>
            <a:ext cx="5410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Bastian Bauman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US Seminar, Belgrade, 10 May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Process UNFM I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mediat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te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ways recommendations that are not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ort “owned” by UN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 - Proces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y eager, good first draft - but far from per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lised opportunity (expert help, financed, no strings attach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gnificant effort put into improving the self evaluatio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f-evaluation team, but time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ther top-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mination within UN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I - Structur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ngthy (30 pages max., some annex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roduction: basic in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cific sections (followed the Serbian standards), each with SWOT analysis, each linked to institutional 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ssing institutional mission as red 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ation between UNFM and UN mi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II - SWO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rected at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ed to be evidence / fact b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-opening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l weaknesses should be addressed by action or remed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ems referred to sometimes out of the b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ulations might be a weak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UNFM Specific Impressions IV - Conten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ary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iculty of analysis due to lack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rop-out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verage time to grad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Items Addressed In The External repor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 on Bologna, strategy, 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agement and decision making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ent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ome General Recommendations UNF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ommendations on each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rategic action plan with prior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mination / internal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le of the Quality C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entral usage of some data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ncil of Europe Project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“Strengthening Higher Education reform in Serbi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main streams (Qualification Frameworks, Recognition, Quality Assur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Quality assurance stre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ral aim: Promoting a culture of internal quality as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ral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oluntary participation by HE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ing point: self-evaluatio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General impressions - Self Evaluation Reports 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orts for the purpose of accred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ce of purposes accreditation /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sing threshold /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weaknesses rather in evaluation than accreditation (marke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ttle analytical, self critical, reflective, improvement ori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General impressions - Self Evaluation Reports I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tements without supporting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liance men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liance with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s themselves sometimes not really triggering quality enh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liance with laws and re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d th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General impressions - Self Evaluation Reports II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t all relevant issues addres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itutional mission and vision entirely disreg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ality assurance perceived as control, inspection, police (langu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dentifying shortcomings considered as weakness, not as opport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hat A Self Evaluation Report Should Address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institution trying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ssion and 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is the institution trying to do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es the institution kn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alu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es the institution plan to change in order to impr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ationales for Self Evaluation Report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in material for evalu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ability, comprehens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y do not know the H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question might they h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trengths and weaknesses visible to leadership and acade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ding to discussions and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Process UNFM I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rst self evaluatio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cond version of the self evaluation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ternal visit (talks with 70 peo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3:48:21Z</dcterms:created>
  <dc:creator>Office 2004 Test Drive-Benutzer</dc:creator>
  <dc:description/>
  <dc:language>en-US</dc:language>
  <cp:lastModifiedBy>Bastian</cp:lastModifiedBy>
  <dcterms:modified xsi:type="dcterms:W3CDTF">2011-05-09T13:50:03Z</dcterms:modified>
  <cp:revision>40</cp:revision>
  <dc:subject/>
  <dc:title>The Magna Charta Observatory</dc:title>
</cp:coreProperties>
</file>