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D119-FDB4-4DDE-9CB2-5E6D06A37983}" type="slidenum">
              <a:rPr b="0" lang="hr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0EFE-D760-4C66-89AB-C4DC66DD39D8}" type="slidenum">
              <a:rPr b="0" lang="hr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B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E505-3665-4CD5-8D45-ED480B2F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F982-B95B-4B2B-9A8B-4793FDE8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613B-4BBB-46AD-BAF9-1776CFCB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2D79-BEAB-4E06-9FFD-F07523FF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B8F5-7293-4E23-8297-FE200EDD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F572-3C31-45F4-9273-881BC90B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64D0-9795-4A39-9529-B465CC42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A17C-577B-4326-AB86-F8C31816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086E-DE2F-4B7D-A13C-E58F49A0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FF67-37E8-4DC6-BC15-4F5B1106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99B9-FD03-4931-9F4B-63101BD5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BAB0-3676-435C-82D0-AB47A24B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45C6-E4BE-43F6-B518-5B9FAF98DD54}" type="slidenum">
              <a:rPr b="0" lang="hr-B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Accreditation and External Evaluation of HE  Institutions in Serbi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1920" y="50288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WUS CA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eminar “External Evaluation of HE Institution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May 9-10, 2011 , Bel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62120" y="3886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a Vuj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čić, CAQA Presi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ining of Stu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U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CAQ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held 1 seminar in October 2010 for training of students for accredit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sult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 pool of 50 trained students nominated by SKONUS for accreditation process (about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stitution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eports in the accreditation ph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U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Q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ill organize one seminar in June 2011 for training  of students for external quality assesment  (about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eports in the external QA ph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914400" y="719640"/>
            <a:ext cx="67816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The Law on Higher Education (2005, 201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04920" y="1756440"/>
            <a:ext cx="36576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057400"/>
                <a:tab algn="ctr" pos="2986200"/>
                <a:tab algn="r" pos="5972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 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819520" y="4343400"/>
            <a:ext cx="5486400" cy="1008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COMMISSION FOR ACCREDITATION AND QUALITY ASSURANCE (CAQ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15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04920" y="4347000"/>
            <a:ext cx="213336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057400"/>
                <a:tab algn="ctr" pos="2986200"/>
                <a:tab algn="r" pos="5972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STRY OF EDUCATION (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33520" y="2638800"/>
            <a:ext cx="3276360" cy="131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2057400"/>
                <a:tab algn="ctr" pos="2986200"/>
                <a:tab algn="r" pos="5972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ATIONAL COUNCIL OF HIGHER EDUCATION (NC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2057400"/>
                <a:tab algn="ctr" pos="2986200"/>
                <a:tab algn="r" pos="5972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1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828800" y="6095880"/>
            <a:ext cx="7162920" cy="398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굴림"/>
              </a:rPr>
              <a:t>Institutions of higher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5715000" y="1523880"/>
            <a:ext cx="3200400" cy="703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Conference of Serbian Univer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4876920" y="2895480"/>
            <a:ext cx="3886200" cy="703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Conference of professional schools princip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>
            <a:off x="304920" y="2133720"/>
            <a:ext cx="0" cy="2286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2286000" y="2133720"/>
            <a:ext cx="0" cy="4572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8686800" y="3657600"/>
            <a:ext cx="0" cy="2438280"/>
          </a:xfrm>
          <a:prstGeom prst="line">
            <a:avLst/>
          </a:prstGeom>
          <a:ln w="255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>
            <a:off x="8991720" y="2362320"/>
            <a:ext cx="0" cy="3733560"/>
          </a:xfrm>
          <a:prstGeom prst="line">
            <a:avLst/>
          </a:prstGeom>
          <a:ln w="255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 flipH="1">
            <a:off x="3962520" y="1752480"/>
            <a:ext cx="17524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1981080" y="1219320"/>
            <a:ext cx="38124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6"/>
          <p:cNvSpPr/>
          <p:nvPr/>
        </p:nvSpPr>
        <p:spPr>
          <a:xfrm>
            <a:off x="2057400" y="3962520"/>
            <a:ext cx="0" cy="3808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7"/>
          <p:cNvSpPr/>
          <p:nvPr/>
        </p:nvSpPr>
        <p:spPr>
          <a:xfrm>
            <a:off x="4343400" y="228600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8"/>
          <p:cNvSpPr/>
          <p:nvPr/>
        </p:nvSpPr>
        <p:spPr>
          <a:xfrm>
            <a:off x="5410080" y="54100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9"/>
          <p:cNvSpPr/>
          <p:nvPr/>
        </p:nvSpPr>
        <p:spPr>
          <a:xfrm>
            <a:off x="2057400" y="525780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0" descr="Srbija mali grb za word"/>
          <p:cNvPicPr/>
          <p:nvPr/>
        </p:nvPicPr>
        <p:blipFill>
          <a:blip r:embed="rId1"/>
          <a:stretch/>
        </p:blipFill>
        <p:spPr>
          <a:xfrm>
            <a:off x="0" y="0"/>
            <a:ext cx="723960" cy="10191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1"/>
          <p:cNvSpPr/>
          <p:nvPr/>
        </p:nvSpPr>
        <p:spPr>
          <a:xfrm>
            <a:off x="609480" y="594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057400"/>
                <a:tab algn="ctr" pos="2986200"/>
                <a:tab algn="r" pos="5972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 of Quality Assurance in Ser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2"/>
          <p:cNvSpPr/>
          <p:nvPr/>
        </p:nvSpPr>
        <p:spPr>
          <a:xfrm>
            <a:off x="7696080" y="914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3"/>
          <p:cNvSpPr/>
          <p:nvPr/>
        </p:nvSpPr>
        <p:spPr>
          <a:xfrm>
            <a:off x="7238880" y="12193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4"/>
          <p:cNvSpPr/>
          <p:nvPr/>
        </p:nvSpPr>
        <p:spPr>
          <a:xfrm>
            <a:off x="3809880" y="335268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5"/>
          <p:cNvSpPr/>
          <p:nvPr/>
        </p:nvSpPr>
        <p:spPr>
          <a:xfrm>
            <a:off x="4343400" y="2286000"/>
            <a:ext cx="0" cy="2057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6"/>
          <p:cNvSpPr/>
          <p:nvPr/>
        </p:nvSpPr>
        <p:spPr>
          <a:xfrm>
            <a:off x="3429000" y="39625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7"/>
          <p:cNvSpPr/>
          <p:nvPr/>
        </p:nvSpPr>
        <p:spPr>
          <a:xfrm flipH="1">
            <a:off x="2437920" y="480060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5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762120" y="673920"/>
            <a:ext cx="761976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ccording to the Law, quality assurance is based 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andards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elf-assessment of institution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andards for external quality assessment of institution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2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tandards for accreditation of the high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굴림"/>
              </a:rPr>
              <a:t>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education institutions and study progra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Proposed by CAQA, approved by NCHE in October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1300320" y="101520"/>
            <a:ext cx="67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ystem of Quality Assurance in Ser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685800" y="3276720"/>
            <a:ext cx="7713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Is:   - Self-assesment  (3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QA: - Accreditation of HEIs and study programs (5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External quality assessment of HEIs (5 yea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ween two accreditations)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CHE: - Decides upon appeals on negative decisions i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reditation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Gives a grade of fulfillment of HE institution’s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ance obligations on the basis of CAQA’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80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2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64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64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1828800" y="31179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6095880" y="2355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533520" y="762120"/>
            <a:ext cx="7543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609480" y="68580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itution submits the accreditation request supported by the data and documen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1676520"/>
            <a:ext cx="289548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505320" y="1523880"/>
            <a:ext cx="472428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1981080" y="121680"/>
            <a:ext cx="55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Accreditation Proced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52280" y="16347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QA  forms a sub-commission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3505320" y="152352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QA designates two reviewers for the institution and each study program (800 refere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4876920" y="2588400"/>
            <a:ext cx="33526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viewers submit reports to the sub-commi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762120" y="3421800"/>
            <a:ext cx="723888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b-commission makes a draft report and presents it to CA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533520" y="2590920"/>
            <a:ext cx="3124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b-commi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s the institution-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3056760" y="4036320"/>
            <a:ext cx="2881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QA  m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creditation decis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2971800" y="4957200"/>
            <a:ext cx="3048120" cy="119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pts the accreditation request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ts t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reditation Certific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6781680" y="4722120"/>
            <a:ext cx="198144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cred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617040" y="4917960"/>
            <a:ext cx="2096280" cy="1465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p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ci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gives an ac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instit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8"/>
          <p:cNvSpPr/>
          <p:nvPr/>
        </p:nvSpPr>
        <p:spPr>
          <a:xfrm>
            <a:off x="1371600" y="1219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2895480" y="19749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0"/>
          <p:cNvSpPr/>
          <p:nvPr/>
        </p:nvSpPr>
        <p:spPr>
          <a:xfrm>
            <a:off x="16002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1"/>
          <p:cNvSpPr/>
          <p:nvPr/>
        </p:nvSpPr>
        <p:spPr>
          <a:xfrm>
            <a:off x="6095880" y="3270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2"/>
          <p:cNvSpPr/>
          <p:nvPr/>
        </p:nvSpPr>
        <p:spPr>
          <a:xfrm>
            <a:off x="4419720" y="380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3"/>
          <p:cNvSpPr/>
          <p:nvPr/>
        </p:nvSpPr>
        <p:spPr>
          <a:xfrm>
            <a:off x="441972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6019920" y="4336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5"/>
          <p:cNvSpPr/>
          <p:nvPr/>
        </p:nvSpPr>
        <p:spPr>
          <a:xfrm flipH="1">
            <a:off x="1447560" y="4336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6"/>
          <p:cNvSpPr/>
          <p:nvPr/>
        </p:nvSpPr>
        <p:spPr>
          <a:xfrm flipH="1">
            <a:off x="228600" y="5708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7"/>
          <p:cNvSpPr/>
          <p:nvPr/>
        </p:nvSpPr>
        <p:spPr>
          <a:xfrm flipV="1">
            <a:off x="228600" y="372708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8"/>
          <p:cNvSpPr/>
          <p:nvPr/>
        </p:nvSpPr>
        <p:spPr>
          <a:xfrm>
            <a:off x="228600" y="37274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9"/>
          <p:cNvSpPr/>
          <p:nvPr/>
        </p:nvSpPr>
        <p:spPr>
          <a:xfrm>
            <a:off x="1447920" y="4336920"/>
            <a:ext cx="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0"/>
          <p:cNvSpPr/>
          <p:nvPr/>
        </p:nvSpPr>
        <p:spPr>
          <a:xfrm>
            <a:off x="7315200" y="4336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1"/>
          <p:cNvSpPr/>
          <p:nvPr/>
        </p:nvSpPr>
        <p:spPr>
          <a:xfrm>
            <a:off x="6705720" y="5936760"/>
            <a:ext cx="220968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al to the National Council of Higher Edu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2"/>
          <p:cNvSpPr/>
          <p:nvPr/>
        </p:nvSpPr>
        <p:spPr>
          <a:xfrm>
            <a:off x="7696080" y="5403960"/>
            <a:ext cx="0" cy="53316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4"/>
          <p:cNvSpPr/>
          <p:nvPr/>
        </p:nvSpPr>
        <p:spPr>
          <a:xfrm>
            <a:off x="6659640" y="56307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5"/>
          <p:cNvSpPr/>
          <p:nvPr/>
        </p:nvSpPr>
        <p:spPr>
          <a:xfrm flipH="1">
            <a:off x="228600" y="365760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36"/>
          <p:cNvSpPr/>
          <p:nvPr/>
        </p:nvSpPr>
        <p:spPr>
          <a:xfrm flipH="1">
            <a:off x="7238880" y="434340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3128040" y="6399720"/>
            <a:ext cx="3381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licenses (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8"/>
          <p:cNvSpPr/>
          <p:nvPr/>
        </p:nvSpPr>
        <p:spPr>
          <a:xfrm>
            <a:off x="4343400" y="6095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5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50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5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450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Accreditation Results 2007-2010: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Schools for higher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rebuchet MS"/>
              </a:rPr>
              <a:t>Accredited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65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schools for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higher professional education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(SHPE) with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314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study programs (225 OSS+ 89 SSS) for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20.578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students in the first y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schools for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higher academic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SHAE) with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5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tudy programs (7 OAS+ 6 DAS + 1 SAS+ 1 SSS) for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112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rebuchet MS"/>
              </a:rPr>
              <a:t>Rejected: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3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SHPE and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94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programs OSS and S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program OAS on SHAE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rebuchet MS"/>
              </a:rPr>
              <a:t>Act of Warning: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22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grams OSS and SSS on SH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SHAE and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programs OAS, DAS,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rebuchet MS"/>
              </a:rPr>
              <a:t>In process: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9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grams OSS and SSS on SH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Accreditation Results 2007-2010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Univers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rebuchet MS"/>
              </a:rPr>
              <a:t>Accredited: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3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niversities</a:t>
            </a:r>
            <a:r>
              <a:rPr b="0" lang="en-US" sz="2800" spc="-1" strike="noStrike">
                <a:solidFill>
                  <a:srgbClr val="ff33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state,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ivate)</a:t>
            </a:r>
            <a:r>
              <a:rPr b="0" lang="en-US" sz="2800" spc="-1" strike="noStrike">
                <a:solidFill>
                  <a:srgbClr val="ff33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12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faculties with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182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study programs for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63.727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students (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84%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state,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6%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priv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182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468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OAS+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446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DAS+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200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DS+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28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IAS+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40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SAS/S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Trebuchet MS"/>
              </a:rPr>
              <a:t>Rejected: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faculties and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56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Trebuchet MS"/>
              </a:rPr>
              <a:t>Act of Warning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7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aculties and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21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pro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Trebuchet MS"/>
              </a:rPr>
              <a:t>In process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private universities,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aculties,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80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QA activiti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1-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ternal Quality Assessment of HE Instit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11: Schools for Higher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12: Universities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reditation of new HE Institutions and study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lication for full ENQA member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s of September 22, 2010 CAQA is ENQA Candidate Member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2"/>
          <p:cNvSpPr/>
          <p:nvPr/>
        </p:nvSpPr>
        <p:spPr>
          <a:xfrm>
            <a:off x="1828800" y="31179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"/>
          <p:cNvSpPr/>
          <p:nvPr/>
        </p:nvSpPr>
        <p:spPr>
          <a:xfrm>
            <a:off x="6095880" y="2355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3520" y="762120"/>
            <a:ext cx="7543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09480" y="68580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itution submits the self-evaluation report supported by the data and documen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1676520"/>
            <a:ext cx="289548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505320" y="1523880"/>
            <a:ext cx="472428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457200" y="123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External Quality Assessment Procedure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152280" y="16347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QA  forms a sub-commiss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 stud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3505320" y="165996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QA designates two reviewers for the institution (800 refere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4876920" y="2588400"/>
            <a:ext cx="33526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viewers submit reports to the sub-commi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762120" y="3421800"/>
            <a:ext cx="723888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b-commission makes a draft report and presents it to CA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533520" y="2590920"/>
            <a:ext cx="3124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b-commi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s the institution-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2528280" y="4040280"/>
            <a:ext cx="365832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Q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s the report on external Q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2057400" y="4971600"/>
            <a:ext cx="4800600" cy="1191240"/>
          </a:xfrm>
          <a:prstGeom prst="rect">
            <a:avLst/>
          </a:prstGeom>
          <a:solidFill>
            <a:srgbClr val="ff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QA sends the report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E institution an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HE, which gives a grade of fulfillmen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institution’s quality assurance oblig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8"/>
          <p:cNvSpPr/>
          <p:nvPr/>
        </p:nvSpPr>
        <p:spPr>
          <a:xfrm>
            <a:off x="1371600" y="1219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>
            <a:off x="2895480" y="19749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16002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6095880" y="3270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426708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434340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8"/>
          <p:cNvSpPr/>
          <p:nvPr/>
        </p:nvSpPr>
        <p:spPr>
          <a:xfrm>
            <a:off x="304920" y="3733920"/>
            <a:ext cx="46080" cy="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4"/>
          <p:cNvSpPr/>
          <p:nvPr/>
        </p:nvSpPr>
        <p:spPr>
          <a:xfrm>
            <a:off x="6659640" y="56307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36"/>
          <p:cNvSpPr/>
          <p:nvPr/>
        </p:nvSpPr>
        <p:spPr>
          <a:xfrm flipH="1">
            <a:off x="7238880" y="434340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5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5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6500"/>
                            </p:stCondLst>
                            <p:childTnLst>
                              <p:par>
                                <p:cTn id="4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850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ining of Refer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Q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hel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minars for training of referees for accredit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ult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 pool of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rained referees for accreditation reports (about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ports in the accreditation ph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U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Q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ganize this seminar as 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the first seminar for training  of referees for external quality assesment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about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ports in the external QA ph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4:26:06Z</dcterms:created>
  <dc:creator>ajam</dc:creator>
  <dc:description/>
  <dc:language>en-US</dc:language>
  <cp:lastModifiedBy>Vera Vujcic</cp:lastModifiedBy>
  <dcterms:modified xsi:type="dcterms:W3CDTF">2011-05-05T17:24:08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