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ED45-E1C9-41CF-B0EF-8C1A1EAB9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2EE5-E5EB-4F4D-9287-2DB4E57C5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F8A-C784-4BDC-BD2A-27CD02D4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20E-9747-4C9A-9992-78CB7F83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C5C-3228-431F-9801-D044323C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3C1-AC76-4FEA-993E-E2C07AA6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36B-8ABB-407C-8D62-C59160C2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A48-4139-4EAB-91F8-D6AD4C3B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CC6-5B47-4D66-9A66-2C08047D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AB6-39CC-44DC-98E2-10D51E61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1CC-2F97-4349-B1DA-FFC0F5AD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712-311D-467E-B38A-67AE6AD0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98F-E2AF-4DFC-9FE6-5AE2CFB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D41-6291-4D6F-B03F-A111382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7D9A-BD7B-438A-A30A-DA8FC48A57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4000" spc="-1" strike="noStrike">
                <a:solidFill>
                  <a:srgbClr val="000000"/>
                </a:solidFill>
                <a:latin typeface="Calibri"/>
                <a:ea typeface="Calibri"/>
              </a:rPr>
              <a:t>Komponenta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br>
              <a:rPr sz="4000"/>
            </a:br>
            <a:r>
              <a:rPr b="0" lang="ta-IN" sz="4000" spc="-1" strike="noStrike">
                <a:solidFill>
                  <a:srgbClr val="000000"/>
                </a:solidFill>
                <a:latin typeface="Calibri"/>
                <a:ea typeface="Calibri"/>
              </a:rPr>
              <a:t>Aktivnosti i očekivani isho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Calibri"/>
              </a:rPr>
              <a:t>Divna </a:t>
            </a:r>
            <a:r>
              <a:rPr b="0" lang="hr-HR" sz="2200" spc="-1" strike="noStrike">
                <a:solidFill>
                  <a:srgbClr val="898989"/>
                </a:solidFill>
                <a:latin typeface="Calibri"/>
                <a:ea typeface="Calibri"/>
              </a:rPr>
              <a:t>Šipovi</a:t>
            </a:r>
            <a:r>
              <a:rPr b="0" lang="mk-MK" sz="2200" spc="-1" strike="noStrike">
                <a:solidFill>
                  <a:srgbClr val="898989"/>
                </a:solidFill>
                <a:latin typeface="Calibri"/>
                <a:ea typeface="Calibri"/>
              </a:rPr>
              <a:t>ќ,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Calibri"/>
              </a:rPr>
              <a:t>Ed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200" spc="-1" strike="noStrike">
                <a:solidFill>
                  <a:srgbClr val="898989"/>
                </a:solidFill>
                <a:latin typeface="Calibri"/>
                <a:ea typeface="Latha"/>
              </a:rPr>
              <a:t>Uvodna konferencija projekta Poboljšanje sustava stručnog usavršavanja odgojno-obrazovnih radni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Calibri"/>
              </a:rPr>
              <a:t>12</a:t>
            </a:r>
            <a:r>
              <a:rPr b="0" lang="ta-IN" sz="2200" spc="-1" strike="noStrike">
                <a:solidFill>
                  <a:srgbClr val="898989"/>
                </a:solidFill>
                <a:latin typeface="Calibri"/>
                <a:ea typeface="Calibri"/>
              </a:rPr>
              <a:t>. lipnja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Calibri"/>
              </a:rPr>
              <a:t> 2012</a:t>
            </a:r>
            <a:r>
              <a:rPr b="0" lang="ta-IN" sz="2200" spc="-1" strike="noStrike">
                <a:solidFill>
                  <a:srgbClr val="898989"/>
                </a:solidFill>
                <a:latin typeface="Calibri"/>
                <a:ea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5960"/>
            <a:ext cx="822960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000" spc="-1" strike="noStrike">
                <a:solidFill>
                  <a:srgbClr val="000000"/>
                </a:solidFill>
                <a:latin typeface="Calibri"/>
                <a:ea typeface="Calibri"/>
              </a:rPr>
              <a:t>Svrha K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  <a:ea typeface="Calibri"/>
              </a:rPr>
              <a:t>2:</a:t>
            </a:r>
            <a:br>
              <a:rPr sz="3000"/>
            </a:br>
            <a:r>
              <a:rPr b="0" lang="ta-IN" sz="3000" spc="-1" strike="noStrike">
                <a:solidFill>
                  <a:srgbClr val="000000"/>
                </a:solidFill>
                <a:latin typeface="Calibri"/>
                <a:ea typeface="Calibri"/>
              </a:rPr>
              <a:t>Priprema AZOO strategije stručnog usavršavanja odgojno-obrazovnih radnika 2014.-2020. na temelju analize stručnog usavršavanja odgojno-obrazovnih radnika i izvješća o potrebama za stručnim usavršavanjem s preporukama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36111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300" spc="-1" strike="noStrike">
                <a:solidFill>
                  <a:srgbClr val="000000"/>
                </a:solidFill>
                <a:latin typeface="Calibri"/>
                <a:ea typeface="Calibri"/>
              </a:rPr>
              <a:t>Strategija će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000000"/>
                </a:solidFill>
                <a:latin typeface="Calibri"/>
                <a:ea typeface="Calibri"/>
              </a:rPr>
              <a:t>Definirati aktivnosti koje će se baviti pitanjima koja zahtijevaju poboljšanj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000000"/>
                </a:solidFill>
                <a:latin typeface="Calibri"/>
                <a:ea typeface="Calibri"/>
              </a:rPr>
              <a:t>Odrediti dugoročni plan za daljnji razvoj stručnog usavršavanja odgojno-obrazovnih radnika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Calibri"/>
              </a:rPr>
              <a:t>Sudionici</a:t>
            </a: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 K2 i njihove ulo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.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ea typeface="Calibri"/>
              </a:rPr>
              <a:t>Radna skupin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128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ea typeface="Calibri"/>
              </a:rPr>
              <a:t>Upravljat će provedbom aktivnosti u K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128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800" spc="-1" strike="noStrike">
                <a:solidFill>
                  <a:srgbClr val="000000"/>
                </a:solidFill>
                <a:latin typeface="Calibri"/>
                <a:ea typeface="Calibri"/>
              </a:rPr>
              <a:t>Članove radne skupine imenuje ravnatelj AZOO-a prema dogovorenim kriterij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12880" indent="-279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I.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ea typeface="Calibri"/>
              </a:rPr>
              <a:t>AZOO voditeljica 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1288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S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Sanja Urek,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ea typeface="Calibri"/>
              </a:rPr>
              <a:t>pomoćnica ravnatelja AZOO-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ea typeface="Calibri"/>
              </a:rPr>
              <a:t>koordinira aktivnosti RS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II.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ea typeface="Calibri"/>
              </a:rPr>
              <a:t>Ključni stručnjak na projektu za razvoj strategija stručnog usavršavan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Divn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Calibri"/>
              </a:rPr>
              <a:t>Šipovi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  <a:ea typeface="Calibri"/>
              </a:rPr>
              <a:t>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ta-IN" sz="2800" spc="-1" strike="noStrike">
                <a:solidFill>
                  <a:srgbClr val="000000"/>
                </a:solidFill>
                <a:latin typeface="Calibri"/>
                <a:ea typeface="Calibri"/>
              </a:rPr>
              <a:t>podrška aktivnostima R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Glavne aktivnosti u 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6348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. </a:t>
            </a:r>
            <a:r>
              <a:rPr b="1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Faza anal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Analizirati postojeću strategiju stručnog usavršavanja odgojno-obrazovnih radnika 2009.-2013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Analizirati zakone koji reguliraju stručno usavršavanje odgojno-obrazovnih rad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Dva studijska posjeta u odabrane zemlje EU da bi se istražio njihov sustav stručnog usavršavanja odgojno-obrazovnih rad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I. </a:t>
            </a:r>
            <a:r>
              <a:rPr b="1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Faz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Radionica za izradu strateških dokumen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Razvoj AZOO strategije stručnog usavršavanja odgojno-obrazovnih radnika 2014.-202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II. </a:t>
            </a:r>
            <a:r>
              <a:rPr b="1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Faza predstavlj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Predstavljanje strategije Upravnom odboru AZOO-a i RS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Objava strategije na engleskom i hrvatskom jezi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Cilje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Faza anal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Odrediti trenutne zahtjeve i ograničenja za provedbu stručnog usavršavanja odgojno-obrazovnih rad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Identificirati neslaganja između stručnog usavršavanja, profesionalnog razvoja i razvoja karijere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Odrediti područja zakonodavstva u kojima je nužna izmjena radi provođenja učinkovitijeg stručnog usavršavanja odgojno-obrazovnih rad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Istražiti dva modela dobro uspostavljenog, djelotvornog i učinkovitog stručnog usavršavanja odgojno-obrazovnih radni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Procijeniti mogu li se i na koji način oni prilagoditi i primijeniti u Hrvatsko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Odrediti minimum podataka koji se mora sakupiti za nadzor i izvješće o stručnom usavršavanju odgojno-obrazovnih rad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Cilje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Faza razv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200" spc="-1" strike="noStrike">
                <a:solidFill>
                  <a:srgbClr val="000000"/>
                </a:solidFill>
                <a:latin typeface="Calibri"/>
                <a:ea typeface="Calibri"/>
              </a:rPr>
              <a:t>Nacrt strategije koja se temelji na načelima strateškog planiranja, rezultati analize K1 i K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Faza predstavlj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200" spc="-1" strike="noStrike">
                <a:solidFill>
                  <a:srgbClr val="000000"/>
                </a:solidFill>
                <a:latin typeface="Calibri"/>
                <a:ea typeface="Calibri"/>
              </a:rPr>
              <a:t>Prikupiti komentare i podršku za strategiju i njeno usvaj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Latha"/>
              </a:rPr>
              <a:t>Očekivani rezulta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ta-IN" sz="3600" spc="-1" strike="noStrike">
                <a:solidFill>
                  <a:srgbClr val="000000"/>
                </a:solidFill>
                <a:latin typeface="Calibri"/>
                <a:ea typeface="Calibri"/>
              </a:rPr>
              <a:t>Usvojena AZOO strategija stručnog usavršavanja odgojno-obrazovnih radnika 2014.-2020. koja služi kao osnova za dugoročni razvoj stručnog usavršavanja odgojno-obrazovnih radnika koji vodi njihovom profesionalnom razvoju i razvoju karije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5:16:30Z</dcterms:created>
  <dc:creator> Paul Roeders</dc:creator>
  <dc:description/>
  <dc:language>en-US</dc:language>
  <cp:lastModifiedBy>Michaela</cp:lastModifiedBy>
  <dcterms:modified xsi:type="dcterms:W3CDTF">2012-07-04T07:11:34Z</dcterms:modified>
  <cp:revision>123</cp:revision>
  <dc:subject/>
  <dc:title>Slide 1</dc:title>
</cp:coreProperties>
</file>