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  <p:custShowLst>
    <p:custShow name="Custom Show 1" id="0">
      <p:sldLst>
        <p:sld r:id="rId5"/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14A-8468-4302-92A0-7D6FE63F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2F4-35D5-4455-BA1E-CA72CDBC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6DF-0172-4D80-ADBA-EB1F7A0F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E03-A8F7-469A-8F1D-EABCE721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B9A-2670-479B-83F4-BF9AE685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AB7-E527-445E-8961-D1BB71A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0D5-CE22-41B7-AC90-CE0315BF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166-61A7-4BFD-BEF3-0919B645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CC4-8505-4C1A-81A0-BAEADA5A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AAF-0910-499D-B310-39010ADD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8E9-99A9-4C81-AC94-F8960883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D1D-1B6D-4ECE-9156-A02EFD53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8BF86-D446-410E-8272-BA08C243A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Komponenta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br>
              <a:rPr sz="4400"/>
            </a:b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Aktivnosti i očekivani rezult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r. Sergij Gabrš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Latha"/>
              </a:rPr>
              <a:t>Uvodna konferencija projekta Poboljšanje sustava stručnog usavršavanja odgojno-obrazovnih radn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12</a:t>
            </a: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Latha"/>
              </a:rPr>
              <a:t>. lipnja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2012</a:t>
            </a:r>
            <a:r>
              <a:rPr b="0" lang="ta-IN" sz="2200" spc="-1" strike="noStrike">
                <a:solidFill>
                  <a:srgbClr val="898989"/>
                </a:solidFill>
                <a:latin typeface="Calibri"/>
                <a:ea typeface="Lath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Calibri"/>
              </a:rPr>
              <a:t>Sudionici</a:t>
            </a: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 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1 </a:t>
            </a: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Calibri"/>
              </a:rPr>
              <a:t>i njihove ulo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. 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Radna skupin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upravljat će provedbom aktivnosti u sklopu K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članove RS imenuje voditelj AZOO-a na temelju dogovorenih kriteri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I. 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AZOO voditelj K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MSc. Boris Vampula, 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VS AZO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koordinira aktivnosti 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u ime AZOO-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II. 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Stručnjaci na projektu za razvoj strategija stručnog usavršavanja nastavnik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Calibri"/>
              </a:rPr>
              <a:t>Dr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Sergij Gabršče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podrška aktivnostima K1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kratkoročni stručnjak za određene zadatke u sklopu K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Latha"/>
              </a:rPr>
              <a:t>Komponenta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2228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ta-IN" sz="3000" spc="-1" strike="noStrike">
                <a:solidFill>
                  <a:srgbClr val="000000"/>
                </a:solidFill>
                <a:latin typeface="Calibri"/>
                <a:ea typeface="Latha"/>
              </a:rPr>
              <a:t>Dvije glav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ta-IN" sz="3000" spc="-1" strike="noStrike">
                <a:solidFill>
                  <a:srgbClr val="000000"/>
                </a:solidFill>
                <a:latin typeface="Calibri"/>
                <a:ea typeface="Latha"/>
              </a:rPr>
              <a:t>e intervenci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naliza snaga i slabosti postojećeg AZOO sustava stručnog usavršavanja odgojno-obrazovnih radnika, s preporukama za poboljšanja unutar zakonodavnog okvira koji regulira stručno usavršavanje odgojno-obrazovnih radnika u Hrvatskoj.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naliza potreba za stručnim usavršavanjem da bi se utvrdili prioriteti potreba za profesionalnim razvojem ključnih aktera u općem obrazovnom sustavu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Latha"/>
              </a:rPr>
              <a:t>nastavn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Latha"/>
              </a:rPr>
              <a:t>nenastavnog osoblj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Latha"/>
              </a:rPr>
              <a:t>školski savjetnici i ravnatelji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Latha"/>
              </a:rPr>
              <a:t>nastavnika-trener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Latha"/>
              </a:rPr>
              <a:t>koordinatori treninga za nastavnik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a-IN" sz="2200" spc="-1" strike="noStrike">
                <a:solidFill>
                  <a:srgbClr val="000000"/>
                </a:solidFill>
                <a:latin typeface="Calibri"/>
                <a:ea typeface="Latha"/>
              </a:rPr>
              <a:t>viših savjetnika AZOO-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Latha"/>
              </a:rPr>
              <a:t>Komponenta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2228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ta-IN" sz="3000" spc="-1" strike="noStrike">
                <a:solidFill>
                  <a:srgbClr val="000000"/>
                </a:solidFill>
                <a:latin typeface="Calibri"/>
                <a:ea typeface="Calibri"/>
              </a:rPr>
              <a:t>Rezult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ažurirana analiza stanja sustava stručnog usavršavanja odgojno-obrazovnih radnika i potreba za stručnim usavršavanjem nastavnika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ta-IN" sz="3000" spc="-1" strike="noStrike">
                <a:solidFill>
                  <a:srgbClr val="000000"/>
                </a:solidFill>
                <a:latin typeface="Calibri"/>
                <a:ea typeface="Calibri"/>
              </a:rPr>
              <a:t>Koji da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ključni dokaz koji izvještava o daljnjem razvoju AZOO strategije stručnog usavršavanja odgojno-obrazovnih radnika u Komponenti 2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a-IN" sz="2600" spc="-1" strike="noStrike">
                <a:solidFill>
                  <a:srgbClr val="000000"/>
                </a:solidFill>
                <a:latin typeface="Calibri"/>
                <a:ea typeface="Calibri"/>
              </a:rPr>
              <a:t>poboljšani model stručnog usavršavanja odgojno-obrazovnih radnika u Komponenti 3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4400" spc="-1" strike="noStrike">
                <a:solidFill>
                  <a:srgbClr val="000000"/>
                </a:solidFill>
                <a:latin typeface="Calibri"/>
                <a:ea typeface="Latha"/>
              </a:rPr>
              <a:t>Aktivnosti komponent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2228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snovati radnu skupinu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1 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za stručno usavršavanje odgojno-obrazovnih radnika i analizu potreba za stručnim usavršavanje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astanci radne skupine 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riprema metodologije i akcijskog plana za analizu sustava stručnog usavršavanja odgojno-obrazovnih radnika i analizu potreba za stručnim usavršavanj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rovesti sveobuhvatnu analizu postojećeg stručnog usavršavanja odgojno-obrazovnih ra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riprema logistike za anketu o analizi potreba za stručnim usavršavanj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Provedba ankete o analizi potreba za stručnim usavršavanj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nzultacijske radionice s dionic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Analiza stručnog usavršavanja odgojno-obrazovnih radnika i izvješć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astanak s radnom skupinom 2 radi predstavljanja izvješć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Calibri"/>
                <a:ea typeface="Calibri"/>
              </a:rPr>
              <a:t>Objava izvješć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37:06Z</dcterms:created>
  <dc:creator>Sergij Gabršček</dc:creator>
  <dc:description/>
  <dc:language>en-US</dc:language>
  <cp:lastModifiedBy>Michaela</cp:lastModifiedBy>
  <dcterms:modified xsi:type="dcterms:W3CDTF">2012-07-04T07:11:11Z</dcterms:modified>
  <cp:revision>25</cp:revision>
  <dc:subject/>
  <dc:title>Component 1</dc:title>
</cp:coreProperties>
</file>