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6E09-F012-4C90-9682-DCAC272ED48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000000"/>
                </a:solidFill>
                <a:latin typeface="Calibri"/>
                <a:ea typeface="Latha"/>
              </a:rPr>
              <a:t>Ovdje bi se trebala spomenuti nedavna objava nacrta zakona o Hrvatskom kvalifikacijskom okviru. Ovaj zakon definira okvir za razvoj kvalifikacija za sve struke, te nema razloga započeti razvoj okvira kompetencija za odgojno-obrazovne radnike na razinama utvrđenima u HKO-u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2A2E-6428-441E-A4E6-1DB2935E983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9879-C4AF-4E91-B00C-818D22953C6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000000"/>
                </a:solidFill>
                <a:latin typeface="Calibri"/>
                <a:ea typeface="Latha"/>
              </a:rPr>
              <a:t>Imajte na umu promijenjenu ulogu inspektorata u Nizozemskoj: on djeluje kao sustav potpore školama, odbacujući gotovo sve inspekcijske djelatnosti, poglavito stoga što su škole same odgovorne za za ishode učenja i slobodne su odabrati svoj vlastiti didaktički/pedagoški pristup. Želio bih u ovom pogledu također spomenuti nedavno proveden projekt integrativni nadzor u AZOO-u, što bi mogao biti korak u istom smjeru promjene uloge školskih inspekto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8EF1-6321-419E-994C-510DD3E1581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45D6-AC5E-4384-84C2-8CF8BD5B35A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200" spc="-1" strike="noStrike">
                <a:solidFill>
                  <a:srgbClr val="000000"/>
                </a:solidFill>
                <a:latin typeface="Calibri"/>
                <a:ea typeface="Latha"/>
              </a:rPr>
              <a:t>AZOO projekt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020</a:t>
            </a:r>
            <a:r>
              <a:rPr b="0" lang="ta-IN" sz="1200" spc="-1" strike="noStrike">
                <a:solidFill>
                  <a:srgbClr val="000000"/>
                </a:solidFill>
                <a:latin typeface="Calibri"/>
                <a:ea typeface="Latha"/>
              </a:rPr>
              <a:t>. Poboljšanje kvalitete sustava stručnog usavršavanja odgojno-obrazovnih radnika razvijen je da bi pomogao u pronalasku odgovora na ova pitanja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a-IN" sz="1200" spc="-1" strike="noStrike">
                <a:solidFill>
                  <a:srgbClr val="000000"/>
                </a:solidFill>
                <a:latin typeface="Calibri"/>
                <a:ea typeface="Latha"/>
              </a:rPr>
              <a:t>pri izradi strategije stručnog usavršavanja odgojno –obrazovnih radnika 2014.-2020., ali ovo je proces koji se ne može provesti u izolaciji i samo u okviru AZOO-a. Potreban nam je dijalog s drugim važnim dionicima, prije svega s Ministarstvom obrazovanja, te s predstavnicima odgojno-obrazovnih radnika, kao i s učiteljskim fakultetima odgovornima za početno obrazovanje nastavnik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78C7-71A7-4841-925F-192AD8A5359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stonia</a:t>
            </a:r>
            <a:r>
              <a:rPr b="0" lang="ta-IN" sz="1200" spc="-1" strike="noStrike">
                <a:solidFill>
                  <a:srgbClr val="000000"/>
                </a:solidFill>
                <a:latin typeface="Calibri"/>
                <a:ea typeface="Latha"/>
              </a:rPr>
              <a:t> je zvijezda u usponu i prestigla je zemlje poput Njemačke, Frncuske, Slovenije i Češke s velikom razlik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A8CE-3FEC-459B-AF65-14AC2702338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BF3B-1B25-4B94-990A-224048FB1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DC25-5612-456D-9DE8-D4EF6E67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E389-F577-4E1A-91A9-092A20611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7620-EA40-49E2-9F80-FDF391582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C204-B96D-451F-BEAE-44B6808E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6BC1-0566-4702-A7EC-AAC2EC30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348C-CED9-47B4-A4DE-27BE9533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7C5B-F2AA-4BF1-B11E-93FEF531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B644-1474-459B-8ECF-E7C56E46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8C41-4C18-448E-AE56-EB7A1666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A5B8-4906-42FE-9D44-ECEEE960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3923-2AE5-40D5-95B3-A1A53DE0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32C6-5BCD-4933-9058-E95B8AA02EF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mailto:paul.roeders@azoo.hr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EUmap2sml.tif"/>
          <p:cNvPicPr/>
          <p:nvPr/>
        </p:nvPicPr>
        <p:blipFill>
          <a:blip r:embed="rId1"/>
          <a:stretch/>
        </p:blipFill>
        <p:spPr>
          <a:xfrm>
            <a:off x="3660840" y="836640"/>
            <a:ext cx="5483160" cy="5400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590400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4000" spc="-1" strike="noStrike">
                <a:solidFill>
                  <a:srgbClr val="eb0201"/>
                </a:solidFill>
                <a:latin typeface="Calibri"/>
                <a:ea typeface="Calibri"/>
              </a:rPr>
              <a:t>Kontinuirani profesionalni razvoj nastavnika u europskoj perspektiv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755640" y="4292640"/>
            <a:ext cx="26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rof. Dr. Paul Roe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Zagreb, 12.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lipnja 2012</a:t>
            </a:r>
            <a:r>
              <a:rPr b="1" lang="ta-IN" sz="1800" spc="-1" strike="noStrike">
                <a:solidFill>
                  <a:srgbClr val="000000"/>
                </a:solidFill>
                <a:latin typeface="Calibri"/>
                <a:ea typeface="Lath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4"/>
          <p:cNvSpPr/>
          <p:nvPr/>
        </p:nvSpPr>
        <p:spPr>
          <a:xfrm>
            <a:off x="1258920" y="1700280"/>
            <a:ext cx="748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Aft>
                <a:spcPts val="300"/>
              </a:spcAft>
              <a:buClr>
                <a:srgbClr val="00206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200" spc="-1" strike="noStrike">
                <a:solidFill>
                  <a:srgbClr val="000000"/>
                </a:solidFill>
                <a:latin typeface="Calibri"/>
                <a:ea typeface="Calibri"/>
              </a:rPr>
              <a:t>Svaka od top 3 zemlje EU ima dugoročnu politiku i strategiju koja se redovno revidira, uključujući i redefiniranje zadataka, te stoga i potrebnih kompetencija odgojno-obrazovnih radnika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nip Same Side Corner Rectangle 5"/>
          <p:cNvSpPr/>
          <p:nvPr/>
        </p:nvSpPr>
        <p:spPr>
          <a:xfrm rot="10800000">
            <a:off x="826920" y="764640"/>
            <a:ext cx="8066160" cy="5832720"/>
          </a:xfrm>
          <a:custGeom>
            <a:avLst/>
            <a:gdLst>
              <a:gd name="textAreaLeft" fmla="*/ 486000 w 8066160"/>
              <a:gd name="textAreaRight" fmla="*/ 7580160 w 8066160"/>
              <a:gd name="textAreaTop" fmla="*/ 486000 h 5832720"/>
              <a:gd name="textAreaBottom" fmla="*/ 5832720 h 5832720"/>
            </a:gdLst>
            <a:ahLst/>
            <a:rect l="textAreaLeft" t="textAreaTop" r="textAreaRight" b="textAreaBottom"/>
            <a:pathLst>
              <a:path w="8066087" h="5832475">
                <a:moveTo>
                  <a:pt x="972099" y="0"/>
                </a:moveTo>
                <a:lnTo>
                  <a:pt x="7093988" y="0"/>
                </a:lnTo>
                <a:lnTo>
                  <a:pt x="8066087" y="972099"/>
                </a:lnTo>
                <a:lnTo>
                  <a:pt x="8066087" y="5832475"/>
                </a:lnTo>
                <a:lnTo>
                  <a:pt x="8066087" y="5832475"/>
                </a:lnTo>
                <a:lnTo>
                  <a:pt x="0" y="5832475"/>
                </a:lnTo>
                <a:lnTo>
                  <a:pt x="0" y="5832475"/>
                </a:lnTo>
                <a:lnTo>
                  <a:pt x="0" y="972099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826920" y="765000"/>
            <a:ext cx="792180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400" spc="-1" strike="noStrike">
                <a:solidFill>
                  <a:srgbClr val="000000"/>
                </a:solidFill>
                <a:latin typeface="Calibri"/>
                <a:ea typeface="Calibri"/>
              </a:rPr>
              <a:t>Uključeno je u politiku i strategiju za poboljšanje cjelokupnog obrazovnog sekt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400" spc="-1" strike="noStrike">
                <a:solidFill>
                  <a:srgbClr val="000000"/>
                </a:solidFill>
                <a:latin typeface="Calibri"/>
                <a:ea typeface="Calibri"/>
              </a:rPr>
              <a:t>Čvrst, transparentan i odgovoran sustav financir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1258920" y="4149720"/>
            <a:ext cx="74898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Aft>
                <a:spcPts val="300"/>
              </a:spcAft>
              <a:buClr>
                <a:srgbClr val="00206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200" spc="-1" strike="noStrike">
                <a:solidFill>
                  <a:srgbClr val="000000"/>
                </a:solidFill>
                <a:latin typeface="Calibri"/>
                <a:ea typeface="Calibri"/>
              </a:rPr>
              <a:t>Finska i Nizozemska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Calibri"/>
              </a:rPr>
              <a:t>– </a:t>
            </a:r>
            <a:r>
              <a:rPr b="0" lang="ta-IN" sz="2200" spc="-1" strike="noStrike">
                <a:solidFill>
                  <a:srgbClr val="000000"/>
                </a:solidFill>
                <a:latin typeface="Calibri"/>
                <a:ea typeface="Calibri"/>
              </a:rPr>
              <a:t>decentralizirane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Calibri"/>
              </a:rPr>
              <a:t>: </a:t>
            </a:r>
            <a:r>
              <a:rPr b="0" lang="ta-IN" sz="2200" spc="-1" strike="noStrike">
                <a:solidFill>
                  <a:srgbClr val="000000"/>
                </a:solidFill>
                <a:latin typeface="Calibri"/>
                <a:ea typeface="Calibri"/>
              </a:rPr>
              <a:t>škole dobivaju paušalni iznos od čega je određeni postatak namijenjen aktivnostima profesionalnog razvoja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300"/>
              </a:spcAft>
              <a:buClr>
                <a:srgbClr val="00206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Calibri"/>
              </a:rPr>
              <a:t>Estoni</a:t>
            </a:r>
            <a:r>
              <a:rPr b="0" lang="ta-IN" sz="2200" spc="-1" strike="noStrike">
                <a:solidFill>
                  <a:srgbClr val="000000"/>
                </a:solidFill>
                <a:latin typeface="Calibri"/>
                <a:ea typeface="Calibri"/>
              </a:rPr>
              <a:t>j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Calibri"/>
              </a:rPr>
              <a:t>a – </a:t>
            </a:r>
            <a:r>
              <a:rPr b="0" lang="ta-IN" sz="2200" spc="-1" strike="noStrike">
                <a:solidFill>
                  <a:srgbClr val="000000"/>
                </a:solidFill>
                <a:latin typeface="Calibri"/>
                <a:ea typeface="Calibri"/>
              </a:rPr>
              <a:t>centralizirana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Calibri"/>
              </a:rPr>
              <a:t>: </a:t>
            </a:r>
            <a:r>
              <a:rPr b="0" lang="ta-IN" sz="2200" spc="-1" strike="noStrike">
                <a:solidFill>
                  <a:srgbClr val="000000"/>
                </a:solidFill>
                <a:latin typeface="Calibri"/>
                <a:ea typeface="Calibri"/>
              </a:rPr>
              <a:t>samo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Calibri"/>
              </a:rPr>
              <a:t>3% </a:t>
            </a:r>
            <a:r>
              <a:rPr b="0" lang="ta-IN" sz="2200" spc="-1" strike="noStrike">
                <a:solidFill>
                  <a:srgbClr val="000000"/>
                </a:solidFill>
                <a:latin typeface="Calibri"/>
                <a:ea typeface="Calibri"/>
              </a:rPr>
              <a:t>iz proračuna Ministarstva za plaće odgojno-obrazovnih radnika može se potrošiti na izgradnju kapacitet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4"/>
          <p:cNvSpPr/>
          <p:nvPr/>
        </p:nvSpPr>
        <p:spPr>
          <a:xfrm>
            <a:off x="900000" y="1268280"/>
            <a:ext cx="748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Aft>
                <a:spcPts val="300"/>
              </a:spcAft>
              <a:buClr>
                <a:srgbClr val="00206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Sve tri top EU zemlje uvele su sustave redovne procjene potreba za stručnim usavršavanjem da bi se ponuda stručnog usavršavanja prilagodila potrebama odgojno-obrazovnih radnika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nip Same Side Corner Rectangle 5"/>
          <p:cNvSpPr/>
          <p:nvPr/>
        </p:nvSpPr>
        <p:spPr>
          <a:xfrm rot="10800000">
            <a:off x="826920" y="764640"/>
            <a:ext cx="8066160" cy="5832720"/>
          </a:xfrm>
          <a:custGeom>
            <a:avLst/>
            <a:gdLst>
              <a:gd name="textAreaLeft" fmla="*/ 486000 w 8066160"/>
              <a:gd name="textAreaRight" fmla="*/ 7580160 w 8066160"/>
              <a:gd name="textAreaTop" fmla="*/ 486000 h 5832720"/>
              <a:gd name="textAreaBottom" fmla="*/ 5832720 h 5832720"/>
            </a:gdLst>
            <a:ahLst/>
            <a:rect l="textAreaLeft" t="textAreaTop" r="textAreaRight" b="textAreaBottom"/>
            <a:pathLst>
              <a:path w="8066087" h="5832475">
                <a:moveTo>
                  <a:pt x="972099" y="0"/>
                </a:moveTo>
                <a:lnTo>
                  <a:pt x="7093988" y="0"/>
                </a:lnTo>
                <a:lnTo>
                  <a:pt x="8066087" y="972099"/>
                </a:lnTo>
                <a:lnTo>
                  <a:pt x="8066087" y="5832475"/>
                </a:lnTo>
                <a:lnTo>
                  <a:pt x="8066087" y="5832475"/>
                </a:lnTo>
                <a:lnTo>
                  <a:pt x="0" y="5832475"/>
                </a:lnTo>
                <a:lnTo>
                  <a:pt x="0" y="5832475"/>
                </a:lnTo>
                <a:lnTo>
                  <a:pt x="0" y="972099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826920" y="836640"/>
            <a:ext cx="792180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300" spc="-1" strike="noStrike">
                <a:solidFill>
                  <a:srgbClr val="000000"/>
                </a:solidFill>
                <a:latin typeface="Calibri"/>
                <a:ea typeface="Calibri"/>
              </a:rPr>
              <a:t>Orijentiranost na potražnju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300" spc="-1" strike="noStrike">
                <a:solidFill>
                  <a:srgbClr val="000000"/>
                </a:solidFill>
                <a:latin typeface="Calibri"/>
                <a:ea typeface="Calibri"/>
              </a:rPr>
              <a:t>Okvir kompetencija </a:t>
            </a:r>
            <a:r>
              <a:rPr b="1" lang="en-GB" sz="23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1" lang="ta-IN" sz="2300" spc="-1" strike="noStrike">
                <a:solidFill>
                  <a:srgbClr val="000000"/>
                </a:solidFill>
                <a:latin typeface="Calibri"/>
                <a:ea typeface="Calibri"/>
              </a:rPr>
              <a:t>OK</a:t>
            </a:r>
            <a:r>
              <a:rPr b="1" lang="en-GB" sz="2300" spc="-1" strike="noStrike">
                <a:solidFill>
                  <a:srgbClr val="000000"/>
                </a:solidFill>
                <a:latin typeface="Calibri"/>
                <a:ea typeface="Calibri"/>
              </a:rPr>
              <a:t>) </a:t>
            </a:r>
            <a:r>
              <a:rPr b="1" lang="ta-IN" sz="2300" spc="-1" strike="noStrike">
                <a:solidFill>
                  <a:srgbClr val="000000"/>
                </a:solidFill>
                <a:latin typeface="Calibri"/>
                <a:ea typeface="Calibri"/>
              </a:rPr>
              <a:t>za nastavnike i ravnatelje kao osnova za početno obrazovanje nastavnika i analizu potreba za stručnim usavršavanjem odgojno-obrazovnih radnik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900000" y="3284640"/>
            <a:ext cx="763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Aft>
                <a:spcPts val="300"/>
              </a:spcAft>
              <a:buClr>
                <a:srgbClr val="00206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Ne</a:t>
            </a:r>
            <a:r>
              <a:rPr b="0" lang="ta-IN" sz="2200" spc="-1" strike="noStrike">
                <a:solidFill>
                  <a:srgbClr val="000000"/>
                </a:solidFill>
                <a:latin typeface="Calibri"/>
                <a:ea typeface="Calibri"/>
              </a:rPr>
              <a:t> postoji zemlja EU bez okvira kompetencija za nastavnike i upravno osoblje škola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300"/>
              </a:spcAft>
              <a:buClr>
                <a:srgbClr val="00206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200" spc="-1" strike="noStrike">
                <a:solidFill>
                  <a:srgbClr val="000000"/>
                </a:solidFill>
                <a:latin typeface="Calibri"/>
                <a:ea typeface="Calibri"/>
              </a:rPr>
              <a:t>Međutim, postoji razlika u konzistenciji njihove primjene – najkonzistentnije su top 3 zemlje EU, ali su drugačije strukturirane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300"/>
              </a:spcAft>
              <a:buClr>
                <a:srgbClr val="00206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900" spc="-1" strike="noStrike">
                <a:solidFill>
                  <a:srgbClr val="000000"/>
                </a:solidFill>
                <a:latin typeface="Calibri"/>
                <a:ea typeface="Calibri"/>
              </a:rPr>
              <a:t>Finska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Calibri"/>
              </a:rPr>
              <a:t>: </a:t>
            </a:r>
            <a:r>
              <a:rPr b="0" lang="ta-IN" sz="1900" spc="-1" strike="noStrike">
                <a:solidFill>
                  <a:srgbClr val="000000"/>
                </a:solidFill>
                <a:latin typeface="Calibri"/>
                <a:ea typeface="Calibri"/>
              </a:rPr>
              <a:t>decentralizirana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ta-IN" sz="1900" spc="-1" strike="noStrike">
                <a:solidFill>
                  <a:srgbClr val="000000"/>
                </a:solidFill>
                <a:latin typeface="Calibri"/>
                <a:ea typeface="Calibri"/>
              </a:rPr>
              <a:t>OK definira udruga učiteljskih fakulteta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Calibri"/>
              </a:rPr>
              <a:t>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300"/>
              </a:spcAft>
              <a:buClr>
                <a:srgbClr val="00206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900" spc="-1" strike="noStrike">
                <a:solidFill>
                  <a:srgbClr val="000000"/>
                </a:solidFill>
                <a:latin typeface="Calibri"/>
                <a:ea typeface="Calibri"/>
              </a:rPr>
              <a:t>Nizozemska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Calibri"/>
              </a:rPr>
              <a:t>: </a:t>
            </a:r>
            <a:r>
              <a:rPr b="0" lang="ta-IN" sz="1900" spc="-1" strike="noStrike">
                <a:solidFill>
                  <a:srgbClr val="000000"/>
                </a:solidFill>
                <a:latin typeface="Calibri"/>
                <a:ea typeface="Calibri"/>
              </a:rPr>
              <a:t>OK dogovoren između Ministarstva i učiteljskih fakulteta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Calibri"/>
              </a:rPr>
              <a:t>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300"/>
              </a:spcAft>
              <a:buClr>
                <a:srgbClr val="00206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Calibri"/>
              </a:rPr>
              <a:t>Estoni</a:t>
            </a:r>
            <a:r>
              <a:rPr b="0" lang="ta-IN" sz="1900" spc="-1" strike="noStrike">
                <a:solidFill>
                  <a:srgbClr val="000000"/>
                </a:solidFill>
                <a:latin typeface="Calibri"/>
                <a:ea typeface="Calibri"/>
              </a:rPr>
              <a:t>j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Calibri"/>
              </a:rPr>
              <a:t>a: </a:t>
            </a:r>
            <a:r>
              <a:rPr b="0" lang="ta-IN" sz="1900" spc="-1" strike="noStrike">
                <a:solidFill>
                  <a:srgbClr val="000000"/>
                </a:solidFill>
                <a:latin typeface="Calibri"/>
                <a:ea typeface="Calibri"/>
              </a:rPr>
              <a:t>centralizirana 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Calibri"/>
              </a:rPr>
              <a:t>– </a:t>
            </a:r>
            <a:r>
              <a:rPr b="0" lang="ta-IN" sz="1900" spc="-1" strike="noStrike">
                <a:solidFill>
                  <a:srgbClr val="000000"/>
                </a:solidFill>
                <a:latin typeface="Calibri"/>
                <a:ea typeface="Calibri"/>
              </a:rPr>
              <a:t>OK definira estonsko Vijeće za procjenu kvalitete višeg obrazovanja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4"/>
          <p:cNvSpPr/>
          <p:nvPr/>
        </p:nvSpPr>
        <p:spPr>
          <a:xfrm>
            <a:off x="1042920" y="2443320"/>
            <a:ext cx="77770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Okvir kompetencija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85d8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definira kompetencije za određenu profesiju i time one kojima se treba baviti u početnom obrazovanju i stručnom usavršavanju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85d8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služi kao osnova za analizu potreba za kontinuirani profesionalni razvoj u cjelini i posebno za stručno usavršavanj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85d8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je alat za samo-procjenu, izradu i nadopunjavanje osobnog plana cjeloživotnog učenja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85d8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je osnova za definiranje standarda zanimanja te kriterija za stručnu spremu (tj. EKO i NKO) i certifikacij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85d8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je osnova za vrednovanje radnog iskustva stručnjak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85d8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može se koristiti pri odabiru novog osoblja u nekoj organizaciji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900000" y="836640"/>
            <a:ext cx="77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400" spc="-1" strike="noStrike">
                <a:solidFill>
                  <a:srgbClr val="000000"/>
                </a:solidFill>
                <a:latin typeface="Calibri"/>
                <a:ea typeface="Calibri"/>
              </a:rPr>
              <a:t>Što je okvir kompetencija i zašto ga trebam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1042920" y="1484280"/>
            <a:ext cx="7201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3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Kompetencija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Calibri"/>
              </a:rPr>
              <a:t>: </a:t>
            </a:r>
            <a:r>
              <a:rPr b="0" lang="ta-IN" sz="2300" spc="-1" strike="noStrike">
                <a:solidFill>
                  <a:srgbClr val="000000"/>
                </a:solidFill>
                <a:latin typeface="Calibri"/>
                <a:ea typeface="Calibri"/>
              </a:rPr>
              <a:t>uvjet koji pojedinac mora ispunjavati za ispravno ostvarivanje nekog određenog zadatka (definicija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Calibri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nip Same Side Corner Rectangle 7"/>
          <p:cNvSpPr/>
          <p:nvPr/>
        </p:nvSpPr>
        <p:spPr>
          <a:xfrm rot="10800000">
            <a:off x="826920" y="764640"/>
            <a:ext cx="8066160" cy="5832720"/>
          </a:xfrm>
          <a:custGeom>
            <a:avLst/>
            <a:gdLst>
              <a:gd name="textAreaLeft" fmla="*/ 486000 w 8066160"/>
              <a:gd name="textAreaRight" fmla="*/ 7580160 w 8066160"/>
              <a:gd name="textAreaTop" fmla="*/ 486000 h 5832720"/>
              <a:gd name="textAreaBottom" fmla="*/ 5832720 h 5832720"/>
            </a:gdLst>
            <a:ahLst/>
            <a:rect l="textAreaLeft" t="textAreaTop" r="textAreaRight" b="textAreaBottom"/>
            <a:pathLst>
              <a:path w="8066087" h="5832475">
                <a:moveTo>
                  <a:pt x="972099" y="0"/>
                </a:moveTo>
                <a:lnTo>
                  <a:pt x="7093988" y="0"/>
                </a:lnTo>
                <a:lnTo>
                  <a:pt x="8066087" y="972099"/>
                </a:lnTo>
                <a:lnTo>
                  <a:pt x="8066087" y="5832475"/>
                </a:lnTo>
                <a:lnTo>
                  <a:pt x="8066087" y="5832475"/>
                </a:lnTo>
                <a:lnTo>
                  <a:pt x="0" y="5832475"/>
                </a:lnTo>
                <a:lnTo>
                  <a:pt x="0" y="5832475"/>
                </a:lnTo>
                <a:lnTo>
                  <a:pt x="0" y="972099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urved Right Arrow 9"/>
          <p:cNvSpPr/>
          <p:nvPr/>
        </p:nvSpPr>
        <p:spPr>
          <a:xfrm>
            <a:off x="324000" y="765000"/>
            <a:ext cx="287280" cy="432000"/>
          </a:xfrm>
          <a:custGeom>
            <a:avLst/>
            <a:gdLst>
              <a:gd name="textAreaLeft" fmla="*/ 38520 w 287280"/>
              <a:gd name="textAreaRight" fmla="*/ 248760 w 287280"/>
              <a:gd name="textAreaTop" fmla="*/ 81000 h 432000"/>
              <a:gd name="textAreaBottom" fmla="*/ 31500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5" stAng="-5400000" swAng="-5400000"/>
                <a:lnTo>
                  <a:pt x="0" y="11698"/>
                </a:lnTo>
                <a:arcTo wR="21600" hR="8105" stAng="10800000" swAng="-3328075"/>
                <a:lnTo>
                  <a:pt x="16200" y="21343"/>
                </a:lnTo>
                <a:lnTo>
                  <a:pt x="21600" y="18007"/>
                </a:lnTo>
                <a:lnTo>
                  <a:pt x="16200" y="14156"/>
                </a:lnTo>
                <a:lnTo>
                  <a:pt x="16200" y="15953"/>
                </a:lnTo>
                <a:arcTo wR="21600" hR="8105" stAng="7471925" swAng="3035568"/>
                <a:lnTo>
                  <a:pt x="537" y="9902"/>
                </a:lnTo>
                <a:arcTo wR="21600" hR="8105" stAng="-10507493" swAng="5107493"/>
                <a:close/>
              </a:path>
              <a:path fill="darkenLess" w="21600" h="21600">
                <a:moveTo>
                  <a:pt x="21600" y="0"/>
                </a:moveTo>
                <a:arcTo wR="21600" hR="8105" stAng="-5400000" swAng="-5400000"/>
                <a:lnTo>
                  <a:pt x="0" y="8105"/>
                </a:lnTo>
                <a:arcTo wR="21600" hR="8105" stAng="10800000" swAng="-292507"/>
                <a:lnTo>
                  <a:pt x="537" y="9902"/>
                </a:lnTo>
                <a:arcTo wR="21600" hR="8105" stAng="-10507493" swAng="5107493"/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2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2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nip Same Side Corner Rectangle 11"/>
          <p:cNvSpPr/>
          <p:nvPr/>
        </p:nvSpPr>
        <p:spPr>
          <a:xfrm rot="10800000">
            <a:off x="826920" y="764640"/>
            <a:ext cx="8066160" cy="5832720"/>
          </a:xfrm>
          <a:custGeom>
            <a:avLst/>
            <a:gdLst>
              <a:gd name="textAreaLeft" fmla="*/ 486000 w 8066160"/>
              <a:gd name="textAreaRight" fmla="*/ 7580160 w 8066160"/>
              <a:gd name="textAreaTop" fmla="*/ 486000 h 5832720"/>
              <a:gd name="textAreaBottom" fmla="*/ 5832720 h 5832720"/>
            </a:gdLst>
            <a:ahLst/>
            <a:rect l="textAreaLeft" t="textAreaTop" r="textAreaRight" b="textAreaBottom"/>
            <a:pathLst>
              <a:path w="8066087" h="5832475">
                <a:moveTo>
                  <a:pt x="972099" y="0"/>
                </a:moveTo>
                <a:lnTo>
                  <a:pt x="7093988" y="0"/>
                </a:lnTo>
                <a:lnTo>
                  <a:pt x="8066087" y="972099"/>
                </a:lnTo>
                <a:lnTo>
                  <a:pt x="8066087" y="5832475"/>
                </a:lnTo>
                <a:lnTo>
                  <a:pt x="8066087" y="5832475"/>
                </a:lnTo>
                <a:lnTo>
                  <a:pt x="0" y="5832475"/>
                </a:lnTo>
                <a:lnTo>
                  <a:pt x="0" y="5832475"/>
                </a:lnTo>
                <a:lnTo>
                  <a:pt x="0" y="972099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900000" y="765000"/>
            <a:ext cx="2808360" cy="47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Okvir kompetencija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85d8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obično je grupiran oko malog broja osnovnih kompetencija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85d8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85d8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85d8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85d8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85d8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85d8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85d8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85d8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od kojih svaka sadrži niz specifičnih kompetenci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6" descr="hexagon yellow.tif"/>
          <p:cNvPicPr/>
          <p:nvPr/>
        </p:nvPicPr>
        <p:blipFill>
          <a:blip r:embed="rId1"/>
          <a:stretch/>
        </p:blipFill>
        <p:spPr>
          <a:xfrm>
            <a:off x="2690640" y="1003320"/>
            <a:ext cx="6129360" cy="5305320"/>
          </a:xfrm>
          <a:prstGeom prst="rect">
            <a:avLst/>
          </a:prstGeom>
          <a:ln w="0">
            <a:noFill/>
          </a:ln>
        </p:spPr>
      </p:pic>
      <p:sp>
        <p:nvSpPr>
          <p:cNvPr id="97" name="TextBox 17"/>
          <p:cNvSpPr/>
          <p:nvPr/>
        </p:nvSpPr>
        <p:spPr>
          <a:xfrm>
            <a:off x="4491000" y="1074600"/>
            <a:ext cx="252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Tahoma"/>
                <a:ea typeface="Tahoma"/>
              </a:rPr>
              <a:t>1. </a:t>
            </a:r>
            <a:r>
              <a:rPr b="1" lang="ta-IN" sz="1400" spc="-1" strike="noStrike">
                <a:solidFill>
                  <a:srgbClr val="ff0000"/>
                </a:solidFill>
                <a:latin typeface="Tahoma"/>
                <a:ea typeface="Tahoma"/>
              </a:rPr>
              <a:t>Podrška inovativnom poučavanju i učenju orijentiranom na učeni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8"/>
          <p:cNvSpPr/>
          <p:nvPr/>
        </p:nvSpPr>
        <p:spPr>
          <a:xfrm rot="3610200">
            <a:off x="6337440" y="2338200"/>
            <a:ext cx="237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Tahoma"/>
                <a:ea typeface="Tahoma"/>
              </a:rPr>
              <a:t>2. </a:t>
            </a:r>
            <a:r>
              <a:rPr b="1" lang="ta-IN" sz="1400" spc="-1" strike="noStrike">
                <a:solidFill>
                  <a:srgbClr val="ff0000"/>
                </a:solidFill>
                <a:latin typeface="Tahoma"/>
                <a:ea typeface="Tahoma"/>
              </a:rPr>
              <a:t>Procjena i nadzor procesa i ishoda učen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9"/>
          <p:cNvSpPr/>
          <p:nvPr/>
        </p:nvSpPr>
        <p:spPr>
          <a:xfrm rot="17996400">
            <a:off x="6283440" y="4062240"/>
            <a:ext cx="2379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400" spc="-1" strike="noStrike">
                <a:solidFill>
                  <a:srgbClr val="ff0000"/>
                </a:solidFill>
                <a:latin typeface="Tahoma"/>
                <a:ea typeface="Tahoma"/>
              </a:rPr>
              <a:t>3. Osmišljavanje i provedba programa, rasporeda, materijala za treninge i metoda didakti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0"/>
          <p:cNvSpPr/>
          <p:nvPr/>
        </p:nvSpPr>
        <p:spPr>
          <a:xfrm>
            <a:off x="4564080" y="5481720"/>
            <a:ext cx="237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400" spc="-1" strike="noStrike">
                <a:solidFill>
                  <a:srgbClr val="ff0000"/>
                </a:solidFill>
                <a:latin typeface="Tahoma"/>
                <a:ea typeface="Tahoma"/>
              </a:rPr>
              <a:t>4. Pružanje smjernica za učenje i savje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1"/>
          <p:cNvSpPr/>
          <p:nvPr/>
        </p:nvSpPr>
        <p:spPr>
          <a:xfrm rot="3601800">
            <a:off x="2715840" y="4381560"/>
            <a:ext cx="2289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400" spc="-1" strike="noStrike">
                <a:solidFill>
                  <a:srgbClr val="ff0000"/>
                </a:solidFill>
                <a:latin typeface="Tahoma"/>
                <a:ea typeface="Tahoma"/>
              </a:rPr>
              <a:t>5. Formiranje partnerstva unutar i izvan vlastite ustano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2"/>
          <p:cNvSpPr/>
          <p:nvPr/>
        </p:nvSpPr>
        <p:spPr>
          <a:xfrm rot="18006600">
            <a:off x="2818800" y="2225160"/>
            <a:ext cx="2290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400" spc="-1" strike="noStrike">
                <a:solidFill>
                  <a:srgbClr val="ff0000"/>
                </a:solidFill>
                <a:latin typeface="Tahoma"/>
                <a:ea typeface="Tahoma"/>
              </a:rPr>
              <a:t>6. Provoditi vlastiti profesionalni razvoj i kreativn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3"/>
          <p:cNvSpPr/>
          <p:nvPr/>
        </p:nvSpPr>
        <p:spPr>
          <a:xfrm>
            <a:off x="4500720" y="2817720"/>
            <a:ext cx="237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400" spc="-1" strike="noStrike">
                <a:solidFill>
                  <a:srgbClr val="3333ff"/>
                </a:solidFill>
                <a:latin typeface="Tahoma"/>
                <a:ea typeface="Tahoma"/>
              </a:rPr>
              <a:t>osnovne kompetencije nastav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Tahoma"/>
                <a:ea typeface="Tahoma"/>
              </a:rPr>
              <a:t>(</a:t>
            </a:r>
            <a:r>
              <a:rPr b="1" lang="ta-IN" sz="2400" spc="-1" strike="noStrike">
                <a:solidFill>
                  <a:srgbClr val="3333ff"/>
                </a:solidFill>
                <a:latin typeface="Tahoma"/>
                <a:ea typeface="Tahoma"/>
              </a:rPr>
              <a:t>primjer</a:t>
            </a:r>
            <a:r>
              <a:rPr b="1" lang="en-GB" sz="2400" spc="-1" strike="noStrike">
                <a:solidFill>
                  <a:srgbClr val="3333ff"/>
                </a:solidFill>
                <a:latin typeface="Tahoma"/>
                <a:ea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urved Left Arrow 24"/>
          <p:cNvSpPr/>
          <p:nvPr/>
        </p:nvSpPr>
        <p:spPr>
          <a:xfrm>
            <a:off x="8677440" y="5950080"/>
            <a:ext cx="287280" cy="431640"/>
          </a:xfrm>
          <a:custGeom>
            <a:avLst/>
            <a:gdLst>
              <a:gd name="textAreaLeft" fmla="*/ 38520 w 287280"/>
              <a:gd name="textAreaRight" fmla="*/ 248760 w 287280"/>
              <a:gd name="textAreaTop" fmla="*/ 81000 h 431640"/>
              <a:gd name="textAreaBottom" fmla="*/ 315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105" stAng="-5400000" swAng="5400000"/>
                <a:lnTo>
                  <a:pt x="21600" y="11698"/>
                </a:lnTo>
                <a:arcTo wR="21600" hR="8105" stAng="0" swAng="3328075"/>
                <a:lnTo>
                  <a:pt x="5400" y="21343"/>
                </a:lnTo>
                <a:lnTo>
                  <a:pt x="0" y="18007"/>
                </a:lnTo>
                <a:lnTo>
                  <a:pt x="5400" y="14156"/>
                </a:lnTo>
                <a:lnTo>
                  <a:pt x="5400" y="15953"/>
                </a:lnTo>
                <a:arcTo wR="21600" hR="8105" stAng="3328075" swAng="-3035568"/>
                <a:lnTo>
                  <a:pt x="21063" y="9902"/>
                </a:lnTo>
                <a:arcTo wR="21600" hR="8105" stAng="-292507" swAng="-5107493"/>
                <a:close/>
              </a:path>
              <a:path fill="darkenLess" w="21600" h="21600">
                <a:moveTo>
                  <a:pt x="0" y="0"/>
                </a:moveTo>
                <a:arcTo wR="21600" hR="8105" stAng="-5400000" swAng="5400000"/>
                <a:lnTo>
                  <a:pt x="21600" y="11698"/>
                </a:lnTo>
                <a:arcTo wR="21600" hR="8105" stAng="0" swAng="-292507"/>
                <a:lnTo>
                  <a:pt x="21063" y="9902"/>
                </a:lnTo>
                <a:arcTo wR="21600" hR="8105" stAng="-292507" swAng="-5107493"/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60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8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35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4"/>
          <p:cNvSpPr/>
          <p:nvPr/>
        </p:nvSpPr>
        <p:spPr>
          <a:xfrm>
            <a:off x="1042920" y="1949400"/>
            <a:ext cx="7850160" cy="43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Aft>
                <a:spcPts val="300"/>
              </a:spcAft>
              <a:buClr>
                <a:srgbClr val="00206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alibri"/>
                <a:ea typeface="Calibri"/>
              </a:rPr>
              <a:t>Sve 3 top EU PISA zemlje imaju integriranu strategiju za razvoj sustava početnog obrazovanja i stručnog usavršavanja u zemlji, s redovnim sastancima/savjetovanjima (obično: dva puta godišnje) i s jasno definiranim odgovornostima svih aktera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Aft>
                <a:spcPts val="300"/>
              </a:spcAft>
              <a:buClr>
                <a:srgbClr val="00206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alibri"/>
                <a:ea typeface="Calibri"/>
              </a:rPr>
              <a:t>Nizozemska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: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ea typeface="Calibri"/>
              </a:rPr>
              <a:t>Inspektorat uvodi mjere u škole i podržava njihovu provedbu; učiteljski fakulteti i slobodno tržište davatelja stručnog usavršavanja moraju ponuditi usavršavanje u skladu s dogovorenim KO; dva puta godišnje savjetodavni sastanc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Aft>
                <a:spcPts val="300"/>
              </a:spcAft>
              <a:buClr>
                <a:srgbClr val="00206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alibri"/>
                <a:ea typeface="Calibri"/>
              </a:rPr>
              <a:t>Finska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: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ea typeface="Calibri"/>
              </a:rPr>
              <a:t>Nema inspektorata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–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ea typeface="Calibri"/>
              </a:rPr>
              <a:t>mjere se u školama provode on-line kroz “platforme potpore školama”; učiteljski fakulteti i slobodno tržište davatelja stručnog usavršavanja drže se dogovorenog KO; savjetovanja jednom godišnj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Aft>
                <a:spcPts val="300"/>
              </a:spcAft>
              <a:buClr>
                <a:srgbClr val="00206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Estoni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ea typeface="Calibri"/>
              </a:rPr>
              <a:t>j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a: 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ea typeface="Calibri"/>
              </a:rPr>
              <a:t>Inspektorat uvodi mjere u škole i podržava njihovu provedbu; učiteljski fakulteti i slobodno tržište davatelja stručnog usavršavanja  drže se dogovorenog KO; savjetodavni sastanci svakih 6 mjeseci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 (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ea typeface="Calibri"/>
              </a:rPr>
              <a:t>Strategija Ministarstva o obrazovanju nastavnika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2008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-2013</a:t>
            </a:r>
            <a:r>
              <a:rPr b="0" lang="ta-IN" sz="1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nip Same Side Corner Rectangle 5"/>
          <p:cNvSpPr/>
          <p:nvPr/>
        </p:nvSpPr>
        <p:spPr>
          <a:xfrm rot="10800000">
            <a:off x="826920" y="764640"/>
            <a:ext cx="8066160" cy="5832720"/>
          </a:xfrm>
          <a:custGeom>
            <a:avLst/>
            <a:gdLst>
              <a:gd name="textAreaLeft" fmla="*/ 486000 w 8066160"/>
              <a:gd name="textAreaRight" fmla="*/ 7580160 w 8066160"/>
              <a:gd name="textAreaTop" fmla="*/ 486000 h 5832720"/>
              <a:gd name="textAreaBottom" fmla="*/ 5832720 h 5832720"/>
            </a:gdLst>
            <a:ahLst/>
            <a:rect l="textAreaLeft" t="textAreaTop" r="textAreaRight" b="textAreaBottom"/>
            <a:pathLst>
              <a:path w="8066087" h="5832475">
                <a:moveTo>
                  <a:pt x="972099" y="0"/>
                </a:moveTo>
                <a:lnTo>
                  <a:pt x="7093988" y="0"/>
                </a:lnTo>
                <a:lnTo>
                  <a:pt x="8066087" y="972099"/>
                </a:lnTo>
                <a:lnTo>
                  <a:pt x="8066087" y="5832475"/>
                </a:lnTo>
                <a:lnTo>
                  <a:pt x="8066087" y="5832475"/>
                </a:lnTo>
                <a:lnTo>
                  <a:pt x="0" y="5832475"/>
                </a:lnTo>
                <a:lnTo>
                  <a:pt x="0" y="5832475"/>
                </a:lnTo>
                <a:lnTo>
                  <a:pt x="0" y="972099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826920" y="789120"/>
            <a:ext cx="8066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100" spc="-1" strike="noStrike">
                <a:solidFill>
                  <a:srgbClr val="000000"/>
                </a:solidFill>
                <a:latin typeface="Calibri"/>
                <a:ea typeface="Calibri"/>
              </a:rPr>
              <a:t>Kontinuirani dijalog između Ministarstva, tijela odgovornog za provođenje stručnog usavršavanja odgojno-obrazovnih radnika i fakulteta/sveučilišta odgovornih za početno obrazovanje nastavnik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4"/>
          <p:cNvSpPr/>
          <p:nvPr/>
        </p:nvSpPr>
        <p:spPr>
          <a:xfrm>
            <a:off x="1042920" y="1773360"/>
            <a:ext cx="785016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Aft>
                <a:spcPts val="300"/>
              </a:spcAft>
              <a:buClr>
                <a:srgbClr val="00206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200" spc="-1" strike="noStrike">
                <a:solidFill>
                  <a:srgbClr val="000000"/>
                </a:solidFill>
                <a:latin typeface="Calibri"/>
                <a:ea typeface="Calibri"/>
              </a:rPr>
              <a:t>Kao što neka ustanova mora imati institucionalni plan razvoja (strategiju), tako i moderna škola ima školski razvojni plan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Aft>
                <a:spcPts val="300"/>
              </a:spcAft>
              <a:buClr>
                <a:srgbClr val="00206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alibri"/>
                <a:ea typeface="Calibri"/>
              </a:rPr>
              <a:t>Koji definira obaveze škole kao i ciljeve koje škola želi postići u svom razvoju u srednjoročnom razdoblju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Aft>
                <a:spcPts val="300"/>
              </a:spcAft>
              <a:buClr>
                <a:srgbClr val="00206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alibri"/>
                <a:ea typeface="Calibri"/>
              </a:rPr>
              <a:t>Definira način na koji škola planira ostvariti ove ciljeve i obaveze, uključujući mehanizme osiguranja kvalitete (OK)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Aft>
                <a:spcPts val="300"/>
              </a:spcAft>
              <a:buClr>
                <a:srgbClr val="00206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200" spc="-1" strike="noStrike">
                <a:solidFill>
                  <a:srgbClr val="000000"/>
                </a:solidFill>
                <a:latin typeface="Calibri"/>
                <a:ea typeface="Calibri"/>
              </a:rPr>
              <a:t>Primjer Nizozemske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Aft>
                <a:spcPts val="300"/>
              </a:spcAft>
              <a:buClr>
                <a:srgbClr val="00206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alibri"/>
                <a:ea typeface="Calibri"/>
              </a:rPr>
              <a:t>Školski radni plan revidira se jednom godišnje (s cjelokupnim osobljem i predstavnicima roditelja), s komentarima i odobrenjem od strane inspektorata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Aft>
                <a:spcPts val="300"/>
              </a:spcAft>
              <a:buClr>
                <a:srgbClr val="00206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alibri"/>
                <a:ea typeface="Calibri"/>
              </a:rPr>
              <a:t>Na razini škole godišnja procjena nastavnog i nenastavnog osoblja i/ili procjena potreba za stručnim usavršavanjem na temelju postojećeg KO i u svezi s ciljevima i obavezama škol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Aft>
                <a:spcPts val="300"/>
              </a:spcAft>
              <a:buClr>
                <a:srgbClr val="00206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alibri"/>
                <a:ea typeface="Calibri"/>
              </a:rPr>
              <a:t>Procijenjene potrebe za stručnim usavršavanjem postaju prioritetna područja u jednogodišnjem planu aktivnosti škole, koji se smatra dijelom školskog radnog plan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nip Same Side Corner Rectangle 5"/>
          <p:cNvSpPr/>
          <p:nvPr/>
        </p:nvSpPr>
        <p:spPr>
          <a:xfrm rot="10800000">
            <a:off x="826920" y="764640"/>
            <a:ext cx="8066160" cy="5832720"/>
          </a:xfrm>
          <a:custGeom>
            <a:avLst/>
            <a:gdLst>
              <a:gd name="textAreaLeft" fmla="*/ 486000 w 8066160"/>
              <a:gd name="textAreaRight" fmla="*/ 7580160 w 8066160"/>
              <a:gd name="textAreaTop" fmla="*/ 486000 h 5832720"/>
              <a:gd name="textAreaBottom" fmla="*/ 5832720 h 5832720"/>
            </a:gdLst>
            <a:ahLst/>
            <a:rect l="textAreaLeft" t="textAreaTop" r="textAreaRight" b="textAreaBottom"/>
            <a:pathLst>
              <a:path w="8066087" h="5832475">
                <a:moveTo>
                  <a:pt x="972099" y="0"/>
                </a:moveTo>
                <a:lnTo>
                  <a:pt x="7093988" y="0"/>
                </a:lnTo>
                <a:lnTo>
                  <a:pt x="8066087" y="972099"/>
                </a:lnTo>
                <a:lnTo>
                  <a:pt x="8066087" y="5832475"/>
                </a:lnTo>
                <a:lnTo>
                  <a:pt x="8066087" y="5832475"/>
                </a:lnTo>
                <a:lnTo>
                  <a:pt x="0" y="5832475"/>
                </a:lnTo>
                <a:lnTo>
                  <a:pt x="0" y="5832475"/>
                </a:lnTo>
                <a:lnTo>
                  <a:pt x="0" y="972099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826920" y="789120"/>
            <a:ext cx="806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400" spc="-1" strike="noStrike">
                <a:solidFill>
                  <a:srgbClr val="000000"/>
                </a:solidFill>
                <a:latin typeface="Calibri"/>
                <a:ea typeface="Calibri"/>
              </a:rPr>
              <a:t>Školsk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1" lang="ta-IN" sz="2400" spc="-1" strike="noStrike">
                <a:solidFill>
                  <a:srgbClr val="000000"/>
                </a:solidFill>
                <a:latin typeface="Calibri"/>
                <a:ea typeface="Calibri"/>
              </a:rPr>
              <a:t> razvojn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1" lang="ta-IN" sz="2400" spc="-1" strike="noStrike">
                <a:solidFill>
                  <a:srgbClr val="000000"/>
                </a:solidFill>
                <a:latin typeface="Calibri"/>
                <a:ea typeface="Calibri"/>
              </a:rPr>
              <a:t> planov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1" lang="ta-IN" sz="2400" spc="-1" strike="noStrike">
                <a:solidFill>
                  <a:srgbClr val="000000"/>
                </a:solidFill>
                <a:latin typeface="Calibri"/>
                <a:ea typeface="Calibri"/>
              </a:rPr>
              <a:t> kao osnov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1" lang="ta-IN" sz="2400" spc="-1" strike="noStrike">
                <a:solidFill>
                  <a:srgbClr val="000000"/>
                </a:solidFill>
                <a:latin typeface="Calibri"/>
                <a:ea typeface="Calibri"/>
              </a:rPr>
              <a:t> za procjenu potreba stručnog usavršavanja na razini škola i nastavnika/vodite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4"/>
          <p:cNvSpPr/>
          <p:nvPr/>
        </p:nvSpPr>
        <p:spPr>
          <a:xfrm>
            <a:off x="1258920" y="1268280"/>
            <a:ext cx="74898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Aft>
                <a:spcPts val="300"/>
              </a:spcAft>
              <a:buClr>
                <a:srgbClr val="00206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200" spc="-1" strike="noStrike">
                <a:solidFill>
                  <a:srgbClr val="000000"/>
                </a:solidFill>
                <a:latin typeface="Calibri"/>
                <a:ea typeface="Calibri"/>
              </a:rPr>
              <a:t>Svaka od top 3 EU zemlje stavlja jak naglasak na to da učenici pokazuju kompetencije koje steknu tijekom obrazovanja, kao i na primjenu aktivnog procesa učenja u učionici. Kompetencije nastavnika potrebne za ovo mogu se postići samo vježbanjem samog pristupa tijekom (stručnog) usavršavanja. Isto vrijedi i za kompetencije nenastavnog osoblj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nip Same Side Corner Rectangle 5"/>
          <p:cNvSpPr/>
          <p:nvPr/>
        </p:nvSpPr>
        <p:spPr>
          <a:xfrm rot="10800000">
            <a:off x="826920" y="764640"/>
            <a:ext cx="8066160" cy="5832720"/>
          </a:xfrm>
          <a:custGeom>
            <a:avLst/>
            <a:gdLst>
              <a:gd name="textAreaLeft" fmla="*/ 486000 w 8066160"/>
              <a:gd name="textAreaRight" fmla="*/ 7580160 w 8066160"/>
              <a:gd name="textAreaTop" fmla="*/ 486000 h 5832720"/>
              <a:gd name="textAreaBottom" fmla="*/ 5832720 h 5832720"/>
            </a:gdLst>
            <a:ahLst/>
            <a:rect l="textAreaLeft" t="textAreaTop" r="textAreaRight" b="textAreaBottom"/>
            <a:pathLst>
              <a:path w="8066087" h="5832475">
                <a:moveTo>
                  <a:pt x="972099" y="0"/>
                </a:moveTo>
                <a:lnTo>
                  <a:pt x="7093988" y="0"/>
                </a:lnTo>
                <a:lnTo>
                  <a:pt x="8066087" y="972099"/>
                </a:lnTo>
                <a:lnTo>
                  <a:pt x="8066087" y="5832475"/>
                </a:lnTo>
                <a:lnTo>
                  <a:pt x="8066087" y="5832475"/>
                </a:lnTo>
                <a:lnTo>
                  <a:pt x="0" y="5832475"/>
                </a:lnTo>
                <a:lnTo>
                  <a:pt x="0" y="5832475"/>
                </a:lnTo>
                <a:lnTo>
                  <a:pt x="0" y="972099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826920" y="765000"/>
            <a:ext cx="806616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200" spc="-1" strike="noStrike">
                <a:solidFill>
                  <a:srgbClr val="000000"/>
                </a:solidFill>
                <a:latin typeface="Calibri"/>
                <a:ea typeface="Calibri"/>
              </a:rPr>
              <a:t>Orijentiran na ishode učenja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1" lang="ta-IN" sz="2200" spc="-1" strike="noStrike">
                <a:solidFill>
                  <a:srgbClr val="000000"/>
                </a:solidFill>
                <a:latin typeface="Calibri"/>
                <a:ea typeface="Calibri"/>
              </a:rPr>
              <a:t> primjenom metodologije sudjelov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200" spc="-1" strike="noStrike">
                <a:solidFill>
                  <a:srgbClr val="000000"/>
                </a:solidFill>
                <a:latin typeface="Calibri"/>
                <a:ea typeface="Calibri"/>
              </a:rPr>
              <a:t>Primjenjuje modernu tehnologiju u aktivnostima stručnog usavršav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1258920" y="4437000"/>
            <a:ext cx="74898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Aft>
                <a:spcPts val="300"/>
              </a:spcAft>
              <a:buClr>
                <a:srgbClr val="00206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200" spc="-1" strike="noStrike">
                <a:solidFill>
                  <a:srgbClr val="000000"/>
                </a:solidFill>
                <a:latin typeface="Calibri"/>
                <a:ea typeface="Calibri"/>
              </a:rPr>
              <a:t>Upotreba IKT-a u stručnom usavršavanju već je postala uobičajena praksa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300"/>
              </a:spcAft>
              <a:buClr>
                <a:srgbClr val="00206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Calibri"/>
              </a:rPr>
              <a:t>Estoni</a:t>
            </a:r>
            <a:r>
              <a:rPr b="0" lang="ta-IN" sz="2200" spc="-1" strike="noStrike">
                <a:solidFill>
                  <a:srgbClr val="000000"/>
                </a:solidFill>
                <a:latin typeface="Calibri"/>
                <a:ea typeface="Calibri"/>
              </a:rPr>
              <a:t>j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Calibri"/>
              </a:rPr>
              <a:t>a, </a:t>
            </a:r>
            <a:r>
              <a:rPr b="0" lang="ta-IN" sz="2200" spc="-1" strike="noStrike">
                <a:solidFill>
                  <a:srgbClr val="000000"/>
                </a:solidFill>
                <a:latin typeface="Calibri"/>
                <a:ea typeface="Calibri"/>
              </a:rPr>
              <a:t>Finska i 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ta-IN" sz="2200" spc="-1" strike="noStrike">
                <a:solidFill>
                  <a:srgbClr val="000000"/>
                </a:solidFill>
                <a:latin typeface="Calibri"/>
                <a:ea typeface="Calibri"/>
              </a:rPr>
              <a:t>zozemska (tim redoslijedom) su među najambicioznijim zemljama u izradi i primjeni e-učenja i virtualnim zajednica učenja u stručnom usavršavanju odgojno-obrazovnih radnik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4"/>
          <p:cNvSpPr/>
          <p:nvPr/>
        </p:nvSpPr>
        <p:spPr>
          <a:xfrm>
            <a:off x="1042920" y="1557360"/>
            <a:ext cx="785016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Aft>
                <a:spcPts val="300"/>
              </a:spcAft>
              <a:buClr>
                <a:srgbClr val="00206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200" spc="-1" strike="noStrike">
                <a:solidFill>
                  <a:srgbClr val="000000"/>
                </a:solidFill>
                <a:latin typeface="Calibri"/>
                <a:ea typeface="Calibri"/>
              </a:rPr>
              <a:t>Kako stjecanje različitih kompetencija može zahtijevati različite pristupe, top 3 EU PISA zemlje razvile su niz mogućnosti za stručno usavršavanje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Aft>
                <a:spcPts val="300"/>
              </a:spcAft>
              <a:buClr>
                <a:srgbClr val="00206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Licem u lice” rezidencijalni tečajevi za koje se odgojno-obrazovni radnici mogu prijaviti – glavne metode: individualni i grupni rad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Aft>
                <a:spcPts val="300"/>
              </a:spcAft>
              <a:buClr>
                <a:srgbClr val="00206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Tečajevi 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učenja za koje se odgojno-obrazovni radnici mogu prijaviti – glavna metoda: individualni ra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Aft>
                <a:spcPts val="300"/>
              </a:spcAft>
              <a:buClr>
                <a:srgbClr val="00206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Zajednice/platforme e-učenja pod stručnim vodstvom na koje se odgojno-obrazovni radnici mogu pretplatiti – glavne metode: individualne i grupne rasprav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Aft>
                <a:spcPts val="300"/>
              </a:spcAft>
              <a:buClr>
                <a:srgbClr val="00206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Licem u lice” usavršavanje koje se održava u školi, posebno učinkovito za </a:t>
            </a:r>
            <a:r>
              <a:rPr b="0" i="1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team building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i uvođenje novih pristupa u poučavanju i učenju – glavna metoda: grupni r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nip Same Side Corner Rectangle 5"/>
          <p:cNvSpPr/>
          <p:nvPr/>
        </p:nvSpPr>
        <p:spPr>
          <a:xfrm rot="10800000">
            <a:off x="826920" y="764640"/>
            <a:ext cx="8066160" cy="5832720"/>
          </a:xfrm>
          <a:custGeom>
            <a:avLst/>
            <a:gdLst>
              <a:gd name="textAreaLeft" fmla="*/ 486000 w 8066160"/>
              <a:gd name="textAreaRight" fmla="*/ 7580160 w 8066160"/>
              <a:gd name="textAreaTop" fmla="*/ 486000 h 5832720"/>
              <a:gd name="textAreaBottom" fmla="*/ 5832720 h 5832720"/>
            </a:gdLst>
            <a:ahLst/>
            <a:rect l="textAreaLeft" t="textAreaTop" r="textAreaRight" b="textAreaBottom"/>
            <a:pathLst>
              <a:path w="8066087" h="5832475">
                <a:moveTo>
                  <a:pt x="972099" y="0"/>
                </a:moveTo>
                <a:lnTo>
                  <a:pt x="7093988" y="0"/>
                </a:lnTo>
                <a:lnTo>
                  <a:pt x="8066087" y="972099"/>
                </a:lnTo>
                <a:lnTo>
                  <a:pt x="8066087" y="5832475"/>
                </a:lnTo>
                <a:lnTo>
                  <a:pt x="8066087" y="5832475"/>
                </a:lnTo>
                <a:lnTo>
                  <a:pt x="0" y="5832475"/>
                </a:lnTo>
                <a:lnTo>
                  <a:pt x="0" y="5832475"/>
                </a:lnTo>
                <a:lnTo>
                  <a:pt x="0" y="972099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826920" y="789120"/>
            <a:ext cx="806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400" spc="-1" strike="noStrike">
                <a:solidFill>
                  <a:srgbClr val="000000"/>
                </a:solidFill>
                <a:latin typeface="Calibri"/>
                <a:ea typeface="Calibri"/>
              </a:rPr>
              <a:t>Mješavina vanjskih i školskih aktivnosti izgradnje kapacit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4"/>
          <p:cNvSpPr/>
          <p:nvPr/>
        </p:nvSpPr>
        <p:spPr>
          <a:xfrm>
            <a:off x="1258920" y="1125360"/>
            <a:ext cx="748980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Aft>
                <a:spcPts val="300"/>
              </a:spcAft>
              <a:buClr>
                <a:srgbClr val="00206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Svaka od top 3 EU zemalja uzima OK ozbiljno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300"/>
              </a:spcAft>
              <a:buClr>
                <a:srgbClr val="00206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alibri"/>
                <a:ea typeface="Calibri"/>
              </a:rPr>
              <a:t>Analiza potreba za stručnim usavršavanjem uzima se kao osnova za oblikovanje tečajeva stručnog usavršavanja prema individualnim potrebama sudionika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300"/>
              </a:spcAft>
              <a:buClr>
                <a:srgbClr val="00206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alibri"/>
                <a:ea typeface="Calibri"/>
              </a:rPr>
              <a:t>Evaluacija tečajeva usavršavanja koristi se za poboljšanj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300"/>
              </a:spcAft>
              <a:buClr>
                <a:srgbClr val="00206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alibri"/>
                <a:ea typeface="Calibri"/>
              </a:rPr>
              <a:t>Napredak sudionika u postizanju ishoda učenja nadzire se tijekom treninga i koristi za usklađivanj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300"/>
              </a:spcAft>
              <a:buClr>
                <a:srgbClr val="00206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alibri"/>
                <a:ea typeface="Calibri"/>
              </a:rPr>
              <a:t>Postoje procedure za rješavanje prigovora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nip Same Side Corner Rectangle 5"/>
          <p:cNvSpPr/>
          <p:nvPr/>
        </p:nvSpPr>
        <p:spPr>
          <a:xfrm rot="10800000">
            <a:off x="826920" y="764640"/>
            <a:ext cx="8066160" cy="5832720"/>
          </a:xfrm>
          <a:custGeom>
            <a:avLst/>
            <a:gdLst>
              <a:gd name="textAreaLeft" fmla="*/ 486000 w 8066160"/>
              <a:gd name="textAreaRight" fmla="*/ 7580160 w 8066160"/>
              <a:gd name="textAreaTop" fmla="*/ 486000 h 5832720"/>
              <a:gd name="textAreaBottom" fmla="*/ 5832720 h 5832720"/>
            </a:gdLst>
            <a:ahLst/>
            <a:rect l="textAreaLeft" t="textAreaTop" r="textAreaRight" b="textAreaBottom"/>
            <a:pathLst>
              <a:path w="8066087" h="5832475">
                <a:moveTo>
                  <a:pt x="972099" y="0"/>
                </a:moveTo>
                <a:lnTo>
                  <a:pt x="7093988" y="0"/>
                </a:lnTo>
                <a:lnTo>
                  <a:pt x="8066087" y="972099"/>
                </a:lnTo>
                <a:lnTo>
                  <a:pt x="8066087" y="5832475"/>
                </a:lnTo>
                <a:lnTo>
                  <a:pt x="8066087" y="5832475"/>
                </a:lnTo>
                <a:lnTo>
                  <a:pt x="0" y="5832475"/>
                </a:lnTo>
                <a:lnTo>
                  <a:pt x="0" y="5832475"/>
                </a:lnTo>
                <a:lnTo>
                  <a:pt x="0" y="972099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826920" y="768240"/>
            <a:ext cx="8066160" cy="31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300" spc="-1" strike="noStrike">
                <a:solidFill>
                  <a:srgbClr val="000000"/>
                </a:solidFill>
                <a:latin typeface="Calibri"/>
                <a:ea typeface="Calibri"/>
              </a:rPr>
              <a:t>Sustav osiguranja kvalitete aktivnosti usavršavanj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400" spc="-1" strike="noStrike">
                <a:solidFill>
                  <a:srgbClr val="000000"/>
                </a:solidFill>
                <a:latin typeface="Calibri"/>
                <a:ea typeface="Calibri"/>
              </a:rPr>
              <a:t>Niz akreditiranih davatelja usluga stručnog usavrša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1258920" y="3860640"/>
            <a:ext cx="756108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Aft>
                <a:spcPts val="300"/>
              </a:spcAft>
              <a:buClr>
                <a:srgbClr val="00206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Nije vrlo vjerojatno da će različiti oblici stručnosti potrebni za stručno usavršavanje odgojno-obrazovnih radnika biti koncentrirani samo u jednoj instituciji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300"/>
              </a:spcAft>
              <a:buClr>
                <a:srgbClr val="00206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Konkurencija među, te gdje je moguće - suradnja, između davatelja usluga u Finskoj, Nizozemskoj i Estoniji smatraju se principima za podizanje kvalitete usavršavanja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300"/>
              </a:spcAft>
              <a:buClr>
                <a:srgbClr val="00206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Mehanizmi OK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pridržavanje KO i kvalificirano osoblje osnovni su kriteriji za akreditaciju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2"/>
          <p:cNvSpPr/>
          <p:nvPr/>
        </p:nvSpPr>
        <p:spPr>
          <a:xfrm>
            <a:off x="826920" y="314316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3600" spc="-1" strike="noStrike">
                <a:solidFill>
                  <a:srgbClr val="000000"/>
                </a:solidFill>
                <a:latin typeface="Calibri"/>
                <a:ea typeface="Calibri"/>
              </a:rPr>
              <a:t>Pitanja kojima se treba pozabaviti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1042920" y="3855960"/>
            <a:ext cx="7850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spcAft>
                <a:spcPts val="1199"/>
              </a:spcAft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a-IN" sz="2800" spc="-1" strike="noStrike">
                <a:solidFill>
                  <a:srgbClr val="ff0000"/>
                </a:solidFill>
                <a:latin typeface="Calibri"/>
                <a:ea typeface="Calibri"/>
              </a:rPr>
              <a:t>Koje od navedenih značajki nedostaju hrvatskom sustavu kontinuiranog profesionalnog razvoja odgojno-obrazovnih radnika</a:t>
            </a:r>
            <a:r>
              <a:rPr b="1" i="1" lang="en-GB" sz="2800" spc="-1" strike="noStrike">
                <a:solidFill>
                  <a:srgbClr val="ff0000"/>
                </a:solidFill>
                <a:latin typeface="Calibri"/>
                <a:ea typeface="Calibri"/>
              </a:rPr>
              <a:t>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Aft>
                <a:spcPts val="1199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a-IN" sz="2800" spc="-1" strike="noStrike">
                <a:solidFill>
                  <a:srgbClr val="ff0000"/>
                </a:solidFill>
                <a:latin typeface="Calibri"/>
                <a:ea typeface="Calibri"/>
              </a:rPr>
              <a:t>Koje se od navedenih značajki mogu uvesti do 2020. godine</a:t>
            </a:r>
            <a:r>
              <a:rPr b="1" i="1" lang="en-GB" sz="2800" spc="-1" strike="noStrike">
                <a:solidFill>
                  <a:srgbClr val="ff0000"/>
                </a:solidFill>
                <a:latin typeface="Calibri"/>
                <a:ea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nip Same Side Corner Rectangle 10"/>
          <p:cNvSpPr/>
          <p:nvPr/>
        </p:nvSpPr>
        <p:spPr>
          <a:xfrm rot="10800000">
            <a:off x="826920" y="764640"/>
            <a:ext cx="8066160" cy="5832720"/>
          </a:xfrm>
          <a:custGeom>
            <a:avLst/>
            <a:gdLst>
              <a:gd name="textAreaLeft" fmla="*/ 486000 w 8066160"/>
              <a:gd name="textAreaRight" fmla="*/ 7580160 w 8066160"/>
              <a:gd name="textAreaTop" fmla="*/ 486000 h 5832720"/>
              <a:gd name="textAreaBottom" fmla="*/ 5832720 h 5832720"/>
            </a:gdLst>
            <a:ahLst/>
            <a:rect l="textAreaLeft" t="textAreaTop" r="textAreaRight" b="textAreaBottom"/>
            <a:pathLst>
              <a:path w="8066087" h="5832475">
                <a:moveTo>
                  <a:pt x="972099" y="0"/>
                </a:moveTo>
                <a:lnTo>
                  <a:pt x="7093988" y="0"/>
                </a:lnTo>
                <a:lnTo>
                  <a:pt x="8066087" y="972099"/>
                </a:lnTo>
                <a:lnTo>
                  <a:pt x="8066087" y="5832475"/>
                </a:lnTo>
                <a:lnTo>
                  <a:pt x="8066087" y="5832475"/>
                </a:lnTo>
                <a:lnTo>
                  <a:pt x="0" y="5832475"/>
                </a:lnTo>
                <a:lnTo>
                  <a:pt x="0" y="5832475"/>
                </a:lnTo>
                <a:lnTo>
                  <a:pt x="0" y="972099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project_logo-transp.tif"/>
          <p:cNvPicPr/>
          <p:nvPr/>
        </p:nvPicPr>
        <p:blipFill>
          <a:blip r:embed="rId3"/>
          <a:stretch/>
        </p:blipFill>
        <p:spPr>
          <a:xfrm>
            <a:off x="3246480" y="927000"/>
            <a:ext cx="312588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2"/>
          <p:cNvSpPr/>
          <p:nvPr/>
        </p:nvSpPr>
        <p:spPr>
          <a:xfrm>
            <a:off x="643680" y="765000"/>
            <a:ext cx="596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400" spc="-1" strike="noStrike">
                <a:solidFill>
                  <a:srgbClr val="000000"/>
                </a:solidFill>
                <a:latin typeface="Calibri"/>
                <a:ea typeface="Calibri"/>
              </a:rPr>
              <a:t>Uvod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: IPA – Instrument </a:t>
            </a:r>
            <a:r>
              <a:rPr b="1" lang="ta-IN" sz="2400" spc="-1" strike="noStrike">
                <a:solidFill>
                  <a:srgbClr val="000000"/>
                </a:solidFill>
                <a:latin typeface="Calibri"/>
                <a:ea typeface="Calibri"/>
              </a:rPr>
              <a:t>pretpristupne pomoć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- </a:t>
            </a:r>
            <a:r>
              <a:rPr b="0" lang="ta-IN" sz="2400" spc="-1" strike="noStrike">
                <a:solidFill>
                  <a:srgbClr val="000000"/>
                </a:solidFill>
                <a:latin typeface="Calibri"/>
                <a:ea typeface="Calibri"/>
              </a:rPr>
              <a:t>pomaže zemljama kandidatkinjama da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…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4"/>
          <p:cNvSpPr/>
          <p:nvPr/>
        </p:nvSpPr>
        <p:spPr>
          <a:xfrm>
            <a:off x="324000" y="765000"/>
            <a:ext cx="8424720" cy="3024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611280" y="1628640"/>
            <a:ext cx="741672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r>
              <a:rPr b="0" lang="ta-IN" sz="2400" spc="-1" strike="noStrike">
                <a:solidFill>
                  <a:srgbClr val="000000"/>
                </a:solidFill>
                <a:latin typeface="Calibri"/>
                <a:ea typeface="Calibri"/>
              </a:rPr>
              <a:t>zadovolje uvjete pristupa za članstvo u EU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r>
              <a:rPr b="0" lang="ta-IN" sz="2400" spc="-1" strike="noStrike">
                <a:solidFill>
                  <a:srgbClr val="000000"/>
                </a:solidFill>
                <a:latin typeface="Calibri"/>
                <a:ea typeface="Calibri"/>
              </a:rPr>
              <a:t>usklade svoje institucije i standarde s pravnom stečevinom EU (sva zajednička prava i obaveze koje povezuju članice EU)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r>
              <a:rPr b="0" lang="ta-IN" sz="2400" spc="-1" strike="noStrike">
                <a:solidFill>
                  <a:srgbClr val="000000"/>
                </a:solidFill>
                <a:latin typeface="Calibri"/>
                <a:ea typeface="Calibri"/>
              </a:rPr>
              <a:t>zadovolje uvjete kao države član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6"/>
          <p:cNvSpPr/>
          <p:nvPr/>
        </p:nvSpPr>
        <p:spPr>
          <a:xfrm>
            <a:off x="1042920" y="4005360"/>
            <a:ext cx="7705800" cy="2448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1258920" y="4076640"/>
            <a:ext cx="7200720" cy="21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200" spc="-1" strike="noStrike">
                <a:solidFill>
                  <a:srgbClr val="000000"/>
                </a:solidFill>
                <a:latin typeface="Calibri"/>
                <a:ea typeface="Calibri"/>
              </a:rPr>
              <a:t>Prije pristupanja Uniji zemlje kandidatkinje moraju prihvatiti pravnu stečevinu EU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200" spc="-1" strike="noStrike">
                <a:solidFill>
                  <a:srgbClr val="000000"/>
                </a:solidFill>
                <a:latin typeface="Calibri"/>
                <a:ea typeface="Calibri"/>
              </a:rPr>
              <a:t>Pravna stečevina EU uključuje sve deklaracije i rezolucije usvojene od strane Unije, koje također pokrivaju sektor obrazovanja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lang="ta-IN" sz="2200" spc="-1" strike="noStrike">
                <a:solidFill>
                  <a:srgbClr val="000000"/>
                </a:solidFill>
                <a:latin typeface="Calibri"/>
                <a:ea typeface="Calibri"/>
              </a:rPr>
              <a:t> te točnije, aspekte kvalitete na području poučavanja i obrazovanja nastavni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Action.tif"/>
          <p:cNvPicPr/>
          <p:nvPr/>
        </p:nvPicPr>
        <p:blipFill>
          <a:blip r:embed="rId1"/>
          <a:stretch/>
        </p:blipFill>
        <p:spPr>
          <a:xfrm>
            <a:off x="5867280" y="765000"/>
            <a:ext cx="1924200" cy="13240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2"/>
          <p:cNvSpPr/>
          <p:nvPr/>
        </p:nvSpPr>
        <p:spPr>
          <a:xfrm>
            <a:off x="1042920" y="5940360"/>
            <a:ext cx="720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 contents of this presentation are the sole responsibility of SPAN Consultants and can in no way be taken to reflect the views of the European Union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3492360" y="4184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alibri"/>
                <a:ea typeface="Calibri"/>
              </a:rPr>
              <a:t>Ured tima tehničke pomoć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Hvarska 7, 10000 Zagr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Tel.: +385 1 6180 9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971640" y="2133720"/>
            <a:ext cx="734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9900"/>
                </a:solidFill>
                <a:latin typeface="Tahoma"/>
                <a:ea typeface="Tahoma"/>
              </a:rPr>
              <a:t>Hvala vam na pozor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5"/>
          <p:cNvSpPr/>
          <p:nvPr/>
        </p:nvSpPr>
        <p:spPr>
          <a:xfrm>
            <a:off x="474480" y="112536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aul.roeders@azoo.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4000"/>
                            </p:stCondLst>
                            <p:childTnLst>
                              <p:par>
                                <p:cTn id="3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6000"/>
                            </p:stCondLst>
                            <p:childTnLst>
                              <p:par>
                                <p:cTn id="3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2"/>
          <p:cNvSpPr/>
          <p:nvPr/>
        </p:nvSpPr>
        <p:spPr>
          <a:xfrm>
            <a:off x="826920" y="76500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200" spc="-1" strike="noStrike">
                <a:solidFill>
                  <a:srgbClr val="000000"/>
                </a:solidFill>
                <a:latin typeface="Calibri"/>
                <a:ea typeface="Calibri"/>
              </a:rPr>
              <a:t>Nekoliko povijesnih točaka: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1476360" y="1125360"/>
            <a:ext cx="7416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Aft>
                <a:spcPts val="601"/>
              </a:spcAft>
              <a:buSzPct val="102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300" spc="-1" strike="noStrike">
                <a:solidFill>
                  <a:srgbClr val="000000"/>
                </a:solidFill>
                <a:latin typeface="Calibri"/>
                <a:ea typeface="Calibri"/>
              </a:rPr>
              <a:t>Prije 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Calibri"/>
              </a:rPr>
              <a:t>2000</a:t>
            </a:r>
            <a:r>
              <a:rPr b="0" lang="ta-IN" sz="2300" spc="-1" strike="noStrike">
                <a:solidFill>
                  <a:srgbClr val="000000"/>
                </a:solidFill>
                <a:latin typeface="Calibri"/>
                <a:ea typeface="Calibri"/>
              </a:rPr>
              <a:t>. godine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Calibri"/>
              </a:rPr>
              <a:t>: </a:t>
            </a:r>
            <a:r>
              <a:rPr b="0" lang="ta-IN" sz="2300" spc="-1" strike="noStrike">
                <a:solidFill>
                  <a:srgbClr val="000000"/>
                </a:solidFill>
                <a:latin typeface="Calibri"/>
                <a:ea typeface="Calibri"/>
              </a:rPr>
              <a:t>započeo Bolonjski proces; uveden Europski kvalifikacijski okvir; EU promiče pristup cjeloživotnom učenju i kontinuiranom profesionalnom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ta-IN" sz="2300" spc="-1" strike="noStrike">
                <a:solidFill>
                  <a:srgbClr val="000000"/>
                </a:solidFill>
                <a:latin typeface="Calibri"/>
                <a:ea typeface="Calibri"/>
              </a:rPr>
              <a:t>razvoju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601"/>
              </a:spcAft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Calibri"/>
              </a:rPr>
              <a:t>2000</a:t>
            </a:r>
            <a:r>
              <a:rPr b="0" lang="ta-IN" sz="23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Calibri"/>
              </a:rPr>
              <a:t>: </a:t>
            </a:r>
            <a:r>
              <a:rPr b="0" lang="ta-IN" sz="2300" spc="-1" strike="noStrike">
                <a:solidFill>
                  <a:srgbClr val="000000"/>
                </a:solidFill>
                <a:latin typeface="Calibri"/>
                <a:ea typeface="Calibri"/>
              </a:rPr>
              <a:t>Otkad je OESR započeo s </a:t>
            </a:r>
            <a:r>
              <a:rPr b="0" lang="ta-IN" sz="2300" spc="-1" strike="noStrike">
                <a:solidFill>
                  <a:srgbClr val="ff0000"/>
                </a:solidFill>
                <a:latin typeface="Calibri"/>
                <a:ea typeface="Calibri"/>
              </a:rPr>
              <a:t>Pisa studijama, </a:t>
            </a:r>
            <a:r>
              <a:rPr b="0" lang="ta-IN" sz="2300" spc="-1" strike="noStrike">
                <a:solidFill>
                  <a:srgbClr val="000000"/>
                </a:solidFill>
                <a:latin typeface="Calibri"/>
                <a:ea typeface="Calibri"/>
              </a:rPr>
              <a:t>kvaliteta poučavanja sve više dolazi u središte pozornosti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601"/>
              </a:spcAft>
              <a:buSzPct val="1028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Calibri"/>
              </a:rPr>
              <a:t>2005</a:t>
            </a:r>
            <a:r>
              <a:rPr b="0" lang="ta-IN" sz="23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Calibri"/>
              </a:rPr>
              <a:t>: </a:t>
            </a:r>
            <a:r>
              <a:rPr b="0" lang="ta-IN" sz="2300" spc="-1" strike="noStrike">
                <a:solidFill>
                  <a:srgbClr val="000000"/>
                </a:solidFill>
                <a:latin typeface="Calibri"/>
                <a:ea typeface="Calibri"/>
              </a:rPr>
              <a:t>izvješće OESR-a 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i="1" lang="ta-IN" sz="2300" spc="-1" strike="noStrike">
                <a:solidFill>
                  <a:srgbClr val="000000"/>
                </a:solidFill>
                <a:latin typeface="Calibri"/>
                <a:ea typeface="Calibri"/>
              </a:rPr>
              <a:t>Nastavnici su bitni</a:t>
            </a:r>
            <a:r>
              <a:rPr b="0" i="1" lang="en-GB" sz="2300" spc="-1" strike="noStrike">
                <a:solidFill>
                  <a:srgbClr val="000000"/>
                </a:solidFill>
                <a:latin typeface="Calibri"/>
                <a:ea typeface="Calibri"/>
              </a:rPr>
              <a:t>”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601"/>
              </a:spcAft>
              <a:buSzPct val="1028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Calibri"/>
              </a:rPr>
              <a:t>2006</a:t>
            </a:r>
            <a:r>
              <a:rPr b="0" lang="ta-IN" sz="23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Calibri"/>
              </a:rPr>
              <a:t>: </a:t>
            </a:r>
            <a:r>
              <a:rPr b="0" lang="ta-IN" sz="2300" spc="-1" strike="noStrike">
                <a:solidFill>
                  <a:srgbClr val="000000"/>
                </a:solidFill>
                <a:latin typeface="Calibri"/>
                <a:ea typeface="Calibri"/>
              </a:rPr>
              <a:t>Zakon 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Calibri"/>
              </a:rPr>
              <a:t>ATEE</a:t>
            </a:r>
            <a:r>
              <a:rPr b="0" lang="ta-IN" sz="2300" spc="-1" strike="noStrike">
                <a:solidFill>
                  <a:srgbClr val="000000"/>
                </a:solidFill>
                <a:latin typeface="Calibri"/>
                <a:ea typeface="Calibri"/>
              </a:rPr>
              <a:t>-a (Udruženje za obrazovanje nastavnika u Europi)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i="1" lang="en-GB" sz="23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i="1" lang="ta-IN" sz="2300" spc="-1" strike="noStrike">
                <a:solidFill>
                  <a:srgbClr val="000000"/>
                </a:solidFill>
                <a:latin typeface="Calibri"/>
                <a:ea typeface="Calibri"/>
              </a:rPr>
              <a:t>Kvaliteta nastavnika</a:t>
            </a:r>
            <a:r>
              <a:rPr b="0" i="1" lang="en-GB" sz="2300" spc="-1" strike="noStrike">
                <a:solidFill>
                  <a:srgbClr val="000000"/>
                </a:solidFill>
                <a:latin typeface="Calibri"/>
                <a:ea typeface="Calibri"/>
              </a:rPr>
              <a:t>”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601"/>
              </a:spcAft>
              <a:buSzPct val="1028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Calibri"/>
              </a:rPr>
              <a:t>2007</a:t>
            </a:r>
            <a:r>
              <a:rPr b="0" lang="ta-IN" sz="23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Calibri"/>
              </a:rPr>
              <a:t>: </a:t>
            </a:r>
            <a:r>
              <a:rPr b="0" lang="ta-IN" sz="2300" spc="-1" strike="noStrike">
                <a:solidFill>
                  <a:srgbClr val="000000"/>
                </a:solidFill>
                <a:latin typeface="Calibri"/>
                <a:ea typeface="Calibri"/>
              </a:rPr>
              <a:t>Vijeće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Calibri"/>
              </a:rPr>
              <a:t> EU </a:t>
            </a:r>
            <a:r>
              <a:rPr b="0" lang="ta-IN" sz="2300" spc="-1" strike="noStrike">
                <a:solidFill>
                  <a:srgbClr val="000000"/>
                </a:solidFill>
                <a:latin typeface="Calibri"/>
                <a:ea typeface="Calibri"/>
              </a:rPr>
              <a:t>i njezinih članica usvaja </a:t>
            </a:r>
            <a:r>
              <a:rPr b="0" lang="ta-IN" sz="2300" spc="-1" strike="noStrike">
                <a:solidFill>
                  <a:srgbClr val="ff0000"/>
                </a:solidFill>
                <a:latin typeface="Calibri"/>
                <a:ea typeface="Calibri"/>
              </a:rPr>
              <a:t>zakon</a:t>
            </a:r>
            <a:r>
              <a:rPr b="0" lang="ta-IN" sz="2300" spc="-1" strike="noStrike">
                <a:solidFill>
                  <a:srgbClr val="000000"/>
                </a:solidFill>
                <a:latin typeface="Calibri"/>
                <a:ea typeface="Calibri"/>
              </a:rPr>
              <a:t> o povećanju kvalitete obrazovanja nastavnika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601"/>
              </a:spcAft>
              <a:buSzPct val="1028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Calibri"/>
              </a:rPr>
              <a:t>2009</a:t>
            </a:r>
            <a:r>
              <a:rPr b="0" lang="ta-IN" sz="23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Calibri"/>
              </a:rPr>
              <a:t>: EU strateški okvir "ET 2020"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601"/>
              </a:spcAft>
              <a:buSzPct val="1028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Calibri"/>
              </a:rPr>
              <a:t>2010</a:t>
            </a:r>
            <a:r>
              <a:rPr b="0" lang="ta-IN" sz="23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Calibri"/>
              </a:rPr>
              <a:t>: </a:t>
            </a:r>
            <a:r>
              <a:rPr b="0" lang="ta-IN" sz="2300" spc="-1" strike="noStrike">
                <a:solidFill>
                  <a:srgbClr val="000000"/>
                </a:solidFill>
                <a:latin typeface="Calibri"/>
                <a:ea typeface="Calibri"/>
              </a:rPr>
              <a:t>Publikacija </a:t>
            </a:r>
            <a:r>
              <a:rPr b="0" lang="ta-IN" sz="2300" spc="-1" strike="noStrike">
                <a:solidFill>
                  <a:srgbClr val="ff0000"/>
                </a:solidFill>
                <a:latin typeface="Calibri"/>
                <a:ea typeface="Calibri"/>
              </a:rPr>
              <a:t>izvješća</a:t>
            </a:r>
            <a:r>
              <a:rPr b="0" lang="ta-IN" sz="23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Calibri"/>
              </a:rPr>
              <a:t>EU/</a:t>
            </a:r>
            <a:r>
              <a:rPr b="0" lang="ta-IN" sz="2300" spc="-1" strike="noStrike">
                <a:solidFill>
                  <a:srgbClr val="000000"/>
                </a:solidFill>
                <a:latin typeface="Calibri"/>
                <a:ea typeface="Calibri"/>
              </a:rPr>
              <a:t>OESR </a:t>
            </a:r>
            <a:r>
              <a:rPr b="0" i="1" lang="en-GB" sz="23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i="1" lang="ta-IN" sz="2300" spc="-1" strike="noStrike">
                <a:solidFill>
                  <a:srgbClr val="000000"/>
                </a:solidFill>
                <a:latin typeface="Calibri"/>
                <a:ea typeface="Calibri"/>
              </a:rPr>
              <a:t>Nastavnici</a:t>
            </a:r>
            <a:r>
              <a:rPr b="0" i="1" lang="en-GB" sz="2300" spc="-1" strike="noStrike">
                <a:solidFill>
                  <a:srgbClr val="000000"/>
                </a:solidFill>
                <a:latin typeface="Calibri"/>
                <a:ea typeface="Calibri"/>
              </a:rPr>
              <a:t>’ </a:t>
            </a:r>
            <a:r>
              <a:rPr b="0" i="1" lang="ta-IN" sz="2300" spc="-1" strike="noStrike">
                <a:solidFill>
                  <a:srgbClr val="000000"/>
                </a:solidFill>
                <a:latin typeface="Calibri"/>
                <a:ea typeface="Calibri"/>
              </a:rPr>
              <a:t>profesionalni razvoj –</a:t>
            </a:r>
            <a:r>
              <a:rPr b="0" i="1" lang="en-GB" sz="23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i="1" lang="ta-IN" sz="2300" spc="-1" strike="noStrike">
                <a:solidFill>
                  <a:srgbClr val="000000"/>
                </a:solidFill>
                <a:latin typeface="Calibri"/>
                <a:ea typeface="Calibri"/>
              </a:rPr>
              <a:t>Europa u međunarodnoj usporedbi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nip Same Side Corner Rectangle 10"/>
          <p:cNvSpPr/>
          <p:nvPr/>
        </p:nvSpPr>
        <p:spPr>
          <a:xfrm rot="10800000">
            <a:off x="826920" y="764640"/>
            <a:ext cx="8066160" cy="5832720"/>
          </a:xfrm>
          <a:custGeom>
            <a:avLst/>
            <a:gdLst>
              <a:gd name="textAreaLeft" fmla="*/ 486000 w 8066160"/>
              <a:gd name="textAreaRight" fmla="*/ 7580160 w 8066160"/>
              <a:gd name="textAreaTop" fmla="*/ 486000 h 5832720"/>
              <a:gd name="textAreaBottom" fmla="*/ 5832720 h 5832720"/>
            </a:gdLst>
            <a:ahLst/>
            <a:rect l="textAreaLeft" t="textAreaTop" r="textAreaRight" b="textAreaBottom"/>
            <a:pathLst>
              <a:path w="8066087" h="5832475">
                <a:moveTo>
                  <a:pt x="972099" y="0"/>
                </a:moveTo>
                <a:lnTo>
                  <a:pt x="7093988" y="0"/>
                </a:lnTo>
                <a:lnTo>
                  <a:pt x="8066087" y="972099"/>
                </a:lnTo>
                <a:lnTo>
                  <a:pt x="8066087" y="5832475"/>
                </a:lnTo>
                <a:lnTo>
                  <a:pt x="8066087" y="5832475"/>
                </a:lnTo>
                <a:lnTo>
                  <a:pt x="0" y="5832475"/>
                </a:lnTo>
                <a:lnTo>
                  <a:pt x="0" y="5832475"/>
                </a:lnTo>
                <a:lnTo>
                  <a:pt x="0" y="972099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8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nip Same Side Corner Rectangle 3"/>
          <p:cNvSpPr/>
          <p:nvPr/>
        </p:nvSpPr>
        <p:spPr>
          <a:xfrm rot="10800000">
            <a:off x="826920" y="764640"/>
            <a:ext cx="8066160" cy="5832720"/>
          </a:xfrm>
          <a:custGeom>
            <a:avLst/>
            <a:gdLst>
              <a:gd name="textAreaLeft" fmla="*/ 486000 w 8066160"/>
              <a:gd name="textAreaRight" fmla="*/ 7580160 w 8066160"/>
              <a:gd name="textAreaTop" fmla="*/ 486000 h 5832720"/>
              <a:gd name="textAreaBottom" fmla="*/ 5832720 h 5832720"/>
            </a:gdLst>
            <a:ahLst/>
            <a:rect l="textAreaLeft" t="textAreaTop" r="textAreaRight" b="textAreaBottom"/>
            <a:pathLst>
              <a:path w="8066087" h="5832475">
                <a:moveTo>
                  <a:pt x="972099" y="0"/>
                </a:moveTo>
                <a:lnTo>
                  <a:pt x="7093988" y="0"/>
                </a:lnTo>
                <a:lnTo>
                  <a:pt x="8066087" y="972099"/>
                </a:lnTo>
                <a:lnTo>
                  <a:pt x="8066087" y="5832475"/>
                </a:lnTo>
                <a:lnTo>
                  <a:pt x="8066087" y="5832475"/>
                </a:lnTo>
                <a:lnTo>
                  <a:pt x="0" y="5832475"/>
                </a:lnTo>
                <a:lnTo>
                  <a:pt x="0" y="5832475"/>
                </a:lnTo>
                <a:lnTo>
                  <a:pt x="0" y="972099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1332000" y="1125360"/>
            <a:ext cx="74880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400" spc="-1" strike="noStrike">
                <a:solidFill>
                  <a:srgbClr val="000000"/>
                </a:solidFill>
                <a:latin typeface="Calibri"/>
                <a:ea typeface="Calibri"/>
              </a:rPr>
              <a:t>Tri zemlje članice u vrhu EU koje dosljedno visoko kotiraju u PISA studijama (2000. – 2009.) u sva tri područja (pismenost, matematika i znanost), uglavnom su među prvih 10 u svijet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000000"/>
                </a:solidFill>
                <a:latin typeface="Calibri"/>
                <a:ea typeface="Calibri"/>
              </a:rPr>
              <a:t>Fin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000000"/>
                </a:solidFill>
                <a:latin typeface="Calibri"/>
                <a:ea typeface="Calibri"/>
              </a:rPr>
              <a:t>Nizozem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000000"/>
                </a:solidFill>
                <a:latin typeface="Calibri"/>
                <a:ea typeface="Calibri"/>
              </a:rPr>
              <a:t>Eston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1403280" y="4548240"/>
            <a:ext cx="741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800" spc="-1" strike="noStrike">
                <a:solidFill>
                  <a:srgbClr val="ff0000"/>
                </a:solidFill>
                <a:latin typeface="Calibri"/>
                <a:ea typeface="Calibri"/>
              </a:rPr>
              <a:t>Što čini kvalitetu obrazovanja u ove tri “iznadprosječne” zemlje članice višom od kvalitete u ostalim “prosječnim” ili čak “ispodprosječnim” zemljama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nip Same Side Corner Rectangle 3"/>
          <p:cNvSpPr/>
          <p:nvPr/>
        </p:nvSpPr>
        <p:spPr>
          <a:xfrm rot="10800000">
            <a:off x="826920" y="764640"/>
            <a:ext cx="8066160" cy="5832720"/>
          </a:xfrm>
          <a:custGeom>
            <a:avLst/>
            <a:gdLst>
              <a:gd name="textAreaLeft" fmla="*/ 486000 w 8066160"/>
              <a:gd name="textAreaRight" fmla="*/ 7580160 w 8066160"/>
              <a:gd name="textAreaTop" fmla="*/ 486000 h 5832720"/>
              <a:gd name="textAreaBottom" fmla="*/ 5832720 h 5832720"/>
            </a:gdLst>
            <a:ahLst/>
            <a:rect l="textAreaLeft" t="textAreaTop" r="textAreaRight" b="textAreaBottom"/>
            <a:pathLst>
              <a:path w="8066087" h="5832475">
                <a:moveTo>
                  <a:pt x="972099" y="0"/>
                </a:moveTo>
                <a:lnTo>
                  <a:pt x="7093988" y="0"/>
                </a:lnTo>
                <a:lnTo>
                  <a:pt x="8066087" y="972099"/>
                </a:lnTo>
                <a:lnTo>
                  <a:pt x="8066087" y="5832475"/>
                </a:lnTo>
                <a:lnTo>
                  <a:pt x="8066087" y="5832475"/>
                </a:lnTo>
                <a:lnTo>
                  <a:pt x="0" y="5832475"/>
                </a:lnTo>
                <a:lnTo>
                  <a:pt x="0" y="5832475"/>
                </a:lnTo>
                <a:lnTo>
                  <a:pt x="0" y="972099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1332000" y="112536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800" spc="-1" strike="noStrike">
                <a:solidFill>
                  <a:srgbClr val="000000"/>
                </a:solidFill>
                <a:latin typeface="Calibri"/>
                <a:ea typeface="Calibri"/>
              </a:rPr>
              <a:t>Je li to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1042920" y="2133720"/>
            <a:ext cx="518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000000"/>
                </a:solidFill>
                <a:latin typeface="Calibri"/>
                <a:ea typeface="Calibri"/>
              </a:rPr>
              <a:t>Status nastavnika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000000"/>
                </a:solidFill>
                <a:latin typeface="Calibri"/>
                <a:ea typeface="Calibri"/>
              </a:rPr>
              <a:t>Plaća nastavnika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000000"/>
                </a:solidFill>
                <a:latin typeface="Calibri"/>
                <a:ea typeface="Calibri"/>
              </a:rPr>
              <a:t>Homogenost u razredu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000000"/>
                </a:solidFill>
                <a:latin typeface="Calibri"/>
                <a:ea typeface="Calibri"/>
              </a:rPr>
              <a:t>Početno obrazovanje nastavnika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000000"/>
                </a:solidFill>
                <a:latin typeface="Calibri"/>
                <a:ea typeface="Calibri"/>
              </a:rPr>
              <a:t>Kvaliteta i uključenost u kontinuirani profesionalni razvoj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6300720" y="2135160"/>
            <a:ext cx="2519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000000"/>
                </a:solidFill>
                <a:latin typeface="Calibri"/>
                <a:ea typeface="Calibri"/>
              </a:rPr>
              <a:t>DA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000000"/>
                </a:solidFill>
                <a:latin typeface="Calibri"/>
                <a:ea typeface="Calibri"/>
              </a:rPr>
              <a:t>U određenoj mj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000000"/>
                </a:solidFill>
                <a:latin typeface="Calibri"/>
                <a:ea typeface="Calibri"/>
              </a:rPr>
              <a:t>Definitivno 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000000"/>
                </a:solidFill>
                <a:latin typeface="Calibri"/>
                <a:ea typeface="Calibri"/>
              </a:rPr>
              <a:t>Definitivno 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000000"/>
                </a:solidFill>
                <a:latin typeface="Calibri"/>
                <a:ea typeface="Calibri"/>
              </a:rPr>
              <a:t>Definitivno 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1692360" y="5877000"/>
            <a:ext cx="67672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Calibri"/>
              </a:rPr>
              <a:t>*</a:t>
            </a:r>
            <a:r>
              <a:rPr b="0" i="1" lang="ta-IN" sz="1700" spc="-1" strike="noStrike">
                <a:solidFill>
                  <a:srgbClr val="000000"/>
                </a:solidFill>
                <a:latin typeface="Calibri"/>
                <a:ea typeface="Calibri"/>
              </a:rPr>
              <a:t>Estonija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Calibri"/>
              </a:rPr>
              <a:t>: </a:t>
            </a:r>
            <a:r>
              <a:rPr b="0" lang="ta-IN" sz="1700" spc="-1" strike="noStrike">
                <a:solidFill>
                  <a:srgbClr val="000000"/>
                </a:solidFill>
                <a:latin typeface="Calibri"/>
                <a:ea typeface="Calibri"/>
              </a:rPr>
              <a:t>dobro definiran razvoj karijere nastavnika; studenti s najvećim brojem bodova na maturi automatski se upisuju na učiteljske fakultete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2"/>
          <p:cNvSpPr/>
          <p:nvPr/>
        </p:nvSpPr>
        <p:spPr>
          <a:xfrm>
            <a:off x="826920" y="765000"/>
            <a:ext cx="79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400" spc="-1" strike="noStrike">
                <a:solidFill>
                  <a:srgbClr val="000000"/>
                </a:solidFill>
                <a:latin typeface="Calibri"/>
                <a:ea typeface="Calibri"/>
              </a:rPr>
              <a:t>U zaključcima Europskog vijeća 15.11.2007. o poboljšanju kvalitete obrazovanja nastavnika, ministri odgovorni za obrazovanje složili su se oko sljedeće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1042920" y="2316240"/>
            <a:ext cx="7705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spcAft>
                <a:spcPts val="1199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a-IN" sz="2400" spc="-1" strike="noStrike">
                <a:solidFill>
                  <a:srgbClr val="000000"/>
                </a:solidFill>
                <a:latin typeface="Calibri"/>
                <a:ea typeface="Calibri"/>
              </a:rPr>
              <a:t>da je potrebno osigurati početno obrazovanje, ranu podršku u karijeri (indukcija) i daljnji profesionalni razvoj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* </a:t>
            </a:r>
            <a:r>
              <a:rPr b="0" i="1" lang="ta-IN" sz="2400" spc="-1" strike="noStrike">
                <a:solidFill>
                  <a:srgbClr val="000000"/>
                </a:solidFill>
                <a:latin typeface="Calibri"/>
                <a:ea typeface="Calibri"/>
              </a:rPr>
              <a:t>koji su  </a:t>
            </a:r>
            <a:r>
              <a:rPr b="0" i="1" lang="ta-IN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koordinirani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, </a:t>
            </a:r>
            <a:r>
              <a:rPr b="0" i="1" lang="ta-IN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koherentni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, </a:t>
            </a:r>
            <a:r>
              <a:rPr b="0" i="1" lang="ta-IN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adekvatno osposobljeni i s osiguranom kvalitetom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;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a-IN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poboljšati kvalitetu </a:t>
            </a:r>
            <a:r>
              <a:rPr b="0" i="1" lang="ta-IN" sz="2400" spc="-1" strike="noStrike">
                <a:solidFill>
                  <a:srgbClr val="000000"/>
                </a:solidFill>
                <a:latin typeface="Calibri"/>
                <a:ea typeface="Calibri"/>
              </a:rPr>
              <a:t>obrazovanja nastavnika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Aft>
                <a:spcPts val="11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a-IN" sz="2400" spc="-1" strike="noStrike">
                <a:solidFill>
                  <a:srgbClr val="000000"/>
                </a:solidFill>
                <a:latin typeface="Calibri"/>
                <a:ea typeface="Calibri"/>
              </a:rPr>
              <a:t>da učiteljsku profesiju treba učiniti </a:t>
            </a:r>
            <a:r>
              <a:rPr b="0" i="1" lang="ta-IN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atraktivnijim</a:t>
            </a:r>
            <a:r>
              <a:rPr b="0" i="1" lang="ta-IN" sz="2400" spc="-1" strike="noStrike">
                <a:solidFill>
                  <a:srgbClr val="000000"/>
                </a:solidFill>
                <a:latin typeface="Calibri"/>
                <a:ea typeface="Calibri"/>
              </a:rPr>
              <a:t> izborom karijere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*</a:t>
            </a:r>
            <a:r>
              <a:rPr b="0" i="1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cjeloživotno učenje i kontinuirani profesionalni razvoj za nastavn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nip Same Side Corner Rectangle 10"/>
          <p:cNvSpPr/>
          <p:nvPr/>
        </p:nvSpPr>
        <p:spPr>
          <a:xfrm rot="10800000">
            <a:off x="826920" y="764640"/>
            <a:ext cx="8066160" cy="5832720"/>
          </a:xfrm>
          <a:custGeom>
            <a:avLst/>
            <a:gdLst>
              <a:gd name="textAreaLeft" fmla="*/ 486000 w 8066160"/>
              <a:gd name="textAreaRight" fmla="*/ 7580160 w 8066160"/>
              <a:gd name="textAreaTop" fmla="*/ 486000 h 5832720"/>
              <a:gd name="textAreaBottom" fmla="*/ 5832720 h 5832720"/>
            </a:gdLst>
            <a:ahLst/>
            <a:rect l="textAreaLeft" t="textAreaTop" r="textAreaRight" b="textAreaBottom"/>
            <a:pathLst>
              <a:path w="8066087" h="5832475">
                <a:moveTo>
                  <a:pt x="972099" y="0"/>
                </a:moveTo>
                <a:lnTo>
                  <a:pt x="7093988" y="0"/>
                </a:lnTo>
                <a:lnTo>
                  <a:pt x="8066087" y="972099"/>
                </a:lnTo>
                <a:lnTo>
                  <a:pt x="8066087" y="5832475"/>
                </a:lnTo>
                <a:lnTo>
                  <a:pt x="8066087" y="5832475"/>
                </a:lnTo>
                <a:lnTo>
                  <a:pt x="0" y="5832475"/>
                </a:lnTo>
                <a:lnTo>
                  <a:pt x="0" y="5832475"/>
                </a:lnTo>
                <a:lnTo>
                  <a:pt x="0" y="972099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2"/>
          <p:cNvSpPr/>
          <p:nvPr/>
        </p:nvSpPr>
        <p:spPr>
          <a:xfrm>
            <a:off x="826920" y="765000"/>
            <a:ext cx="79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400" spc="-1" strike="noStrike">
                <a:solidFill>
                  <a:srgbClr val="000000"/>
                </a:solidFill>
                <a:latin typeface="Calibri"/>
                <a:ea typeface="Calibri"/>
              </a:rPr>
              <a:t>Naime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1" lang="ta-IN" sz="2400" spc="-1" strike="noStrike">
                <a:solidFill>
                  <a:srgbClr val="000000"/>
                </a:solidFill>
                <a:latin typeface="Calibri"/>
                <a:ea typeface="Calibri"/>
              </a:rPr>
              <a:t> dogovoreno je da bi nastavnici trebali: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1187280" y="1197000"/>
            <a:ext cx="741708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spcAft>
                <a:spcPts val="1199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a-IN" sz="2400" spc="-1" strike="noStrike">
                <a:solidFill>
                  <a:srgbClr val="000000"/>
                </a:solidFill>
                <a:latin typeface="Calibri"/>
                <a:ea typeface="Calibri"/>
              </a:rPr>
              <a:t>imati pedagoške vještine, kao i specijalizirano znanje svoga predmeta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a-IN" sz="2400" spc="-1" strike="noStrike">
                <a:solidFill>
                  <a:srgbClr val="000000"/>
                </a:solidFill>
                <a:latin typeface="Calibri"/>
                <a:ea typeface="Calibri"/>
              </a:rPr>
              <a:t>imati pristup učinkovitim programima potpore na početku svoje karijere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Aft>
                <a:spcPts val="11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a-IN" sz="2400" spc="-1" strike="noStrike">
                <a:solidFill>
                  <a:srgbClr val="000000"/>
                </a:solidFill>
                <a:latin typeface="Calibri"/>
                <a:ea typeface="Calibri"/>
              </a:rPr>
              <a:t>imati dostatne poticaje tijekom karijere radi preispitivanja svojih potreba za učenjem i stjecanja novih kompetencija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Aft>
                <a:spcPts val="1199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a-IN" sz="2400" spc="-1" strike="noStrike">
                <a:solidFill>
                  <a:srgbClr val="000000"/>
                </a:solidFill>
                <a:latin typeface="Calibri"/>
                <a:ea typeface="Calibri"/>
              </a:rPr>
              <a:t>biti u mogućnosti poučavati ključne kompetencije i učinkovito poučavati u heterogenim razredim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Aft>
                <a:spcPts val="1199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a-IN" sz="2400" spc="-1" strike="noStrike">
                <a:solidFill>
                  <a:srgbClr val="000000"/>
                </a:solidFill>
                <a:latin typeface="Calibri"/>
                <a:ea typeface="Calibri"/>
              </a:rPr>
              <a:t>sudjelovati u refleksivnoj praksi i istraživanju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Aft>
                <a:spcPts val="1199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a-IN" sz="2400" spc="-1" strike="noStrike">
                <a:solidFill>
                  <a:srgbClr val="000000"/>
                </a:solidFill>
                <a:latin typeface="Calibri"/>
                <a:ea typeface="Calibri"/>
              </a:rPr>
              <a:t>biti autonomni učenici u procesu profesionalnog razvoja tijekom svoje karijere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nip Same Side Corner Rectangle 10"/>
          <p:cNvSpPr/>
          <p:nvPr/>
        </p:nvSpPr>
        <p:spPr>
          <a:xfrm rot="10800000">
            <a:off x="826560" y="764640"/>
            <a:ext cx="8137800" cy="5832720"/>
          </a:xfrm>
          <a:custGeom>
            <a:avLst/>
            <a:gdLst>
              <a:gd name="textAreaLeft" fmla="*/ 486000 w 8137800"/>
              <a:gd name="textAreaRight" fmla="*/ 7651800 w 8137800"/>
              <a:gd name="textAreaTop" fmla="*/ 486000 h 5832720"/>
              <a:gd name="textAreaBottom" fmla="*/ 5832720 h 5832720"/>
            </a:gdLst>
            <a:ahLst/>
            <a:rect l="textAreaLeft" t="textAreaTop" r="textAreaRight" b="textAreaBottom"/>
            <a:pathLst>
              <a:path w="8137525" h="5832475">
                <a:moveTo>
                  <a:pt x="972099" y="0"/>
                </a:moveTo>
                <a:lnTo>
                  <a:pt x="7165426" y="0"/>
                </a:lnTo>
                <a:lnTo>
                  <a:pt x="8137525" y="972099"/>
                </a:lnTo>
                <a:lnTo>
                  <a:pt x="8137525" y="5832475"/>
                </a:lnTo>
                <a:lnTo>
                  <a:pt x="8137525" y="5832475"/>
                </a:lnTo>
                <a:lnTo>
                  <a:pt x="0" y="5832475"/>
                </a:lnTo>
                <a:lnTo>
                  <a:pt x="0" y="5832475"/>
                </a:lnTo>
                <a:lnTo>
                  <a:pt x="0" y="972099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2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4"/>
          <p:cNvSpPr/>
          <p:nvPr/>
        </p:nvSpPr>
        <p:spPr>
          <a:xfrm>
            <a:off x="1332000" y="2573280"/>
            <a:ext cx="7416720" cy="40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Aft>
                <a:spcPts val="300"/>
              </a:spcAft>
              <a:buClr>
                <a:srgbClr val="00206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100" spc="-1" strike="noStrike">
                <a:solidFill>
                  <a:srgbClr val="000000"/>
                </a:solidFill>
                <a:latin typeface="Calibri"/>
                <a:ea typeface="Calibri"/>
              </a:rPr>
              <a:t>Uključeno je u politiku i strategiju za poboljšanje cjelokupnog obrazovnog sektora</a:t>
            </a: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300"/>
              </a:spcAft>
              <a:buClr>
                <a:srgbClr val="00206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100" spc="-1" strike="noStrike">
                <a:solidFill>
                  <a:srgbClr val="000000"/>
                </a:solidFill>
                <a:latin typeface="Calibri"/>
                <a:ea typeface="Calibri"/>
              </a:rPr>
              <a:t>Ima stabilan, transparentan i odgovoran sustav financiranja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300"/>
              </a:spcAft>
              <a:buClr>
                <a:srgbClr val="00206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100" spc="-1" strike="noStrike">
                <a:solidFill>
                  <a:srgbClr val="000000"/>
                </a:solidFill>
                <a:latin typeface="Calibri"/>
                <a:ea typeface="Calibri"/>
              </a:rPr>
              <a:t>Orijentirano je na potražnju</a:t>
            </a: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300"/>
              </a:spcAft>
              <a:buClr>
                <a:srgbClr val="00206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100" spc="-1" strike="noStrike">
                <a:solidFill>
                  <a:srgbClr val="000000"/>
                </a:solidFill>
                <a:latin typeface="Calibri"/>
                <a:ea typeface="Calibri"/>
              </a:rPr>
              <a:t>Koristi okvir kompetencija za nastavnike i ravnatelje kao osnovu za ishode učenja u početnom obrazovanju nastavnika i za procjenu potreba za stručnim usavršavanjem odgojno-obrazovnih radnika</a:t>
            </a: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300"/>
              </a:spcAft>
              <a:buClr>
                <a:srgbClr val="00206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100" spc="-1" strike="noStrike">
                <a:solidFill>
                  <a:srgbClr val="000000"/>
                </a:solidFill>
                <a:latin typeface="Calibri"/>
                <a:ea typeface="Calibri"/>
              </a:rPr>
              <a:t>Uključuje kontinuirani dijalog između Ministarstva, tijela odgovornog za stručno usavršavanje odgojno-obrazovnih radnika i fakulteta/sveučilišta odgovornih za početno obrazovanje nastavnika</a:t>
            </a: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nip Same Side Corner Rectangle 5"/>
          <p:cNvSpPr/>
          <p:nvPr/>
        </p:nvSpPr>
        <p:spPr>
          <a:xfrm rot="10800000">
            <a:off x="826920" y="764640"/>
            <a:ext cx="8066160" cy="5832720"/>
          </a:xfrm>
          <a:custGeom>
            <a:avLst/>
            <a:gdLst>
              <a:gd name="textAreaLeft" fmla="*/ 486000 w 8066160"/>
              <a:gd name="textAreaRight" fmla="*/ 7580160 w 8066160"/>
              <a:gd name="textAreaTop" fmla="*/ 486000 h 5832720"/>
              <a:gd name="textAreaBottom" fmla="*/ 5832720 h 5832720"/>
            </a:gdLst>
            <a:ahLst/>
            <a:rect l="textAreaLeft" t="textAreaTop" r="textAreaRight" b="textAreaBottom"/>
            <a:pathLst>
              <a:path w="8066087" h="5832475">
                <a:moveTo>
                  <a:pt x="972099" y="0"/>
                </a:moveTo>
                <a:lnTo>
                  <a:pt x="7093988" y="0"/>
                </a:lnTo>
                <a:lnTo>
                  <a:pt x="8066087" y="972099"/>
                </a:lnTo>
                <a:lnTo>
                  <a:pt x="8066087" y="5832475"/>
                </a:lnTo>
                <a:lnTo>
                  <a:pt x="8066087" y="5832475"/>
                </a:lnTo>
                <a:lnTo>
                  <a:pt x="0" y="5832475"/>
                </a:lnTo>
                <a:lnTo>
                  <a:pt x="0" y="5832475"/>
                </a:lnTo>
                <a:lnTo>
                  <a:pt x="0" y="972099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826920" y="789120"/>
            <a:ext cx="806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200" spc="-1" strike="noStrike">
                <a:solidFill>
                  <a:srgbClr val="000000"/>
                </a:solidFill>
                <a:latin typeface="Calibri"/>
                <a:ea typeface="Calibri"/>
              </a:rPr>
              <a:t>Analizirajući “top 3 EU prakse”, koja su obilježja sustava stručnog usavršavanja odgojno-obrazovnih radnika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  <a:ea typeface="Calibri"/>
              </a:rPr>
              <a:t> (</a:t>
            </a:r>
            <a:r>
              <a:rPr b="1" lang="ta-IN" sz="2200" spc="-1" strike="noStrike">
                <a:solidFill>
                  <a:srgbClr val="000000"/>
                </a:solidFill>
                <a:latin typeface="Calibri"/>
                <a:ea typeface="Calibri"/>
              </a:rPr>
              <a:t>kao glavnog elementa u učinkovitom kontinuiranom profesionalnom razvoju nastavnika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1042920" y="1887480"/>
            <a:ext cx="59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Calibri"/>
                <a:ea typeface="Calibri"/>
              </a:rPr>
              <a:t>A. </a:t>
            </a:r>
            <a:r>
              <a:rPr b="0" i="1" lang="ta-IN" sz="2200" spc="-1" strike="noStrike">
                <a:solidFill>
                  <a:srgbClr val="000000"/>
                </a:solidFill>
                <a:latin typeface="Calibri"/>
                <a:ea typeface="Calibri"/>
              </a:rPr>
              <a:t>Na sistemskoj </a:t>
            </a:r>
            <a:r>
              <a:rPr b="0" i="1" lang="en-GB" sz="2200" spc="-1" strike="noStrike">
                <a:solidFill>
                  <a:srgbClr val="000000"/>
                </a:solidFill>
                <a:latin typeface="Calibri"/>
                <a:ea typeface="Calibri"/>
              </a:rPr>
              <a:t>/</a:t>
            </a:r>
            <a:r>
              <a:rPr b="0" i="1" lang="ta-IN" sz="2200" spc="-1" strike="noStrike">
                <a:solidFill>
                  <a:srgbClr val="000000"/>
                </a:solidFill>
                <a:latin typeface="Calibri"/>
                <a:ea typeface="Calibri"/>
              </a:rPr>
              <a:t>institucionalnoj razini stručno usavršavanje odgojno-obrazovnih radnika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4"/>
          <p:cNvSpPr/>
          <p:nvPr/>
        </p:nvSpPr>
        <p:spPr>
          <a:xfrm>
            <a:off x="1258920" y="2720880"/>
            <a:ext cx="7634160" cy="34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Aft>
                <a:spcPts val="300"/>
              </a:spcAft>
              <a:buClr>
                <a:srgbClr val="00206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100" spc="-1" strike="noStrike">
                <a:solidFill>
                  <a:srgbClr val="000000"/>
                </a:solidFill>
                <a:latin typeface="Calibri"/>
                <a:ea typeface="Calibri"/>
              </a:rPr>
              <a:t>Koristi školske razvojne planove kao osnovu za procjenu potreba za stručnim usavršavanjem na razini škola i nastavnika/voditelja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300"/>
              </a:spcAft>
              <a:buClr>
                <a:srgbClr val="00206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100" spc="-1" strike="noStrike">
                <a:solidFill>
                  <a:srgbClr val="000000"/>
                </a:solidFill>
                <a:latin typeface="Calibri"/>
                <a:ea typeface="Calibri"/>
              </a:rPr>
              <a:t>Orijentirano je na ishode učenja i primjenjuje metodologiju sudjelovanja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300"/>
              </a:spcAft>
              <a:buClr>
                <a:srgbClr val="00206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100" spc="-1" strike="noStrike">
                <a:solidFill>
                  <a:srgbClr val="000000"/>
                </a:solidFill>
                <a:latin typeface="Calibri"/>
                <a:ea typeface="Calibri"/>
              </a:rPr>
              <a:t>U aktivnostima usavršavanja primjenjuje modernu tehnologiju</a:t>
            </a: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300"/>
              </a:spcAft>
              <a:buClr>
                <a:srgbClr val="00206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100" spc="-1" strike="noStrike">
                <a:solidFill>
                  <a:srgbClr val="000000"/>
                </a:solidFill>
                <a:latin typeface="Calibri"/>
                <a:ea typeface="Calibri"/>
              </a:rPr>
              <a:t>Uključuje mješavinu vanjskih i školskih aktivnosti izgradnje kapaciteta; </a:t>
            </a: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300"/>
              </a:spcAft>
              <a:buClr>
                <a:srgbClr val="00206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100" spc="-1" strike="noStrike">
                <a:solidFill>
                  <a:srgbClr val="000000"/>
                </a:solidFill>
                <a:latin typeface="Calibri"/>
                <a:ea typeface="Calibri"/>
              </a:rPr>
              <a:t>Uključuje sustav osiguranja kvalitete (OK) aktivnosti usavršavanja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300"/>
              </a:spcAft>
              <a:buClr>
                <a:srgbClr val="00206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100" spc="-1" strike="noStrike">
                <a:solidFill>
                  <a:srgbClr val="000000"/>
                </a:solidFill>
                <a:latin typeface="Calibri"/>
                <a:ea typeface="Calibri"/>
              </a:rPr>
              <a:t>Uključuje niz akreditiranih davatelja uslug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nip Same Side Corner Rectangle 5"/>
          <p:cNvSpPr/>
          <p:nvPr/>
        </p:nvSpPr>
        <p:spPr>
          <a:xfrm rot="10800000">
            <a:off x="826920" y="764640"/>
            <a:ext cx="8066160" cy="5832720"/>
          </a:xfrm>
          <a:custGeom>
            <a:avLst/>
            <a:gdLst>
              <a:gd name="textAreaLeft" fmla="*/ 486000 w 8066160"/>
              <a:gd name="textAreaRight" fmla="*/ 7580160 w 8066160"/>
              <a:gd name="textAreaTop" fmla="*/ 486000 h 5832720"/>
              <a:gd name="textAreaBottom" fmla="*/ 5832720 h 5832720"/>
            </a:gdLst>
            <a:ahLst/>
            <a:rect l="textAreaLeft" t="textAreaTop" r="textAreaRight" b="textAreaBottom"/>
            <a:pathLst>
              <a:path w="8066087" h="5832475">
                <a:moveTo>
                  <a:pt x="972099" y="0"/>
                </a:moveTo>
                <a:lnTo>
                  <a:pt x="7093988" y="0"/>
                </a:lnTo>
                <a:lnTo>
                  <a:pt x="8066087" y="972099"/>
                </a:lnTo>
                <a:lnTo>
                  <a:pt x="8066087" y="5832475"/>
                </a:lnTo>
                <a:lnTo>
                  <a:pt x="8066087" y="5832475"/>
                </a:lnTo>
                <a:lnTo>
                  <a:pt x="0" y="5832475"/>
                </a:lnTo>
                <a:lnTo>
                  <a:pt x="0" y="5832475"/>
                </a:lnTo>
                <a:lnTo>
                  <a:pt x="0" y="972099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826920" y="789120"/>
            <a:ext cx="792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200" spc="-1" strike="noStrike">
                <a:solidFill>
                  <a:srgbClr val="000000"/>
                </a:solidFill>
                <a:latin typeface="Calibri"/>
                <a:ea typeface="Calibri"/>
              </a:rPr>
              <a:t>Analizirajući “top 3 EU prakse”, koja su obilježja sustava stručnog usavršavanja odgojno-obrazovnih radnika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ta-IN" sz="2200" spc="-1" strike="noStrike">
                <a:solidFill>
                  <a:srgbClr val="000000"/>
                </a:solidFill>
                <a:latin typeface="Calibri"/>
                <a:ea typeface="Calibri"/>
              </a:rPr>
              <a:t>kao glavnog elementa u učinkovitom kontinuiranom profesionalnom razvoju nastavnika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  <a:ea typeface="Calibri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1042920" y="1878120"/>
            <a:ext cx="6553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300" spc="-1" strike="noStrike">
                <a:solidFill>
                  <a:srgbClr val="000000"/>
                </a:solidFill>
                <a:latin typeface="Calibri"/>
                <a:ea typeface="Calibri"/>
              </a:rPr>
              <a:t>B. </a:t>
            </a:r>
            <a:r>
              <a:rPr b="0" i="1" lang="ta-IN" sz="2300" spc="-1" strike="noStrike">
                <a:solidFill>
                  <a:srgbClr val="000000"/>
                </a:solidFill>
                <a:latin typeface="Calibri"/>
                <a:ea typeface="Calibri"/>
              </a:rPr>
              <a:t>Na razini korisnika i davatelja usluga stručnog usavršavanja odgojno-obrazovnih radnika</a:t>
            </a:r>
            <a:r>
              <a:rPr b="0" i="1" lang="en-GB" sz="23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12:21:18Z</dcterms:created>
  <dc:creator> Paul Roeders</dc:creator>
  <dc:description/>
  <dc:language>en-US</dc:language>
  <cp:lastModifiedBy>Michaela</cp:lastModifiedBy>
  <dcterms:modified xsi:type="dcterms:W3CDTF">2012-07-04T07:12:44Z</dcterms:modified>
  <cp:revision>140</cp:revision>
  <dc:subject/>
  <dc:title>Slide 1</dc:title>
</cp:coreProperties>
</file>